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5997-592A-42F4-835D-384E8D83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DDDD-32AF-42BD-BEC5-49EDC325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DE74-A568-4048-AD56-EE5BCDC40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A1AD-8B3D-44F6-8BA2-3B5EDBCB3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2FE9-ACE7-4E19-897E-88420132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F329-A715-4C30-9D2D-AF428444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1678-0E68-467E-82BB-471AA129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BE31-1009-4D5C-980C-E2A737C2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B480-2151-4216-9EE1-815DF3AD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8F07-C94E-4C04-AB04-DD299208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1A2A-6168-40FF-938A-663C2126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048C-F5F1-414D-A542-B60E0370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2AB8-CB11-415F-B0C6-D34A6A1410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14600" y="2438280"/>
            <a:ext cx="4114800" cy="81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troduction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895480" y="3429000"/>
            <a:ext cx="335304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o Verb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33720" y="3200040"/>
            <a:ext cx="2286000" cy="19810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ipha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3200400"/>
            <a:ext cx="198144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assive Voic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5181480"/>
            <a:ext cx="1981440" cy="15242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Reflexive Voic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3720" y="1676520"/>
            <a:ext cx="2286000" cy="15238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a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1676520"/>
            <a:ext cx="198144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ctive Voic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19720" y="3200400"/>
            <a:ext cx="2286000" cy="19810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a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19720" y="5181480"/>
            <a:ext cx="2286000" cy="15242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thpae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1676520"/>
            <a:ext cx="2286000" cy="15238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ie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05720" y="3200400"/>
            <a:ext cx="2286000" cy="19810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pha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1676520"/>
            <a:ext cx="2286000" cy="15238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phi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571500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 killed himself”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05720" y="220968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 caused to murder”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3778200"/>
            <a:ext cx="220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 was caused to murder”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685800"/>
            <a:ext cx="2286000" cy="9907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 Actio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19720" y="685800"/>
            <a:ext cx="2286000" cy="9907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nsive Actio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685800"/>
            <a:ext cx="2286000" cy="9907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ative Actio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28600" y="457200"/>
            <a:ext cx="175248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tem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3" name=""/>
          <p:cNvSpPr/>
          <p:nvPr/>
        </p:nvSpPr>
        <p:spPr>
          <a:xfrm>
            <a:off x="2438280" y="220968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hebb"/>
              </a:rPr>
              <a:t>lq;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38280" y="3886200"/>
            <a:ext cx="175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hebb"/>
              </a:rPr>
              <a:t>l[;p.nI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24280" y="228600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hebb"/>
              </a:rPr>
              <a:t>l[ePi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24280" y="388620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hebb"/>
              </a:rPr>
              <a:t>l[;Pu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33720" y="3200040"/>
            <a:ext cx="2286000" cy="19810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ipha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3200400"/>
            <a:ext cx="198144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assive Voic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2280" y="5181480"/>
            <a:ext cx="1981440" cy="15242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Reflexive Voic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3720" y="1676520"/>
            <a:ext cx="2286000" cy="15238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a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2280" y="1676520"/>
            <a:ext cx="198144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ctive Voic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3200400"/>
            <a:ext cx="2286000" cy="19810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a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19720" y="5181480"/>
            <a:ext cx="2286000" cy="15242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thpae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1676520"/>
            <a:ext cx="2286000" cy="15238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ie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05720" y="3200400"/>
            <a:ext cx="2286000" cy="19810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pha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05720" y="1676520"/>
            <a:ext cx="2286000" cy="15238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phi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571500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 killed himself”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705720" y="3778200"/>
            <a:ext cx="220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 was caused to murder”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33720" y="685800"/>
            <a:ext cx="2286000" cy="9907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 Actio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685800"/>
            <a:ext cx="2286000" cy="9907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nsive Actio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705720" y="685800"/>
            <a:ext cx="2286000" cy="9907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ative Actio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28600" y="457200"/>
            <a:ext cx="175248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tem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3" name=""/>
          <p:cNvSpPr/>
          <p:nvPr/>
        </p:nvSpPr>
        <p:spPr>
          <a:xfrm>
            <a:off x="2438280" y="220968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hebb"/>
              </a:rPr>
              <a:t>lq;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3886200"/>
            <a:ext cx="175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hebb"/>
              </a:rPr>
              <a:t>l[;p.nI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228600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hebb"/>
              </a:rPr>
              <a:t>l[ePi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24280" y="388620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hebb"/>
              </a:rPr>
              <a:t>l[;Pu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2286000"/>
            <a:ext cx="175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hebb"/>
              </a:rPr>
              <a:t>ly[ip.hi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33720" y="3200040"/>
            <a:ext cx="2286000" cy="19810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ipha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2280" y="3200400"/>
            <a:ext cx="198144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assive Voic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2280" y="5181480"/>
            <a:ext cx="1981440" cy="15242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Reflexive Voic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33720" y="1676520"/>
            <a:ext cx="2286000" cy="15238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a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1676520"/>
            <a:ext cx="198144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ctive Voic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19720" y="3200400"/>
            <a:ext cx="2286000" cy="19810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a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5181480"/>
            <a:ext cx="2286000" cy="15242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thpae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1676520"/>
            <a:ext cx="2286000" cy="15238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ie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705720" y="3200400"/>
            <a:ext cx="2286000" cy="19810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pha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05720" y="1676520"/>
            <a:ext cx="2286000" cy="15238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phi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571500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 killed himself”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3720" y="685800"/>
            <a:ext cx="2286000" cy="9907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 Actio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685800"/>
            <a:ext cx="2286000" cy="9907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nsive Actio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705720" y="685800"/>
            <a:ext cx="2286000" cy="9907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ative Actio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28600" y="457200"/>
            <a:ext cx="175248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tem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3" name=""/>
          <p:cNvSpPr/>
          <p:nvPr/>
        </p:nvSpPr>
        <p:spPr>
          <a:xfrm>
            <a:off x="2438280" y="220968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hebb"/>
              </a:rPr>
              <a:t>lq;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38280" y="3886200"/>
            <a:ext cx="175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hebb"/>
              </a:rPr>
              <a:t>l[;p.nI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724280" y="228600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hebb"/>
              </a:rPr>
              <a:t>l[ePi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24280" y="388620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hebb"/>
              </a:rPr>
              <a:t>l[;Pu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10280" y="2286000"/>
            <a:ext cx="175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hebb"/>
              </a:rPr>
              <a:t>ly[ip.hi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010280" y="3886200"/>
            <a:ext cx="175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hebb"/>
              </a:rPr>
              <a:t>l[;p.h'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33720" y="3200040"/>
            <a:ext cx="2286000" cy="19810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ipha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3200400"/>
            <a:ext cx="198144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assive Voic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2280" y="5181480"/>
            <a:ext cx="1981440" cy="15242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Reflexive Voic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33720" y="1676520"/>
            <a:ext cx="2286000" cy="15238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a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52280" y="1676520"/>
            <a:ext cx="198144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ctive Voic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19720" y="3200400"/>
            <a:ext cx="2286000" cy="19810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a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19720" y="5181480"/>
            <a:ext cx="2286000" cy="15242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thpae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19720" y="1676520"/>
            <a:ext cx="2286000" cy="15238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ie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705720" y="3200400"/>
            <a:ext cx="2286000" cy="19810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pha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705720" y="1676520"/>
            <a:ext cx="2286000" cy="15238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phi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133720" y="685800"/>
            <a:ext cx="2286000" cy="9907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 Actio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685800"/>
            <a:ext cx="2286000" cy="9907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nsive Actio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705720" y="685800"/>
            <a:ext cx="2286000" cy="9907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ative Actio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28600" y="457200"/>
            <a:ext cx="175248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tem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3" name=""/>
          <p:cNvSpPr/>
          <p:nvPr/>
        </p:nvSpPr>
        <p:spPr>
          <a:xfrm>
            <a:off x="2438280" y="220968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hebb"/>
              </a:rPr>
              <a:t>lq;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48320" y="5715000"/>
            <a:ext cx="1752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hebb"/>
              </a:rPr>
              <a:t>l[eP;t.hi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3886200"/>
            <a:ext cx="175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hebb"/>
              </a:rPr>
              <a:t>l[;p.nI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228600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hebb"/>
              </a:rPr>
              <a:t>l[ePi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724280" y="388620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hebb"/>
              </a:rPr>
              <a:t>l[;Pu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10280" y="2286000"/>
            <a:ext cx="175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hebb"/>
              </a:rPr>
              <a:t>ly[ip.hi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010280" y="3886200"/>
            <a:ext cx="175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hebb"/>
              </a:rPr>
              <a:t>l[;p.h'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33720" y="3200040"/>
            <a:ext cx="2286000" cy="19810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ipha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2280" y="3200400"/>
            <a:ext cx="198144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assive Voic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52280" y="5181480"/>
            <a:ext cx="1981440" cy="15242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Reflexive Voic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33720" y="1676520"/>
            <a:ext cx="2286000" cy="15238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a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1676520"/>
            <a:ext cx="198144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ctive Voic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3200400"/>
            <a:ext cx="2286000" cy="19810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a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419720" y="5181480"/>
            <a:ext cx="2286000" cy="15242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thpae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1676520"/>
            <a:ext cx="2286000" cy="15238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ie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05720" y="3200400"/>
            <a:ext cx="2286000" cy="19810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pha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1676520"/>
            <a:ext cx="2286000" cy="15238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phi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33720" y="685800"/>
            <a:ext cx="2286000" cy="9907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 Actio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419720" y="685800"/>
            <a:ext cx="2286000" cy="9907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nsive Actio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705720" y="685800"/>
            <a:ext cx="2286000" cy="9907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ative Actio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28600" y="457200"/>
            <a:ext cx="175248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tem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54" name=""/>
          <p:cNvSpPr/>
          <p:nvPr/>
        </p:nvSpPr>
        <p:spPr>
          <a:xfrm>
            <a:off x="2438280" y="220968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hebb"/>
              </a:rPr>
              <a:t>lj;q'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48320" y="5715000"/>
            <a:ext cx="1752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hebb"/>
              </a:rPr>
              <a:t>lJeq;t.hi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38280" y="3886200"/>
            <a:ext cx="175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hebb"/>
              </a:rPr>
              <a:t>lj;q.nI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724280" y="228600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hebb"/>
              </a:rPr>
              <a:t>lJeqi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724280" y="3886200"/>
            <a:ext cx="175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hebb"/>
              </a:rPr>
              <a:t>lJequ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010280" y="2286000"/>
            <a:ext cx="175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hebb"/>
              </a:rPr>
              <a:t>lyjiq.hi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010280" y="3886200"/>
            <a:ext cx="175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hebb"/>
              </a:rPr>
              <a:t>lj;q.h'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pect (tens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ect: Completed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erfect: Incomplete or progressive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man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hortative: “Let us praise the Lord!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erative: “You praise the Lord!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sive:  “He shall praise the Lord!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133720" y="552600"/>
            <a:ext cx="4767120" cy="895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jugation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fini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initive Construct:  “To praise is good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initive Absolute:  Emph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hasis (“You will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de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raise…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erative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rai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Lor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mporaneous action (“Praising he praised…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rticiple (“the praising man”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133720" y="552600"/>
            <a:ext cx="4767120" cy="895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jugation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138400" y="2743200"/>
            <a:ext cx="4414680" cy="895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ocabulary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0" y="1371240"/>
            <a:ext cx="449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k;a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0" y="1371240"/>
            <a:ext cx="449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m;a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sai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819520" y="3276720"/>
            <a:ext cx="3752640" cy="87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here the action is!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919240" y="1676520"/>
            <a:ext cx="3176640" cy="110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VERB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0" y="1371240"/>
            <a:ext cx="449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%l;h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, wal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6000" y="1371240"/>
            <a:ext cx="449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y"h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6000" y="1371240"/>
            <a:ext cx="449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y"h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990360" y="39625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whebb"/>
              </a:rPr>
              <a:t>Whbow" Whto ht'y&gt;h' #r&lt;a'h'w&gt;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5638680"/>
            <a:ext cx="209556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enesis 1:2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6000" y="1371240"/>
            <a:ext cx="449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ac'y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 out, Go for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6000" y="1371240"/>
            <a:ext cx="449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bv;y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t down, remain, dw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6000" y="1371240"/>
            <a:ext cx="449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t;n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86000" y="1371240"/>
            <a:ext cx="449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f'[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, mak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86000" y="1371240"/>
            <a:ext cx="449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a'r'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6000" y="1371240"/>
            <a:ext cx="449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tb;v'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op, r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286000" y="1371240"/>
            <a:ext cx="449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[m;v'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Verbs are “action words”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0102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beginning God CREATED the heavens and the ea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earth WAS without form and v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SAID, “Let there BE light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86000" y="1371240"/>
            <a:ext cx="449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Ara]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k, ch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0" y="1371240"/>
            <a:ext cx="449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x'n&gt;m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ift, offe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286000" y="1371240"/>
            <a:ext cx="449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x'n&gt;m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143000" y="3580920"/>
            <a:ext cx="6934320" cy="25909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 it came about in the course of time that Cain brought an </a:t>
            </a: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offering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to the LORD of the fruit of the ground (Genesis 4:3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0" y="1371240"/>
            <a:ext cx="449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x'n&gt;m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143000" y="3580920"/>
            <a:ext cx="6934320" cy="21337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he spent the night there. Then he selected from what he had with him a </a:t>
            </a: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pres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his brother Esau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Genesis 32:14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0" y="1371240"/>
            <a:ext cx="449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tB'v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bb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0" y="1371240"/>
            <a:ext cx="449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%a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ly, surely, neverthel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6000" y="1371240"/>
            <a:ext cx="449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a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, no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6000" y="1371240"/>
            <a:ext cx="449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a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6000" y="1371240"/>
            <a:ext cx="449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al{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, no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1447920" y="1447920"/>
            <a:ext cx="3724200" cy="1428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ext Week'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828800" y="2895480"/>
            <a:ext cx="5524560" cy="895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ord Studie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20320"/>
            <a:ext cx="4114800" cy="114300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Nou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1120680"/>
            <a:ext cx="4114800" cy="114300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erb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57200" y="2035080"/>
            <a:ext cx="8229600" cy="1524240"/>
            <a:chOff x="457200" y="2035080"/>
            <a:chExt cx="8229600" cy="1524240"/>
          </a:xfrm>
        </p:grpSpPr>
        <p:sp>
          <p:nvSpPr>
            <p:cNvPr id="50" name=""/>
            <p:cNvSpPr/>
            <p:nvPr/>
          </p:nvSpPr>
          <p:spPr>
            <a:xfrm>
              <a:off x="457200" y="2263680"/>
              <a:ext cx="4114800" cy="114300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72000" y="2263680"/>
              <a:ext cx="4114800" cy="114300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143000" y="2035080"/>
              <a:ext cx="2666880" cy="14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ffff"/>
                  </a:solidFill>
                  <a:latin typeface="Bwhebb"/>
                </a:rPr>
                <a:t>%l,m,</a:t>
              </a:r>
              <a:endParaRPr b="0" lang="en-US" sz="72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57800" y="2089080"/>
              <a:ext cx="2666880" cy="14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ffff"/>
                  </a:solidFill>
                  <a:latin typeface="Bwhebb"/>
                </a:rPr>
                <a:t>%l;m'</a:t>
              </a:r>
              <a:endParaRPr b="0" lang="en-US" sz="72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57200" y="3178080"/>
            <a:ext cx="8229600" cy="1546200"/>
            <a:chOff x="457200" y="3178080"/>
            <a:chExt cx="8229600" cy="1546200"/>
          </a:xfrm>
        </p:grpSpPr>
        <p:sp>
          <p:nvSpPr>
            <p:cNvPr id="55" name=""/>
            <p:cNvSpPr/>
            <p:nvPr/>
          </p:nvSpPr>
          <p:spPr>
            <a:xfrm>
              <a:off x="457200" y="3406680"/>
              <a:ext cx="4114800" cy="114300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3406680"/>
              <a:ext cx="4114800" cy="114300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4120" y="3254400"/>
              <a:ext cx="266688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ffff"/>
                  </a:solidFill>
                  <a:latin typeface="Bwhebb"/>
                </a:rPr>
                <a:t>rBeDi</a:t>
              </a:r>
              <a:endParaRPr b="0" lang="en-US" sz="72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43000" y="3178080"/>
              <a:ext cx="2666880" cy="14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ffff"/>
                  </a:solidFill>
                  <a:latin typeface="Bwhebb"/>
                </a:rPr>
                <a:t>rb'D'</a:t>
              </a:r>
              <a:endParaRPr b="0" lang="en-US" sz="72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57200" y="4321080"/>
            <a:ext cx="8229600" cy="1546200"/>
            <a:chOff x="457200" y="4321080"/>
            <a:chExt cx="8229600" cy="1546200"/>
          </a:xfrm>
        </p:grpSpPr>
        <p:sp>
          <p:nvSpPr>
            <p:cNvPr id="60" name=""/>
            <p:cNvSpPr/>
            <p:nvPr/>
          </p:nvSpPr>
          <p:spPr>
            <a:xfrm>
              <a:off x="457200" y="4549680"/>
              <a:ext cx="4114800" cy="114300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72000" y="4549680"/>
              <a:ext cx="4114800" cy="114300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34120" y="4397400"/>
              <a:ext cx="266688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ffff"/>
                  </a:solidFill>
                  <a:latin typeface="Bwhebb"/>
                </a:rPr>
                <a:t>jp;v'</a:t>
              </a:r>
              <a:endParaRPr b="0" lang="en-US" sz="72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143000" y="4321080"/>
              <a:ext cx="2666880" cy="14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ffff"/>
                  </a:solidFill>
                  <a:latin typeface="Bwhebb"/>
                </a:rPr>
                <a:t>jP'v.mi</a:t>
              </a:r>
              <a:endParaRPr b="0" lang="en-US" sz="72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752480" y="2514600"/>
            <a:ext cx="5524560" cy="895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ible Study Tim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905120" y="1066680"/>
            <a:ext cx="152388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But a mist used to rise from the earth and water the whole surface of the ground (Genesis 2:6).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066680" y="3048120"/>
            <a:ext cx="1752480" cy="2531880"/>
            <a:chOff x="1066680" y="3048120"/>
            <a:chExt cx="1752480" cy="2531880"/>
          </a:xfrm>
        </p:grpSpPr>
        <p:sp>
          <p:nvSpPr>
            <p:cNvPr id="315" name=""/>
            <p:cNvSpPr/>
            <p:nvPr/>
          </p:nvSpPr>
          <p:spPr>
            <a:xfrm>
              <a:off x="1218960" y="3276720"/>
              <a:ext cx="1524240" cy="106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66680" y="3048120"/>
              <a:ext cx="175248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dae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2743200" y="34290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WP TypographicSymbols"/>
              </a:rPr>
              <a:t>B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Only used here and in Job 36:27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219320" y="4952880"/>
            <a:ext cx="7086600" cy="155628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or He draws up the drops of water,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y distill rain from the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mist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(Job 36:27 NAS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905120" y="1066680"/>
            <a:ext cx="152388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But a mist used to rise from the earth and water the whole surface of the ground (Genesis 2:6).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066680" y="3048120"/>
            <a:ext cx="1752480" cy="2531880"/>
            <a:chOff x="1066680" y="3048120"/>
            <a:chExt cx="1752480" cy="2531880"/>
          </a:xfrm>
        </p:grpSpPr>
        <p:sp>
          <p:nvSpPr>
            <p:cNvPr id="322" name=""/>
            <p:cNvSpPr/>
            <p:nvPr/>
          </p:nvSpPr>
          <p:spPr>
            <a:xfrm>
              <a:off x="1218960" y="3276720"/>
              <a:ext cx="1524240" cy="106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066680" y="3048120"/>
              <a:ext cx="175248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dae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2743200" y="34290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WP TypographicSymbols"/>
              </a:rPr>
              <a:t>B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Only used here and in Job 36:27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219320" y="5108400"/>
            <a:ext cx="7086600" cy="155628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e draws up the drops of water, which distill as rain to the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streams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Job 36:27 NIV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905120" y="1066680"/>
            <a:ext cx="152388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But a mist used to rise from the earth and water the whole surface of the ground (Genesis 2:6).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066680" y="3048120"/>
            <a:ext cx="1752480" cy="2531880"/>
            <a:chOff x="1066680" y="3048120"/>
            <a:chExt cx="1752480" cy="2531880"/>
          </a:xfrm>
        </p:grpSpPr>
        <p:sp>
          <p:nvSpPr>
            <p:cNvPr id="329" name=""/>
            <p:cNvSpPr/>
            <p:nvPr/>
          </p:nvSpPr>
          <p:spPr>
            <a:xfrm>
              <a:off x="1218960" y="3276720"/>
              <a:ext cx="1524240" cy="106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066680" y="3048120"/>
              <a:ext cx="175248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dae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743200" y="34290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WP TypographicSymbols"/>
              </a:rPr>
              <a:t>B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Only used here and in Job 36:27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219320" y="4952880"/>
            <a:ext cx="7086600" cy="155628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ut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streams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came up from the earth and watered the whole surface of the ground--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Genesis 2:6 NIV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905120" y="1066680"/>
            <a:ext cx="152388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But a mist used to rise from the earth and water the whole surface of the ground (Genesis 2:6).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066680" y="3048120"/>
            <a:ext cx="1752480" cy="2531880"/>
            <a:chOff x="1066680" y="3048120"/>
            <a:chExt cx="1752480" cy="2531880"/>
          </a:xfrm>
        </p:grpSpPr>
        <p:sp>
          <p:nvSpPr>
            <p:cNvPr id="336" name=""/>
            <p:cNvSpPr/>
            <p:nvPr/>
          </p:nvSpPr>
          <p:spPr>
            <a:xfrm>
              <a:off x="1218960" y="3276720"/>
              <a:ext cx="1524240" cy="106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66680" y="3048120"/>
              <a:ext cx="175248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dae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2743200" y="34290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WP TypographicSymbols"/>
              </a:rPr>
              <a:t>B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Only used here and in Job 36:27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143000" y="4876920"/>
            <a:ext cx="6934320" cy="1556280"/>
            <a:chOff x="1143000" y="4876920"/>
            <a:chExt cx="6934320" cy="1556280"/>
          </a:xfrm>
        </p:grpSpPr>
        <p:sp>
          <p:nvSpPr>
            <p:cNvPr id="340" name=""/>
            <p:cNvSpPr/>
            <p:nvPr/>
          </p:nvSpPr>
          <p:spPr>
            <a:xfrm>
              <a:off x="1143000" y="4952880"/>
              <a:ext cx="6934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LXX renders this           , “spring of water”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95680" y="4876920"/>
              <a:ext cx="1828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ccffff"/>
                  </a:solidFill>
                  <a:latin typeface="Bwgrkn"/>
                </a:rPr>
                <a:t>phgh.</a:t>
              </a:r>
              <a:endParaRPr b="0" lang="en-US" sz="48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905120" y="1066680"/>
            <a:ext cx="152388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But a mist used to rise from the earth and water the whole surface of the ground (Genesis 2:6).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066680" y="3048120"/>
            <a:ext cx="1752480" cy="2531880"/>
            <a:chOff x="1066680" y="3048120"/>
            <a:chExt cx="1752480" cy="2531880"/>
          </a:xfrm>
        </p:grpSpPr>
        <p:sp>
          <p:nvSpPr>
            <p:cNvPr id="345" name=""/>
            <p:cNvSpPr/>
            <p:nvPr/>
          </p:nvSpPr>
          <p:spPr>
            <a:xfrm>
              <a:off x="1218960" y="3276720"/>
              <a:ext cx="1524240" cy="106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066680" y="3048120"/>
              <a:ext cx="175248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dae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743200" y="34290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WP TypographicSymbols"/>
              </a:rPr>
              <a:t>B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Only used here and in Job 36:27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219320" y="487692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ossibly related to Akkadian word </a:t>
            </a:r>
            <a:r>
              <a:rPr b="0" i="1" lang="en-US" sz="3200" spc="-1" strike="noStrike">
                <a:solidFill>
                  <a:srgbClr val="ccffff"/>
                </a:solidFill>
                <a:latin typeface="Arial"/>
              </a:rPr>
              <a:t>edu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or the Sumerian </a:t>
            </a:r>
            <a:r>
              <a:rPr b="0" i="1" lang="en-US" sz="3200" spc="-1" strike="noStrike">
                <a:solidFill>
                  <a:srgbClr val="ccffff"/>
                </a:solidFill>
                <a:latin typeface="Arial"/>
              </a:rPr>
              <a:t>eidu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meaning “floodwaters.”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95280" y="2209320"/>
            <a:ext cx="69343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 (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der (Masculine, feminine, or comm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(Singular or plur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38080" y="1066680"/>
            <a:ext cx="495324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erbs come with...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3720" y="3200040"/>
            <a:ext cx="2286000" cy="19810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ipha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3200400"/>
            <a:ext cx="198144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assive Voic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5181480"/>
            <a:ext cx="1981440" cy="15242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Reflexive Voic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1676520"/>
            <a:ext cx="198144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ctive Voic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133720" y="1676520"/>
            <a:ext cx="2286000" cy="1523880"/>
            <a:chOff x="2133720" y="1676520"/>
            <a:chExt cx="2286000" cy="1523880"/>
          </a:xfrm>
        </p:grpSpPr>
        <p:sp>
          <p:nvSpPr>
            <p:cNvPr id="71" name=""/>
            <p:cNvSpPr/>
            <p:nvPr/>
          </p:nvSpPr>
          <p:spPr>
            <a:xfrm>
              <a:off x="2133720" y="1676520"/>
              <a:ext cx="2286000" cy="15238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Qal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86000" y="245268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ffff"/>
                  </a:solidFill>
                  <a:latin typeface="Arial"/>
                </a:rPr>
                <a:t>“</a:t>
              </a:r>
              <a:r>
                <a:rPr b="0" lang="en-US" sz="2800" spc="-1" strike="noStrike">
                  <a:solidFill>
                    <a:srgbClr val="ccffff"/>
                  </a:solidFill>
                  <a:latin typeface="Arial"/>
                </a:rPr>
                <a:t>He killed”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286000" y="373392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 was killed”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4419720" y="5181480"/>
            <a:ext cx="2286000" cy="1524240"/>
            <a:chOff x="4419720" y="5181480"/>
            <a:chExt cx="2286000" cy="1524240"/>
          </a:xfrm>
        </p:grpSpPr>
        <p:sp>
          <p:nvSpPr>
            <p:cNvPr id="75" name=""/>
            <p:cNvSpPr/>
            <p:nvPr/>
          </p:nvSpPr>
          <p:spPr>
            <a:xfrm>
              <a:off x="4419720" y="5181480"/>
              <a:ext cx="2286000" cy="152424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Hithpael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0" y="5715000"/>
              <a:ext cx="1981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ffff"/>
                  </a:solidFill>
                  <a:latin typeface="Arial"/>
                </a:rPr>
                <a:t>“</a:t>
              </a:r>
              <a:r>
                <a:rPr b="0" lang="en-US" sz="2800" spc="-1" strike="noStrike">
                  <a:solidFill>
                    <a:srgbClr val="ccffff"/>
                  </a:solidFill>
                  <a:latin typeface="Arial"/>
                </a:rPr>
                <a:t>He killed himself”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419720" y="1676520"/>
            <a:ext cx="2286000" cy="1523880"/>
            <a:chOff x="4419720" y="1676520"/>
            <a:chExt cx="2286000" cy="1523880"/>
          </a:xfrm>
        </p:grpSpPr>
        <p:sp>
          <p:nvSpPr>
            <p:cNvPr id="78" name=""/>
            <p:cNvSpPr/>
            <p:nvPr/>
          </p:nvSpPr>
          <p:spPr>
            <a:xfrm>
              <a:off x="4419720" y="1676520"/>
              <a:ext cx="2286000" cy="15238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Piel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72000" y="2209680"/>
              <a:ext cx="1981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ffff"/>
                  </a:solidFill>
                  <a:latin typeface="Arial"/>
                </a:rPr>
                <a:t>“</a:t>
              </a:r>
              <a:r>
                <a:rPr b="0" lang="en-US" sz="2800" spc="-1" strike="noStrike">
                  <a:solidFill>
                    <a:srgbClr val="ccffff"/>
                  </a:solidFill>
                  <a:latin typeface="Arial"/>
                </a:rPr>
                <a:t>He murdered”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419720" y="3200400"/>
            <a:ext cx="2286000" cy="1981080"/>
            <a:chOff x="4419720" y="3200400"/>
            <a:chExt cx="2286000" cy="1981080"/>
          </a:xfrm>
        </p:grpSpPr>
        <p:sp>
          <p:nvSpPr>
            <p:cNvPr id="81" name=""/>
            <p:cNvSpPr/>
            <p:nvPr/>
          </p:nvSpPr>
          <p:spPr>
            <a:xfrm>
              <a:off x="4419720" y="3200400"/>
              <a:ext cx="2286000" cy="19810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Pual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3727440"/>
              <a:ext cx="1981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ffff"/>
                  </a:solidFill>
                  <a:latin typeface="Arial"/>
                </a:rPr>
                <a:t>“</a:t>
              </a:r>
              <a:r>
                <a:rPr b="0" lang="en-US" sz="2800" spc="-1" strike="noStrike">
                  <a:solidFill>
                    <a:srgbClr val="ccffff"/>
                  </a:solidFill>
                  <a:latin typeface="Arial"/>
                </a:rPr>
                <a:t>He was murdered”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705720" y="1676520"/>
            <a:ext cx="2286000" cy="1523880"/>
            <a:chOff x="6705720" y="1676520"/>
            <a:chExt cx="2286000" cy="1523880"/>
          </a:xfrm>
        </p:grpSpPr>
        <p:sp>
          <p:nvSpPr>
            <p:cNvPr id="84" name=""/>
            <p:cNvSpPr/>
            <p:nvPr/>
          </p:nvSpPr>
          <p:spPr>
            <a:xfrm>
              <a:off x="6705720" y="1676520"/>
              <a:ext cx="2286000" cy="15238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Hiphil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705720" y="2209680"/>
              <a:ext cx="2209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ffff"/>
                  </a:solidFill>
                  <a:latin typeface="Arial"/>
                </a:rPr>
                <a:t>“</a:t>
              </a:r>
              <a:r>
                <a:rPr b="0" lang="en-US" sz="2800" spc="-1" strike="noStrike">
                  <a:solidFill>
                    <a:srgbClr val="ccffff"/>
                  </a:solidFill>
                  <a:latin typeface="Arial"/>
                </a:rPr>
                <a:t>He caused to murder”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6705720" y="3200400"/>
            <a:ext cx="2286000" cy="1981080"/>
            <a:chOff x="6705720" y="3200400"/>
            <a:chExt cx="2286000" cy="1981080"/>
          </a:xfrm>
        </p:grpSpPr>
        <p:sp>
          <p:nvSpPr>
            <p:cNvPr id="87" name=""/>
            <p:cNvSpPr/>
            <p:nvPr/>
          </p:nvSpPr>
          <p:spPr>
            <a:xfrm>
              <a:off x="6705720" y="3200400"/>
              <a:ext cx="2286000" cy="19810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Hophal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5720" y="3778200"/>
              <a:ext cx="22096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ffff"/>
                  </a:solidFill>
                  <a:latin typeface="Arial"/>
                </a:rPr>
                <a:t>“</a:t>
              </a:r>
              <a:r>
                <a:rPr b="0" lang="en-US" sz="2800" spc="-1" strike="noStrike">
                  <a:solidFill>
                    <a:srgbClr val="ccffff"/>
                  </a:solidFill>
                  <a:latin typeface="Arial"/>
                </a:rPr>
                <a:t>He was caused to murder”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2133720" y="685800"/>
            <a:ext cx="2286000" cy="9907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 Actio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19720" y="685800"/>
            <a:ext cx="2286000" cy="9907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nsive Actio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05720" y="685800"/>
            <a:ext cx="2286000" cy="9907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ative Actio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28600" y="457200"/>
            <a:ext cx="175248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tem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33720" y="3200040"/>
            <a:ext cx="2286000" cy="19810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ipha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3200400"/>
            <a:ext cx="198144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assive Voic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5181480"/>
            <a:ext cx="1981440" cy="15242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Reflexive Voic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1676520"/>
            <a:ext cx="2286000" cy="15238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a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1676520"/>
            <a:ext cx="198144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ctive Voic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19720" y="3200400"/>
            <a:ext cx="2286000" cy="19810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a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19720" y="5181480"/>
            <a:ext cx="2286000" cy="15242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thpae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9720" y="1676520"/>
            <a:ext cx="2286000" cy="15238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ie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05720" y="3200400"/>
            <a:ext cx="2286000" cy="19810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pha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05720" y="1676520"/>
            <a:ext cx="2286000" cy="15238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phi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373392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 was killed”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571500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 killed himself”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20968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 murdered”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372744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 was murdered”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220968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 caused to murder”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05720" y="3778200"/>
            <a:ext cx="220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 was caused to murder”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685800"/>
            <a:ext cx="2286000" cy="9907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 Actio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685800"/>
            <a:ext cx="2286000" cy="9907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nsive Actio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685800"/>
            <a:ext cx="2286000" cy="9907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ative Actio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28600" y="457200"/>
            <a:ext cx="175248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tem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3" name=""/>
          <p:cNvSpPr/>
          <p:nvPr/>
        </p:nvSpPr>
        <p:spPr>
          <a:xfrm>
            <a:off x="2438280" y="220968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hebb"/>
              </a:rPr>
              <a:t>lq;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33720" y="3200040"/>
            <a:ext cx="2286000" cy="19810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ipha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3200400"/>
            <a:ext cx="198144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assive Voic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5181480"/>
            <a:ext cx="1981440" cy="15242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Reflexive Voic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1676520"/>
            <a:ext cx="2286000" cy="15238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a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1676520"/>
            <a:ext cx="198144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ctive Voic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3200400"/>
            <a:ext cx="2286000" cy="19810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a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5181480"/>
            <a:ext cx="2286000" cy="15242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thpae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19720" y="1676520"/>
            <a:ext cx="2286000" cy="15238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ie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05720" y="3200400"/>
            <a:ext cx="2286000" cy="19810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pha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05720" y="1676520"/>
            <a:ext cx="2286000" cy="15238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phi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571500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 killed himself”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220968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 murdered”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372744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 was murdered”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05720" y="220968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 caused to murder”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3778200"/>
            <a:ext cx="220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 was caused to murder”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685800"/>
            <a:ext cx="2286000" cy="9907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 Actio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685800"/>
            <a:ext cx="2286000" cy="9907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nsive Actio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05720" y="685800"/>
            <a:ext cx="2286000" cy="9907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ative Actio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" y="457200"/>
            <a:ext cx="175248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tem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3" name=""/>
          <p:cNvSpPr/>
          <p:nvPr/>
        </p:nvSpPr>
        <p:spPr>
          <a:xfrm>
            <a:off x="2438280" y="220968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hebb"/>
              </a:rPr>
              <a:t>lq;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3886200"/>
            <a:ext cx="175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hebb"/>
              </a:rPr>
              <a:t>l[;p.nI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33720" y="3200040"/>
            <a:ext cx="2286000" cy="19810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ipha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3200400"/>
            <a:ext cx="198144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assive Voic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5181480"/>
            <a:ext cx="1981440" cy="15242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Reflexive Voic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1676520"/>
            <a:ext cx="2286000" cy="15238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a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676520"/>
            <a:ext cx="198144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ctive Voic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19720" y="3200400"/>
            <a:ext cx="2286000" cy="19810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a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19720" y="5181480"/>
            <a:ext cx="2286000" cy="15242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thpae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19720" y="1676520"/>
            <a:ext cx="2286000" cy="15238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ie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3200400"/>
            <a:ext cx="2286000" cy="19810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pha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1676520"/>
            <a:ext cx="2286000" cy="15238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phi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571500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 killed himself”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372744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 was murdered”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05720" y="220968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 caused to murder”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5720" y="3778200"/>
            <a:ext cx="220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 was caused to murder”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33720" y="685800"/>
            <a:ext cx="2286000" cy="9907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 Actio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19720" y="685800"/>
            <a:ext cx="2286000" cy="9907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nsive Actio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685800"/>
            <a:ext cx="2286000" cy="9907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ative Actio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28600" y="457200"/>
            <a:ext cx="175248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tem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220968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hebb"/>
              </a:rPr>
              <a:t>lq;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38280" y="3886200"/>
            <a:ext cx="175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hebb"/>
              </a:rPr>
              <a:t>l[;p.nI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228600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hebb"/>
              </a:rPr>
              <a:t>l[ePi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3-11-08T19:27:17Z</dcterms:modified>
  <cp:revision>566</cp:revision>
  <dc:subject/>
  <dc:title>Discipleship Across the Lifespan</dc:title>
</cp:coreProperties>
</file>