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1BB-C233-484C-A561-40C243F7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58F-753A-44C5-A13C-10386A9D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291-0A20-423A-9D9F-63F46408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A2C-FC1A-4F4C-AB7E-70877932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19E-2DB9-4575-B57D-C924584B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13D-6328-4A6A-B750-F9EDB4AC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835-ED20-416B-8C14-510FE807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0C7-3305-4A25-8F55-C4C336BA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36A-A678-4EE6-8199-AB7AA1F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658-897B-4636-AC81-1F53E77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DB1-F5BC-4EC9-B4B6-2EBB570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81D-1262-4A71-A052-1667EDB9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243F-81A7-4EDC-BB2C-4A9F4BC764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2590920"/>
            <a:ext cx="571500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 Revie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"do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s,x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vingkind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d,x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th (new mo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w&lt;m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J,m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ff, rod, branch, tri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B'd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er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[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ain, still, as long 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[e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[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rnt off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nIP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aoc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ck of sheep or go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g&lt;r,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g&lt;B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othing, Gar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3520" y="1371240"/>
            <a:ext cx="58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kil'm. h['B'r&gt;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 k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r;z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cex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closure, courtyard, vill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y&gt;l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y&gt;l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371600" y="1600200"/>
            <a:ext cx="640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Aab'c. hw"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ORD of host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AMa; vme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cub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[eAm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ointed time, meeting p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61960" y="5181480"/>
            <a:ext cx="190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n"x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p, ar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n&lt;x]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5638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To encamp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ssenger, Ang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a'l.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, deed,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f,[]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438280" y="4876920"/>
            <a:ext cx="4876920" cy="1469880"/>
            <a:chOff x="2438280" y="4876920"/>
            <a:chExt cx="4876920" cy="1469880"/>
          </a:xfrm>
        </p:grpSpPr>
        <p:sp>
          <p:nvSpPr>
            <p:cNvPr id="296" name=""/>
            <p:cNvSpPr/>
            <p:nvPr/>
          </p:nvSpPr>
          <p:spPr>
            <a:xfrm>
              <a:off x="2438280" y="4876920"/>
              <a:ext cx="2057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f'['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8480" y="5334120"/>
              <a:ext cx="32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Make or do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th, boy, serv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W[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heritance, poss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x]n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gression, guilt, punish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wO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ner p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,q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r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'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lv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v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in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ymiT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bAj awhih; #r&lt;a'h' bh;z]W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162920" y="2590560"/>
            <a:ext cx="137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95680" y="2590920"/>
            <a:ext cx="19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lan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25146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(sh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243828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s) go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33520" y="5715000"/>
            <a:ext cx="23241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sis 2:12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57200" y="213372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~ynIëP'-la, ~ynIåP'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91320" y="38862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"/>
                            </p:stCondLst>
                            <p:childTnLst>
                              <p:par>
                                <p:cTn id="1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m;V'h; tAdl.At hL,a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276720"/>
            <a:ext cx="3353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#r&lt;a'h'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2743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2743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274320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heave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449568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ear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95480" y="571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Genesis 2: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nIT'b.z:[] hm'l' yliae yliae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1828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y God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1828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y God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1860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ou forsook m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whebb"/>
              </a:rPr>
              <a:t>Wnyhel{a/ hw"hyK; ymi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289548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is) lik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our 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3962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Psalm 113:5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50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Wrm.aYOw: laer"f.yI-ynEb. War&gt;YIw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2971800"/>
            <a:ext cx="800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aWh !m' wyxia'-la, vya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29400" y="20415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y saw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86400" y="2057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on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2057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of) Isra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20574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y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3962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3962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39625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is brot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4114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3962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s) it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3520" y="5334120"/>
            <a:ext cx="233352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16:1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500"/>
                            </p:stCondLst>
                            <p:childTnLst>
                              <p:par>
                                <p:cTn id="1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500"/>
                            </p:stCondLst>
                            <p:childTnLst>
                              <p:par>
                                <p:cTn id="1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ytiyair" haor" hw"hy&gt; rm,aYOw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yIr"c.miB. rv,a] yMi[; ynI[\-ta,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480" y="5257800"/>
            <a:ext cx="191448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3: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21337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13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213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ee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1337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have se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38098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afflicti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29200" y="37940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my peop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3870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are) in Egyp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wOG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d"a'h'-l[; ~yhil{a/ hw"hy&gt; wc;y&gt;w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2666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koa' !G"h;-#[e lKomi rmoa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962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keaT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2193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command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346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053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2362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248520" y="36417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ay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358128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ever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3657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re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3657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gard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86400" y="42670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shall e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500"/>
                            </p:stCondLst>
                            <p:childTnLst>
                              <p:par>
                                <p:cTn id="1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nEv.-ta, ~yhil{a/ f[;Y:w: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233208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~ylidoG&gt;h; troaoM.h;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18129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mad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1480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1905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w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05520" y="3962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igh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3946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great one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52578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1:16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x:nO-ynEB. hL,ae hv'l{v.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1889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re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1889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s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1889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on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62120" y="52578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9:19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905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of) Noa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0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w"hy&gt; hf'[' ~ymiy"-tv,ve yKi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2209680"/>
            <a:ext cx="9144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ccffff"/>
                </a:solidFill>
                <a:latin typeface="Bwhebb"/>
              </a:rPr>
              <a:t>~Y"h;-ta, #r&lt;a'h'-ta,w&gt; ~yIm:åV'h;-ta,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855960"/>
            <a:ext cx="9144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ccffff"/>
                </a:solidFill>
                <a:latin typeface="Bwhebb"/>
              </a:rPr>
              <a:t>~B'ê-rv,a]-lK'-ta,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324480" y="5638680"/>
            <a:ext cx="23148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20:1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7" name=""/>
          <p:cNvSpPr/>
          <p:nvPr/>
        </p:nvSpPr>
        <p:spPr>
          <a:xfrm>
            <a:off x="7010280" y="15238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1523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ix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91120" y="1523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ay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1523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mad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15238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24480" y="3505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heaven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71800" y="348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 ear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3489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sea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5000" y="5105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105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5105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5105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s) in the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500"/>
                            </p:stCondLst>
                            <p:childTnLst>
                              <p:par>
                                <p:cTn id="1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r,D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y, Road, Jour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IAG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[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b'AJh; #r&lt;a'h' %l,m,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572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king of the good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us,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ntain, H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Oq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ice, s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r'AT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'yh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e, pa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,x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p,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ving, alive (adjectiv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l,y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I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s,K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q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P'v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d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Bez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un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teranc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l'A[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lasting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c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n"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Wr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it, w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p,s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, Sc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f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e, official, comma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[;v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q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x;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, beh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til, as far 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B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tw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wOt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midst, in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k.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sdom, sk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x;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, below, instead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d,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eld, country,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ord, th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[;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ve, upw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Ep.l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fo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, out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w"c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and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Ad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qe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k'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09680" y="4876920"/>
            <a:ext cx="4953240" cy="2531880"/>
            <a:chOff x="2209680" y="4876920"/>
            <a:chExt cx="4953240" cy="2531880"/>
          </a:xfrm>
        </p:grpSpPr>
        <p:sp>
          <p:nvSpPr>
            <p:cNvPr id="155" name=""/>
            <p:cNvSpPr/>
            <p:nvPr/>
          </p:nvSpPr>
          <p:spPr>
            <a:xfrm>
              <a:off x="2209680" y="4876920"/>
              <a:ext cx="28958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m'k.x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52578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Wisdom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v'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right, stra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om.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mu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ybi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h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[;m.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w, lit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T'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last, after 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yDIc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ghte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siK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j'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all, yo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2720" y="1295280"/>
            <a:ext cx="4348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wOr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57280" y="3886200"/>
            <a:ext cx="3581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,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icu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Axr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Ahj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, p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r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,[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lave, servan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r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p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ju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v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ck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v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xe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,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l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us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he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, bea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 n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1219320"/>
            <a:ext cx="2590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y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e or a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q'B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d of cat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eK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k'r'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es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hold, 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NEh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h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a'J'x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y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, there 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b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Ab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liK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sel, tool, weap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x,l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5640" y="4876560"/>
            <a:ext cx="2895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dd'B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one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l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52578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P TypographicSymbol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o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n'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Yea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n, fami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x'P'v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x'l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rcuit, surrou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ybis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#[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y"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e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f'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t, fle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yrI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ven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bG&gt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rder, bound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Ix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lth,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1-07T02:19:22Z</dcterms:modified>
  <cp:revision>469</cp:revision>
  <dc:subject/>
  <dc:title>Discipleship Across the Lifespan</dc:title>
</cp:coreProperties>
</file>