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9D82-9265-4870-B76D-33B76F68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EA8-48AF-4B89-9504-3E2CA4F4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63CD-BB14-4396-9AC7-85875D95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AA1-A832-4A57-986A-ECDC82E9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F242-297E-4A3D-A3D0-CF10CC0B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DF17-C2A1-44AB-86D5-D5B7A885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5E1-06B3-4E57-9214-3D9D84B5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47D-F8D2-47D7-A63C-72372861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3E2-520C-431E-B2B9-E162D139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DB3-25B5-4DA1-BF98-640A5299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DD13-496A-4DC6-B356-6C0A6BAB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7C8F-D85C-4C79-98F1-9BFAA06A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958B-AF81-4AD0-B118-25E668D77E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2590920"/>
            <a:ext cx="5715000" cy="822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bulary Review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133720" y="14256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la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Ahj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ean, p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r;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e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i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[r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jp;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jud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[v'r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ck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yv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xea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other, 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@l,a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ous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t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v,a]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heB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imal, bea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133720" y="14256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!B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Son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m,v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il, f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G: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so, ev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D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is n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1219320"/>
            <a:ext cx="2590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ya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@a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se or ang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q,B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q'B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rd of catt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k'r'B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ess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h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hold, i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NEh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ho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d'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Man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a'J'x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y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is, there 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b,a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Ab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l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liK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ssel, tool, weap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x,l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5640" y="4876560"/>
            <a:ext cx="2895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dd'B'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 one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b;l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267080" y="525780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P TypographicSymbols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on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n, fami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x'P'v.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tt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x'l.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rcuit, surround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ybis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ya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[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#[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d'a]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nd, land, ear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y"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e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f'B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t, fle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yrIB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vena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WbG&gt;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rder, bound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yIx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alth, ar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s,x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vingkind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yal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d,x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th (new moo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%l,m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King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w&lt;m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J,m;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ff, rod, branch, tri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B'd&gt;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lder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A[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ain, still, as long 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[e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l'[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rnt off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nIP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aoc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ck of sheep or goa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g&lt;r,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7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rb,[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Slave, servan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57200" y="213372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ccffff"/>
                </a:solidFill>
                <a:latin typeface="Bwhebb"/>
              </a:rPr>
              <a:t>~ynIëP'-la, ~ynIåP'</a:t>
            </a:r>
            <a:endParaRPr b="0" lang="en-US" sz="10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91320" y="38862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ac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812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9810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ac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500"/>
                            </p:stCondLst>
                            <p:childTnLst>
                              <p:par>
                                <p:cTn id="1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~yIm;V'h; tAdl.At hL,a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95480" y="3276720"/>
            <a:ext cx="3353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#r&lt;a'h'w&gt;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27432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86200" y="27432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io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66680" y="274320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the heave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276720" y="449568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eart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95480" y="57150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(Genesis 2: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ynIT'b.z:[] hm'l' yliae yliae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0" y="18288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My God!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410080" y="18288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My God!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65760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why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71600" y="18604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You forsook m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whebb"/>
              </a:rPr>
              <a:t>Wnyhel{a/ hw"hyK; ymi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15000" y="289548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(is) lik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1972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Yahwe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828800" y="2971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our Go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19520" y="3962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Psalm 113:5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500"/>
                            </p:stCondLst>
                            <p:childTnLst>
                              <p:par>
                                <p:cTn id="14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09120" y="9907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Wrm.aYOw: laer"f.yI-ynEb. War&gt;YIw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2971800"/>
            <a:ext cx="8001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aWh !m' wyxia'-la, vyai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629400" y="204156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they saw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86400" y="2057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on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29000" y="20574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of) Israel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205740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they sai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400800" y="3962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Ma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715000" y="3962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114800" y="39625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His brother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38280" y="41148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ha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371600" y="39625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is) it?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33520" y="5334120"/>
            <a:ext cx="233352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odus 16:15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761760" y="10666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ytiyair" haor" hw"hy&gt; rm,aYOw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" y="281952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~yIr"c.miB. rv,a] yMi[; ynI[\-ta,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09480" y="5257800"/>
            <a:ext cx="191448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odus 3:7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213372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sai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48320" y="2133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ahwe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2133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ee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213372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 have see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477120" y="38098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afflictio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029200" y="379404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f my peopl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657600" y="3870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h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447920" y="387036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are) in Egyp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~d"a'h'-l[; ~yhil{a/ hw"hy&gt; wc;y&gt;w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4920" y="2666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lkoa' !G"h;-#[e lKomi rmoal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39625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lkeaTo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2193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commande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2346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ahwe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05320" y="2362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66880" y="2362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" y="2362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ma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48520" y="364176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ay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952880" y="358128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rom every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733920" y="3657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re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90920" y="36576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f the garde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066680" y="36576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eat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486400" y="42670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ou shall ea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23" dur="indefinite" restart="never" nodeType="tmRoot">
          <p:childTnLst>
            <p:seq>
              <p:cTn id="1624" dur="indefinite" nodeType="mainSeq">
                <p:childTnLst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500"/>
                            </p:stCondLst>
                            <p:childTnLst>
                              <p:par>
                                <p:cTn id="16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heK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n'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Yea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laer'f.y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Israel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v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Nam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hb'AJh; #r&lt;a'h' %l,m,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5720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he king of the good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n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n"doa]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95280" y="3124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x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sWs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Hors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371600" y="1600200"/>
            <a:ext cx="6400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tAab'c. hw"hy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ORD of host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v'a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m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wOG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%r,D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y, Road, Journ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yIr;c.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Egyp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Im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IAGh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yI[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y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v,m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Mos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l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b'c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st, ar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h'z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B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ugh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y[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ar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K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us,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h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untain, Hi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wOq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ice, s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rb;D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Word, thing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r'AT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a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k'yh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mple, pal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r,x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w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p,n&l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h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ving, alive (adjectiv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l,y&l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@s,K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Aqm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p,s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ok, Scro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jP'v.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K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x;Bez&gt;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aun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tteran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nounc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l'A[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last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ci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n"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ou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x;Wr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rit, wi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f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e, official, comma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[;v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Im;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ven, 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b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Fathe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Aqm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x;a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fter, behi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a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th, bes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gn of definite 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[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til, as far 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yB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twe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%wOtB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the midst, ins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k.x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sdom, ski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x;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590560" y="388584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der, below, instead o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d,f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590560" y="388584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eld, country, 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[;m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ve, upw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ybin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ph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nEp.l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for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[;m;l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 account o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, out o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w"c.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and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[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, upon, on account o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b;D.-l[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590560" y="388584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cause of, on account o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P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590560" y="388584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u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[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590560" y="388584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523880" y="4800600"/>
            <a:ext cx="6172200" cy="2288520"/>
            <a:chOff x="1523880" y="4800600"/>
            <a:chExt cx="6172200" cy="2288520"/>
          </a:xfrm>
        </p:grpSpPr>
        <p:sp>
          <p:nvSpPr>
            <p:cNvPr id="195" name=""/>
            <p:cNvSpPr/>
            <p:nvPr/>
          </p:nvSpPr>
          <p:spPr>
            <a:xfrm>
              <a:off x="1523880" y="4800600"/>
              <a:ext cx="3124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lae( WnM'î[i 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43040" y="5105160"/>
              <a:ext cx="3353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“God with us” (Isaiah 7:14)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x'a,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AdG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e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il;f'Wry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Jerusalem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0720" y="1272960"/>
            <a:ext cx="2133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L'D;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1273320"/>
            <a:ext cx="2133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D;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1730520"/>
            <a:ext cx="1676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qez"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0" lang="en-US" sz="4000" spc="-1" strike="noStrike">
                <a:solidFill>
                  <a:srgbClr val="ffffff"/>
                </a:solidFill>
                <a:latin typeface="Bwhebb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124080" y="4952880"/>
            <a:ext cx="3048120" cy="3750840"/>
            <a:chOff x="3124080" y="4952880"/>
            <a:chExt cx="3048120" cy="3750840"/>
          </a:xfrm>
        </p:grpSpPr>
        <p:sp>
          <p:nvSpPr>
            <p:cNvPr id="208" name=""/>
            <p:cNvSpPr/>
            <p:nvPr/>
          </p:nvSpPr>
          <p:spPr>
            <a:xfrm>
              <a:off x="3124080" y="4952880"/>
              <a:ext cx="1447920" cy="37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!q'z" 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7080" y="537840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Beard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k'x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09680" y="4876920"/>
            <a:ext cx="4953240" cy="2531880"/>
            <a:chOff x="2209680" y="4876920"/>
            <a:chExt cx="4953240" cy="2531880"/>
          </a:xfrm>
        </p:grpSpPr>
        <p:sp>
          <p:nvSpPr>
            <p:cNvPr id="213" name=""/>
            <p:cNvSpPr/>
            <p:nvPr/>
          </p:nvSpPr>
          <p:spPr>
            <a:xfrm>
              <a:off x="2209680" y="4876920"/>
              <a:ext cx="28958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hm'k.x' 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48320" y="525780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Wisdom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133720" y="14256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tyIB;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Hous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Aj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p,y"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autifu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v'y"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pright, stra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Ke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, thus, therefo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aom.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y mu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#r,a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and, earth, ground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j[;m.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w, lit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T'[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last, after a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qyDIc;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ghteo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ysiK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d,q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li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Adq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j'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mall, you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052720" y="1295280"/>
            <a:ext cx="4348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wOr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57280" y="3886200"/>
            <a:ext cx="3581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a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v,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fficul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qAxr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a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3-10-31T15:04:22Z</dcterms:modified>
  <cp:revision>462</cp:revision>
  <dc:subject/>
  <dc:title>Discipleship Across the Lifespan</dc:title>
</cp:coreProperties>
</file>