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30C-73BD-4AC9-801A-E1C512F2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A84-F0B7-4EFF-A009-9BB9989D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7E8-F2E6-458A-BDD9-01248535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7B9-C6B5-45A8-B053-4E311207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483-789B-4793-AB0B-D73EDBC9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697-259B-4B55-8ACD-540048D9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6A9-7F57-415B-9C4F-103CDA94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85D-D547-482E-9086-2E2F2D88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9F5-F4A0-487F-87D0-2EEA3DEF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287-F1F1-4ECA-9B63-5020E95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F99-E01F-43C0-92FE-DB41A26F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B62-A631-458C-A704-2C6A3263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3332-2443-48BF-8913-21889C8893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2438280"/>
            <a:ext cx="417672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6720" y="3429000"/>
            <a:ext cx="23619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i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struct chain is pronounced as though it were a singl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struct chain is pronounced as though it were a singl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struct noun surrenders its primary ac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28800" y="3733920"/>
            <a:ext cx="6019920" cy="1089000"/>
            <a:chOff x="1828800" y="3733920"/>
            <a:chExt cx="6019920" cy="1089000"/>
          </a:xfrm>
        </p:grpSpPr>
        <p:sp>
          <p:nvSpPr>
            <p:cNvPr id="99" name=""/>
            <p:cNvSpPr/>
            <p:nvPr/>
          </p:nvSpPr>
          <p:spPr>
            <a:xfrm>
              <a:off x="1828800" y="3733920"/>
              <a:ext cx="114300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!Be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520" y="400680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becomes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2880" y="3733920"/>
              <a:ext cx="114300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!B,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7280" y="400680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son of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28800" y="4724280"/>
            <a:ext cx="6095880" cy="1089000"/>
            <a:chOff x="1828800" y="4724280"/>
            <a:chExt cx="6095880" cy="1089000"/>
          </a:xfrm>
        </p:grpSpPr>
        <p:sp>
          <p:nvSpPr>
            <p:cNvPr id="104" name=""/>
            <p:cNvSpPr/>
            <p:nvPr/>
          </p:nvSpPr>
          <p:spPr>
            <a:xfrm>
              <a:off x="1828800" y="4724280"/>
              <a:ext cx="114300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lKo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19520" y="49975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becomes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9200" y="4724280"/>
              <a:ext cx="114300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lK'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3600" y="495288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all of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05120" y="5638680"/>
            <a:ext cx="6324480" cy="1089000"/>
            <a:chOff x="1905120" y="5638680"/>
            <a:chExt cx="6324480" cy="1089000"/>
          </a:xfrm>
        </p:grpSpPr>
        <p:sp>
          <p:nvSpPr>
            <p:cNvPr id="109" name=""/>
            <p:cNvSpPr/>
            <p:nvPr/>
          </p:nvSpPr>
          <p:spPr>
            <a:xfrm>
              <a:off x="1905120" y="5638680"/>
              <a:ext cx="114300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dy"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29200" y="5638680"/>
              <a:ext cx="1143000" cy="10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dy: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19520" y="59119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becomes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19920" y="586728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hand of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struct chain is pronounced as though it were a singl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struct noun surrenders its primary ac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e plural endings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23623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~yhil{a/ 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7689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co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4495680"/>
            <a:ext cx="2057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yhel{a/ 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388120"/>
            <a:ext cx="17528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~ynIB'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5638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co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378400"/>
            <a:ext cx="15238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ynEB.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struct chain is pronounced as though it were a singl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struct noun surrenders its primary ac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e plural endings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inine singular endings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952880"/>
            <a:ext cx="23623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hr'AT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5226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co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5845320"/>
            <a:ext cx="17528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hnEv' 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6095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co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4952880"/>
            <a:ext cx="23623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tr;AT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5851440"/>
            <a:ext cx="17524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tn:v.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onosyllabic words add a yod to their stem in the construct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819520"/>
            <a:ext cx="19051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ba'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092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co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819520"/>
            <a:ext cx="23623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ybia}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711600"/>
            <a:ext cx="19051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xa'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3984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co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3711600"/>
            <a:ext cx="23623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yxia}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133720" y="9907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perlativ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nouns in a construct ch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14600" y="3168720"/>
            <a:ext cx="4343400" cy="2104920"/>
            <a:chOff x="2514600" y="3168720"/>
            <a:chExt cx="4343400" cy="2104920"/>
          </a:xfrm>
        </p:grpSpPr>
        <p:sp>
          <p:nvSpPr>
            <p:cNvPr id="140" name=""/>
            <p:cNvSpPr/>
            <p:nvPr/>
          </p:nvSpPr>
          <p:spPr>
            <a:xfrm>
              <a:off x="2514600" y="3200400"/>
              <a:ext cx="4114800" cy="16765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17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3168720"/>
              <a:ext cx="41907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~yvid"Q\h; vd&lt;qo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0920" y="411480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Holy of holies”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90920" y="3429000"/>
            <a:ext cx="4114800" cy="19051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33720" y="9907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perlativ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nouns in a construct ch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397320"/>
            <a:ext cx="380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~yrIyVih; ryv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572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ng of songs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3429000"/>
            <a:ext cx="8076960" cy="22096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33720" y="9907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perlativ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nouns in a construct ch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397320"/>
            <a:ext cx="815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~ynIdoa]h' ynEdoa]w: ~yhil{a/h' yhel{a/ 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d of gods and Lord of lords” (Deuteronomy 10:17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133720" y="9907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perlativ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nouns in a construct ch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joining of      with    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2916360"/>
            <a:ext cx="838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!mi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2992320"/>
            <a:ext cx="114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Ko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47920" y="3886200"/>
            <a:ext cx="6705360" cy="3385800"/>
            <a:chOff x="1447920" y="3886200"/>
            <a:chExt cx="6705360" cy="3385800"/>
          </a:xfrm>
        </p:grpSpPr>
        <p:sp>
          <p:nvSpPr>
            <p:cNvPr id="158" name=""/>
            <p:cNvSpPr/>
            <p:nvPr/>
          </p:nvSpPr>
          <p:spPr>
            <a:xfrm>
              <a:off x="1447920" y="3886200"/>
              <a:ext cx="6705360" cy="23623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17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105520"/>
              <a:ext cx="3581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3886200"/>
              <a:ext cx="60199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lAdG"h;-d[;w&gt; !joQ'h;-!mi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5029200"/>
              <a:ext cx="6705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From the smallest to the greatest” (1 Samuel 30:19)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n as a Figurative Ter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n of the possession” (</a:t>
            </a: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qv,m,‑!b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as an heir (Genesis 15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n of a house”(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ytiyBe‑!b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is one who is such a close friend that he is like a member of the family (Genesis 15: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n of death” (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tw&lt;m'‑!b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is one who deserves to die (1 Samuel 20:31) or who has been condemned to die (Psalm 102: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n of Gehinnon” is someone who is bound for hell (Matthew 23: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6629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re is no word for “of” in Hebr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33920" y="3048120"/>
            <a:ext cx="165096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n as a Figurative Ter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term “son” (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!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s it is used in Genesis 17: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3124080"/>
            <a:ext cx="6324840" cy="1191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when Abram was ninety years old and nine…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41972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~y[iv.Ti-!B, ~r"b.a; yhiy&gt;w: 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30208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~ynIv' [v;tew&gt; hn"v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n as a Figurative Ter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term “son” (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!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s it is used in Genesis 17: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term “sons” (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yn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s it is used in Jeremiah 48:4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062080" y="2590920"/>
            <a:ext cx="464364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b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00200" y="4419720"/>
            <a:ext cx="2057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57d24"/>
              </a:gs>
              <a:gs pos="100000">
                <a:srgbClr val="02391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886200"/>
            <a:ext cx="2133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65640" y="2987640"/>
            <a:ext cx="12193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b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7720" y="28954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amuel took a stone and set it between Mizpah and Shen, and named it Ebenezer, saying, “Thus far the LORD has helped us.” (1 Samuel 7:1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90720" y="5181480"/>
            <a:ext cx="2971800" cy="2104920"/>
            <a:chOff x="990720" y="5181480"/>
            <a:chExt cx="2971800" cy="2104920"/>
          </a:xfrm>
        </p:grpSpPr>
        <p:sp>
          <p:nvSpPr>
            <p:cNvPr id="180" name=""/>
            <p:cNvSpPr/>
            <p:nvPr/>
          </p:nvSpPr>
          <p:spPr>
            <a:xfrm>
              <a:off x="1066680" y="5410080"/>
              <a:ext cx="281952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0019"/>
                </a:gs>
                <a:gs pos="100000">
                  <a:srgbClr val="3b000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181480"/>
              <a:ext cx="29718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rz&lt;[eh' !b,a, 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52880" y="5334120"/>
            <a:ext cx="2210040" cy="2104920"/>
            <a:chOff x="4952880" y="5334120"/>
            <a:chExt cx="2210040" cy="2104920"/>
          </a:xfrm>
        </p:grpSpPr>
        <p:sp>
          <p:nvSpPr>
            <p:cNvPr id="183" name=""/>
            <p:cNvSpPr/>
            <p:nvPr/>
          </p:nvSpPr>
          <p:spPr>
            <a:xfrm>
              <a:off x="5181480" y="5562720"/>
              <a:ext cx="167652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57d24"/>
                </a:gs>
                <a:gs pos="100000">
                  <a:srgbClr val="02391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334120"/>
              <a:ext cx="22100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Wnr"z"[] 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d'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nd, land, ear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y"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e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f'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t, fle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yrI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ven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WbG&gt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rder, bound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#r&lt;a'h' %l,m,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25146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 king of the l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03848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%l,m,h; db,[,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1148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 servant of the k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06668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vyaih' lwOq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1430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 voice of the m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yIx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lth,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362320" y="5029200"/>
            <a:ext cx="4723920" cy="1469880"/>
            <a:chOff x="2362320" y="5029200"/>
            <a:chExt cx="4723920" cy="1469880"/>
          </a:xfrm>
        </p:grpSpPr>
        <p:sp>
          <p:nvSpPr>
            <p:cNvPr id="198" name=""/>
            <p:cNvSpPr/>
            <p:nvPr/>
          </p:nvSpPr>
          <p:spPr>
            <a:xfrm>
              <a:off x="2362320" y="5029200"/>
              <a:ext cx="19047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lWx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33560" y="5486040"/>
              <a:ext cx="33526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Firm, strong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s,x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vingkind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d,x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th (new mo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124080" y="5029200"/>
            <a:ext cx="3581640" cy="1469880"/>
            <a:chOff x="3124080" y="5029200"/>
            <a:chExt cx="3581640" cy="1469880"/>
          </a:xfrm>
        </p:grpSpPr>
        <p:sp>
          <p:nvSpPr>
            <p:cNvPr id="205" name=""/>
            <p:cNvSpPr/>
            <p:nvPr/>
          </p:nvSpPr>
          <p:spPr>
            <a:xfrm>
              <a:off x="3124080" y="5029200"/>
              <a:ext cx="19051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vd'x' 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5486400"/>
              <a:ext cx="22100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New 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895480" y="5105520"/>
            <a:ext cx="3962520" cy="1164960"/>
            <a:chOff x="2895480" y="5105520"/>
            <a:chExt cx="3962520" cy="1164960"/>
          </a:xfrm>
        </p:grpSpPr>
        <p:sp>
          <p:nvSpPr>
            <p:cNvPr id="210" name=""/>
            <p:cNvSpPr/>
            <p:nvPr/>
          </p:nvSpPr>
          <p:spPr>
            <a:xfrm>
              <a:off x="2895480" y="5105520"/>
              <a:ext cx="1828800" cy="11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twOdy"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400" y="54100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Plural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w&lt;m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590920" y="5029200"/>
            <a:ext cx="5333760" cy="1165320"/>
            <a:chOff x="2590920" y="5029200"/>
            <a:chExt cx="5333760" cy="1165320"/>
          </a:xfrm>
        </p:grpSpPr>
        <p:sp>
          <p:nvSpPr>
            <p:cNvPr id="215" name=""/>
            <p:cNvSpPr/>
            <p:nvPr/>
          </p:nvSpPr>
          <p:spPr>
            <a:xfrm>
              <a:off x="2590920" y="5029200"/>
              <a:ext cx="182880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twOm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38480" y="533412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construct form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J,m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ff, rod, branch, tri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B'd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er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[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ain, still, as long 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[e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48466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be like a tre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rm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ed by streams of water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yields its fruit in it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a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s 1:3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[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rnt off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38280" y="5029200"/>
            <a:ext cx="4495680" cy="2531880"/>
            <a:chOff x="2438280" y="5029200"/>
            <a:chExt cx="4495680" cy="2531880"/>
          </a:xfrm>
        </p:grpSpPr>
        <p:sp>
          <p:nvSpPr>
            <p:cNvPr id="229" name=""/>
            <p:cNvSpPr/>
            <p:nvPr/>
          </p:nvSpPr>
          <p:spPr>
            <a:xfrm>
              <a:off x="2438280" y="5029200"/>
              <a:ext cx="16765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hl'['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14800" y="54100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To ascend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403848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%l,m,h; db,[,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41148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 servant of the k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962520"/>
            <a:ext cx="2209680" cy="15238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715000"/>
            <a:ext cx="2209680" cy="91440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867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solu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962520"/>
            <a:ext cx="1600200" cy="1371600"/>
          </a:xfrm>
          <a:prstGeom prst="ellips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5638680"/>
            <a:ext cx="2895840" cy="990720"/>
          </a:xfrm>
          <a:prstGeom prst="ellips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5791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stru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630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can have multiple constructs, but only one absolu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nIP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aoc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ck of sheep or go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g&lt;r,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sepa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either entirely definite or entirely in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80988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vyaih' lwOq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8862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 voice of the m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412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vyai lwOq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54100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 voice of a m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9880" y="4876920"/>
            <a:ext cx="814680" cy="66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r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sepa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either entirely definite or entirely in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have multiple construct 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19112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AMai ybia]-tyBe tx;P;v.mi-lK'-la,w&gt;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6019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Judges 9:1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5334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34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533412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cl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3341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s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53341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fath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53341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his moth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sepa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either entirely definite or entirely in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have multiple construct 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joined by a Maqq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464832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dwID"-!B,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952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Son of Davi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sepa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either entirely definite or entirely in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have multiple construct 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joined by a Maqq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y cannot be separated, adjectives must come after the chain (but will agree in number and gender with the noun they modif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bAJh; #r&lt;a'h' %l,m,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094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truct Chai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235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b'AJh; #r&lt;a'h' %l,m,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124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good king of the lan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54547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king of the good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(Masculin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(Feminin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(Masculin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3930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(Masculin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006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(Feminin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006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(Feminin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0-31T17:27:23Z</dcterms:modified>
  <cp:revision>517</cp:revision>
  <dc:subject/>
  <dc:title>Discipleship Across the Lifespan</dc:title>
</cp:coreProperties>
</file>