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241-4B4F-47B3-9B4D-D77A7FB6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D7F-962D-41C9-BB18-E6F2E3C0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63A-88FE-415B-BD55-4EE37A6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D03-D06E-41BF-BDBE-CFF06F22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40-8BC2-42F7-8073-0F4B460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EEC-377A-44E2-AFE1-D5A610F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E1C-428C-4BEA-A705-3677BEF6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3DC-209D-4E67-88D2-1D143D3A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C94-534E-464D-A171-A2481F7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6E5-584B-4432-9AD6-CB1376A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664-B12C-4FF8-ABA9-37AB029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A43-93E5-4F91-AC6F-EF0E7F00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B071-4A35-41B9-8B34-873600070A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2438280"/>
            <a:ext cx="41767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3429000"/>
            <a:ext cx="32004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k,l' aWh yn"doa] !TeyI !kel'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905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td&lt;l,yOw&gt; hr"h' hm'l.[;h' hNEhi tAa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886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lae-WnM'[i Amv. tar"q'w&gt; !B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Isaiah 7:1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1447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1295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ill gi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1371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1371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msel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371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2955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sig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2955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eho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971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i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egn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bir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4937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s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49528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he will c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9528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s na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9528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ith u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4952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tiyrIB.-ta, ~yqIme ynIn&gt;hi ynIa]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21337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ccffff"/>
                </a:solidFill>
                <a:latin typeface="Bwhebb"/>
              </a:rPr>
              <a:t>~k,[]r&gt;z:-ta,w&gt; ~k,T.a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40384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ccffff"/>
                </a:solidFill>
                <a:latin typeface="Bwhebb"/>
              </a:rPr>
              <a:t>`~k,yrEx]a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6140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Genesis 9:9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67480" y="15080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15238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ehold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14479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am rais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1508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i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523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coven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3200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ith you gu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276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i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3276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se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51814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fter you gu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^l. dyGIhi ymi rm,aYOw: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T'a' ~roy[e yK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276720" y="5221440"/>
            <a:ext cx="22762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3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5867280" y="18288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1889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889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828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33368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3352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nak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3352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(are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!yIq"-la, hw"hy&gt; rm,aYO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%l' hr"x' hM'l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`^yn&lt;p' Wlp.n" hM'l'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304920"/>
            <a:ext cx="21718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4: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19652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1981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Cai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100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3962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g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 you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5943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592776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ave they fall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59436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face(s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"b.z:[] hm'l' yliae yli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0880" y="304920"/>
            <a:ext cx="21718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alm 22: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1965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1981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1981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rEb.DI yti['Wvymi qAxr"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7652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saken me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`yti(g"a]v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4038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ist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40384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my salva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098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word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615636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groan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!ybeäW ^n&gt;yBe( tyvia' hb'yaew&gt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600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ccffff"/>
                </a:solidFill>
                <a:latin typeface="Bwhebb"/>
              </a:rPr>
              <a:t>H['r&gt;z: !ybeW ^[]r&gt;z: !ybeW hV'aih'(</a:t>
            </a: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&gt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T'a;w&gt; varo ^p.Wvy&gt; aWh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`bqE[' WNp,WvT.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1143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enmit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1143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mak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1143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etween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1430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betw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651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wo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2575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betw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2590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se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2590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betw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2666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r se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42512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76920" y="42512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hall crush you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4251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4343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6080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hall crush hi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6095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553080" y="5791320"/>
            <a:ext cx="23529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3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514600" y="2514600"/>
            <a:ext cx="3881520" cy="820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Oa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2590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n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1219320"/>
            <a:ext cx="2590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17524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have the idea of anger (snort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3352680" cy="16002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jective Pronou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219320"/>
            <a:ext cx="3124440" cy="16002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, she, w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819520"/>
            <a:ext cx="3352680" cy="16761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jective Pronou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819520"/>
            <a:ext cx="3124440" cy="1676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m, her, u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495680"/>
            <a:ext cx="3352680" cy="16765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ssessive Pronou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4495680"/>
            <a:ext cx="312444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, her, ou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q,B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q'B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d of c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'r'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es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905120" y="5029200"/>
            <a:ext cx="5638320" cy="1469880"/>
            <a:chOff x="1905120" y="5029200"/>
            <a:chExt cx="5638320" cy="1469880"/>
          </a:xfrm>
        </p:grpSpPr>
        <p:sp>
          <p:nvSpPr>
            <p:cNvPr id="400" name=""/>
            <p:cNvSpPr/>
            <p:nvPr/>
          </p:nvSpPr>
          <p:spPr>
            <a:xfrm>
              <a:off x="1905120" y="5029200"/>
              <a:ext cx="25905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%r;B'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29000" y="5410080"/>
              <a:ext cx="4114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 To bless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, 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Eh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J'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, there 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b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l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sel, tool, weap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x,l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35812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33520"/>
            <a:ext cx="33526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1600200"/>
            <a:ext cx="35812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miv.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600200"/>
            <a:ext cx="198144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son Comm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1600200"/>
            <a:ext cx="33526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me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009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my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011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8195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^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8195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8195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k,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765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0765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a’l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7339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7339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7339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k,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90760" y="39765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a’l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46483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ymev.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46483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6483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h,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24240" y="4876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his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5627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5627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55627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h,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575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5788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their 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52880" y="5773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he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their 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5640" y="4876560"/>
            <a:ext cx="289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d'B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one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l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5257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o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n, 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x'l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209680" y="4952880"/>
            <a:ext cx="4876920" cy="1470240"/>
            <a:chOff x="2209680" y="4952880"/>
            <a:chExt cx="4876920" cy="1470240"/>
          </a:xfrm>
        </p:grpSpPr>
        <p:sp>
          <p:nvSpPr>
            <p:cNvPr id="425" name=""/>
            <p:cNvSpPr/>
            <p:nvPr/>
          </p:nvSpPr>
          <p:spPr>
            <a:xfrm>
              <a:off x="2209680" y="4952880"/>
              <a:ext cx="24386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~x;l'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38480" y="5334120"/>
              <a:ext cx="3048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 To fight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rcuit, surrou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bis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209680" y="4952880"/>
            <a:ext cx="5486400" cy="1470240"/>
            <a:chOff x="2209680" y="4952880"/>
            <a:chExt cx="5486400" cy="1470240"/>
          </a:xfrm>
        </p:grpSpPr>
        <p:sp>
          <p:nvSpPr>
            <p:cNvPr id="430" name=""/>
            <p:cNvSpPr/>
            <p:nvPr/>
          </p:nvSpPr>
          <p:spPr>
            <a:xfrm>
              <a:off x="2209680" y="4952880"/>
              <a:ext cx="243864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bb;s'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8480" y="5334120"/>
              <a:ext cx="3657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 Go around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d"a'h'-l[; ~yhil{a/ hw"hy&gt; wc;y&gt;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44956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oa' !G"h;-#[e lKomi rmoa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57913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ea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40226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command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417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05320" y="4191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4191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4191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54705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ay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54100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eve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5486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54864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gar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6668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6095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hall e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4114800" y="609480"/>
            <a:ext cx="1371240" cy="3047760"/>
            <a:chOff x="4114800" y="609480"/>
            <a:chExt cx="1371240" cy="3047760"/>
          </a:xfrm>
        </p:grpSpPr>
        <p:sp>
          <p:nvSpPr>
            <p:cNvPr id="78" name=""/>
            <p:cNvSpPr/>
            <p:nvPr/>
          </p:nvSpPr>
          <p:spPr>
            <a:xfrm>
              <a:off x="4114800" y="6094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12189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182844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24382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14800" y="30477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971800" y="609480"/>
            <a:ext cx="1142640" cy="3047760"/>
            <a:chOff x="2971800" y="609480"/>
            <a:chExt cx="1142640" cy="3047760"/>
          </a:xfrm>
        </p:grpSpPr>
        <p:sp>
          <p:nvSpPr>
            <p:cNvPr id="84" name=""/>
            <p:cNvSpPr/>
            <p:nvPr/>
          </p:nvSpPr>
          <p:spPr>
            <a:xfrm>
              <a:off x="2971800" y="6094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12189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1800" y="182844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71800" y="24382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30477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81080" y="609480"/>
            <a:ext cx="990720" cy="3047760"/>
            <a:chOff x="1981080" y="609480"/>
            <a:chExt cx="990720" cy="3047760"/>
          </a:xfrm>
        </p:grpSpPr>
        <p:sp>
          <p:nvSpPr>
            <p:cNvPr id="90" name=""/>
            <p:cNvSpPr/>
            <p:nvPr/>
          </p:nvSpPr>
          <p:spPr>
            <a:xfrm>
              <a:off x="1981080" y="60948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121896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81080" y="182844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243828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304776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1218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049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 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9144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9144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y &lt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523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15238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yI 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y 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1067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 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19520"/>
            <a:ext cx="1066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'y &lt;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609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i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114800" y="3733920"/>
            <a:ext cx="1371240" cy="3047760"/>
            <a:chOff x="4114800" y="3733920"/>
            <a:chExt cx="1371240" cy="3047760"/>
          </a:xfrm>
        </p:grpSpPr>
        <p:sp>
          <p:nvSpPr>
            <p:cNvPr id="116" name=""/>
            <p:cNvSpPr/>
            <p:nvPr/>
          </p:nvSpPr>
          <p:spPr>
            <a:xfrm>
              <a:off x="4114800" y="37339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43434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95288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55627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61722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71800" y="3733920"/>
            <a:ext cx="1142640" cy="3047760"/>
            <a:chOff x="2971800" y="3733920"/>
            <a:chExt cx="1142640" cy="3047760"/>
          </a:xfrm>
        </p:grpSpPr>
        <p:sp>
          <p:nvSpPr>
            <p:cNvPr id="122" name=""/>
            <p:cNvSpPr/>
            <p:nvPr/>
          </p:nvSpPr>
          <p:spPr>
            <a:xfrm>
              <a:off x="2971800" y="37339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3434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495288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55627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61722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981080" y="3733920"/>
            <a:ext cx="990720" cy="3047760"/>
            <a:chOff x="1981080" y="3733920"/>
            <a:chExt cx="990720" cy="3047760"/>
          </a:xfrm>
        </p:grpSpPr>
        <p:sp>
          <p:nvSpPr>
            <p:cNvPr id="128" name=""/>
            <p:cNvSpPr/>
            <p:nvPr/>
          </p:nvSpPr>
          <p:spPr>
            <a:xfrm>
              <a:off x="1981080" y="373392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1080" y="434340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495288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556272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617220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8288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4290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0384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4038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648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6483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5943600"/>
            <a:ext cx="106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94360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 e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5653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124080" y="609480"/>
            <a:ext cx="1676160" cy="3047760"/>
            <a:chOff x="3124080" y="609480"/>
            <a:chExt cx="1676160" cy="3047760"/>
          </a:xfrm>
        </p:grpSpPr>
        <p:sp>
          <p:nvSpPr>
            <p:cNvPr id="158" name=""/>
            <p:cNvSpPr/>
            <p:nvPr/>
          </p:nvSpPr>
          <p:spPr>
            <a:xfrm>
              <a:off x="3124080" y="6094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4080" y="12189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82844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4080" y="24382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080" y="30477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981080" y="609480"/>
            <a:ext cx="1142640" cy="3047760"/>
            <a:chOff x="1981080" y="609480"/>
            <a:chExt cx="1142640" cy="3047760"/>
          </a:xfrm>
        </p:grpSpPr>
        <p:sp>
          <p:nvSpPr>
            <p:cNvPr id="164" name=""/>
            <p:cNvSpPr/>
            <p:nvPr/>
          </p:nvSpPr>
          <p:spPr>
            <a:xfrm>
              <a:off x="1981080" y="6094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1080" y="12189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182844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24382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1080" y="30477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1218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9144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1523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819520"/>
            <a:ext cx="123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6094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124080" y="3733920"/>
            <a:ext cx="1676160" cy="3047760"/>
            <a:chOff x="3124080" y="3733920"/>
            <a:chExt cx="1676160" cy="3047760"/>
          </a:xfrm>
        </p:grpSpPr>
        <p:sp>
          <p:nvSpPr>
            <p:cNvPr id="185" name=""/>
            <p:cNvSpPr/>
            <p:nvPr/>
          </p:nvSpPr>
          <p:spPr>
            <a:xfrm>
              <a:off x="3124080" y="37339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4080" y="43434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495288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55627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61722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981080" y="3733920"/>
            <a:ext cx="1142640" cy="3047760"/>
            <a:chOff x="1981080" y="3733920"/>
            <a:chExt cx="1142640" cy="3047760"/>
          </a:xfrm>
        </p:grpSpPr>
        <p:sp>
          <p:nvSpPr>
            <p:cNvPr id="191" name=""/>
            <p:cNvSpPr/>
            <p:nvPr/>
          </p:nvSpPr>
          <p:spPr>
            <a:xfrm>
              <a:off x="1981080" y="37339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43434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495288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55627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61722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8288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0384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648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943600"/>
            <a:ext cx="106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5638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5000" y="6094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osi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477120" y="1295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352680" y="609480"/>
            <a:ext cx="1676160" cy="3047760"/>
            <a:chOff x="3352680" y="609480"/>
            <a:chExt cx="1676160" cy="3047760"/>
          </a:xfrm>
        </p:grpSpPr>
        <p:sp>
          <p:nvSpPr>
            <p:cNvPr id="216" name=""/>
            <p:cNvSpPr/>
            <p:nvPr/>
          </p:nvSpPr>
          <p:spPr>
            <a:xfrm>
              <a:off x="3352680" y="6094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2680" y="12189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2680" y="182844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52680" y="24382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2680" y="30477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981080" y="609480"/>
            <a:ext cx="1371240" cy="3047760"/>
            <a:chOff x="1981080" y="609480"/>
            <a:chExt cx="1371240" cy="3047760"/>
          </a:xfrm>
        </p:grpSpPr>
        <p:sp>
          <p:nvSpPr>
            <p:cNvPr id="222" name=""/>
            <p:cNvSpPr/>
            <p:nvPr/>
          </p:nvSpPr>
          <p:spPr>
            <a:xfrm>
              <a:off x="1981080" y="6094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12189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182844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4382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30477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1218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li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9144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yl,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5238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yIl;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2096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yl'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00360" y="2819520"/>
            <a:ext cx="14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'yl,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6858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352680" y="3733920"/>
            <a:ext cx="1676160" cy="3047760"/>
            <a:chOff x="3352680" y="3733920"/>
            <a:chExt cx="1676160" cy="3047760"/>
          </a:xfrm>
        </p:grpSpPr>
        <p:sp>
          <p:nvSpPr>
            <p:cNvPr id="243" name=""/>
            <p:cNvSpPr/>
            <p:nvPr/>
          </p:nvSpPr>
          <p:spPr>
            <a:xfrm>
              <a:off x="3352680" y="37339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43434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2680" y="495288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55627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61722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81080" y="3733920"/>
            <a:ext cx="1371240" cy="3047760"/>
            <a:chOff x="1981080" y="3733920"/>
            <a:chExt cx="1371240" cy="3047760"/>
          </a:xfrm>
        </p:grpSpPr>
        <p:sp>
          <p:nvSpPr>
            <p:cNvPr id="249" name=""/>
            <p:cNvSpPr/>
            <p:nvPr/>
          </p:nvSpPr>
          <p:spPr>
            <a:xfrm>
              <a:off x="1981080" y="37339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3434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080" y="495288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55627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61722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98108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yle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40384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46483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53341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59436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5638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5000" y="6094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osi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477120" y="1295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Ruth said, “Do not urge me to leave you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urn back from following you; for where you go, I will go, and where you lodge, I will lodge. Your people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shall b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people, and your God, my God.” (Ruth 1:1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525780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h'l{a/ %yIh;l{awE yMi[; %Me[;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88620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!ylia' ynIyliT' rv,a]b;W %leae ykil.T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66688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rv,a]-la, yK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489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3505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505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480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g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480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g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47847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nto whe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800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lodg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4800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lodg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6172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61722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6172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your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6172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504960" y="456840"/>
            <a:ext cx="5257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ed on nouns, they are possessive (my, his, thei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ed on prepositions, they are objective (me, him, the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person, number, and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nouns can take either singular or plural suf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480" y="76212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5238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504960" y="456840"/>
            <a:ext cx="5257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 nouns can take either singular or plural suf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nouns take type 1 suffixes; plural nouns take type 2 suf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480" y="76212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5238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10T16:58:56Z</dcterms:modified>
  <cp:revision>511</cp:revision>
  <dc:subject/>
  <dc:title>Discipleship Across the Lifespan</dc:title>
</cp:coreProperties>
</file>