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1B7-4713-431A-BD2F-9FEF08BC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41C-3AF7-449A-823E-08239CC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FB2-ED89-4B7D-B63E-C7B808AE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F6D-5689-44E4-B505-6035B168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497-4FAA-4D12-AD26-EF9954B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EA0-C698-408D-8123-A0293940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C56-7ED5-4244-80BE-F468AA7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D08-D0CB-48DA-8370-FBC4FB9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875-087C-42C1-B3A1-BCC6E51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C27-B45C-481E-8175-2A89012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708-00F7-41AE-9028-6097693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E90-8825-4953-A91D-52E7829A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413D-10E1-4402-B9BB-B8F901B7BE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2438280"/>
            <a:ext cx="41767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14400" y="53352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rogative Pro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600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1523880"/>
            <a:ext cx="3048120" cy="1219320"/>
            <a:chOff x="1600200" y="1523880"/>
            <a:chExt cx="3048120" cy="1219320"/>
          </a:xfrm>
        </p:grpSpPr>
        <p:sp>
          <p:nvSpPr>
            <p:cNvPr id="143" name=""/>
            <p:cNvSpPr/>
            <p:nvPr/>
          </p:nvSpPr>
          <p:spPr>
            <a:xfrm>
              <a:off x="1676520" y="1600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1523880"/>
              <a:ext cx="30481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%yae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0" y="2743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76520" y="2438280"/>
            <a:ext cx="2890800" cy="1469880"/>
            <a:chOff x="1676520" y="2438280"/>
            <a:chExt cx="2890800" cy="1469880"/>
          </a:xfrm>
        </p:grpSpPr>
        <p:sp>
          <p:nvSpPr>
            <p:cNvPr id="147" name=""/>
            <p:cNvSpPr/>
            <p:nvPr/>
          </p:nvSpPr>
          <p:spPr>
            <a:xfrm>
              <a:off x="1676520" y="2743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438280"/>
              <a:ext cx="21337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m'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er"f.yI-tybe War&gt;q.YIw: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560680"/>
            <a:ext cx="82296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" Amv.-t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1768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they call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of) Isra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9783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the) name of him (it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5029200"/>
            <a:ext cx="2971800" cy="110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6:3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Wrm.aYOw: laer"f.yI-ynE)b. War&gt;YI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Wh !m"å wyxia'-la, vya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6923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they saw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752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on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of) Isra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828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they sai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 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367344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is bro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749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?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4952880"/>
            <a:ext cx="2971800" cy="125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6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53352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rogative Pro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23880"/>
            <a:ext cx="3048120" cy="1219320"/>
            <a:chOff x="1600200" y="1523880"/>
            <a:chExt cx="3048120" cy="1219320"/>
          </a:xfrm>
        </p:grpSpPr>
        <p:sp>
          <p:nvSpPr>
            <p:cNvPr id="171" name=""/>
            <p:cNvSpPr/>
            <p:nvPr/>
          </p:nvSpPr>
          <p:spPr>
            <a:xfrm>
              <a:off x="1676520" y="1600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1523880"/>
              <a:ext cx="30481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%yae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572000" y="2743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886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3886200"/>
            <a:ext cx="28908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581280"/>
            <a:ext cx="2819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76520" y="2438280"/>
            <a:ext cx="2890800" cy="1469880"/>
            <a:chOff x="1676520" y="2438280"/>
            <a:chExt cx="2890800" cy="1469880"/>
          </a:xfrm>
        </p:grpSpPr>
        <p:sp>
          <p:nvSpPr>
            <p:cNvPr id="178" name=""/>
            <p:cNvSpPr/>
            <p:nvPr/>
          </p:nvSpPr>
          <p:spPr>
            <a:xfrm>
              <a:off x="1676520" y="2743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2438280"/>
              <a:ext cx="21337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m'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^l. dyGIhi ymi rm,aYOw: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T'a' ~roy[e yK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5221440"/>
            <a:ext cx="22762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3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8288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1889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89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828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3368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3352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nak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352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(are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^AmK' lae-ymi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387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Micah 7:18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810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Just like you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53352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rogative Pro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1600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00200" y="1523880"/>
            <a:ext cx="3048120" cy="1219320"/>
            <a:chOff x="1600200" y="1523880"/>
            <a:chExt cx="3048120" cy="1219320"/>
          </a:xfrm>
        </p:grpSpPr>
        <p:sp>
          <p:nvSpPr>
            <p:cNvPr id="198" name=""/>
            <p:cNvSpPr/>
            <p:nvPr/>
          </p:nvSpPr>
          <p:spPr>
            <a:xfrm>
              <a:off x="1676520" y="1600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200" y="1523880"/>
              <a:ext cx="30481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%yae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0" y="5029200"/>
            <a:ext cx="28954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743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886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3581280"/>
            <a:ext cx="2895480" cy="1469880"/>
            <a:chOff x="1676520" y="3581280"/>
            <a:chExt cx="2895480" cy="1469880"/>
          </a:xfrm>
        </p:grpSpPr>
        <p:sp>
          <p:nvSpPr>
            <p:cNvPr id="204" name=""/>
            <p:cNvSpPr/>
            <p:nvPr/>
          </p:nvSpPr>
          <p:spPr>
            <a:xfrm>
              <a:off x="1676520" y="3886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3581280"/>
              <a:ext cx="28195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ymi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76520" y="2438280"/>
            <a:ext cx="2890800" cy="1469880"/>
            <a:chOff x="1676520" y="2438280"/>
            <a:chExt cx="2890800" cy="1469880"/>
          </a:xfrm>
        </p:grpSpPr>
        <p:sp>
          <p:nvSpPr>
            <p:cNvPr id="207" name=""/>
            <p:cNvSpPr/>
            <p:nvPr/>
          </p:nvSpPr>
          <p:spPr>
            <a:xfrm>
              <a:off x="1676520" y="2743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09680" y="2438280"/>
              <a:ext cx="21337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m'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676520" y="4930920"/>
            <a:ext cx="2890800" cy="1469880"/>
            <a:chOff x="1676520" y="4930920"/>
            <a:chExt cx="2890800" cy="1469880"/>
          </a:xfrm>
        </p:grpSpPr>
        <p:sp>
          <p:nvSpPr>
            <p:cNvPr id="210" name=""/>
            <p:cNvSpPr/>
            <p:nvPr/>
          </p:nvSpPr>
          <p:spPr>
            <a:xfrm>
              <a:off x="1676520" y="5029200"/>
              <a:ext cx="2890800" cy="13712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4930920"/>
              <a:ext cx="23623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M'l'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!yIq"-la, hw"hy&gt; rm,aYO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%l' hr"x' hM'l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`^yn&lt;p' Wlp.n" hM'l'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304920"/>
            <a:ext cx="21718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4: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19652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1981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Cai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g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 you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43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592776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ave they fall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59436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face(s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"b.z:[] hm'l' yliae yli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304920"/>
            <a:ext cx="21718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alm 22: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1965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1981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rEb.DI yti['Wvymi qAxr"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saken me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`yti(g"a]v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4038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ist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0384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my salva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098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word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615636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groan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057400" y="2133720"/>
            <a:ext cx="487692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n pronou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7339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word that replaces a noun (he, him, her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x,a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x,a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29714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vd&lt;xol; dx'a,B. !AvarIh' vd&lt;xoh;-~AyB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38862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the da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876920"/>
            <a:ext cx="8534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d[eAm lh,ao !K;v.mi-ta, ~yqiT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the new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9625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firs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3962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on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88620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the new (moon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58514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ill raise up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58514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tabernac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58514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e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69916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appointed mee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676520"/>
            <a:ext cx="266724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40:2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e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,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1981080"/>
            <a:ext cx="6248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am had relations with his wife again; and she gave birth to a son, and named him Seth, for,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she sai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“God has appointed me another offspring in place of Abel, for Cain killed him” (Genesis 4:2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3962520"/>
            <a:ext cx="7086600" cy="2531880"/>
            <a:chOff x="990720" y="3962520"/>
            <a:chExt cx="7086600" cy="2531880"/>
          </a:xfrm>
        </p:grpSpPr>
        <p:sp>
          <p:nvSpPr>
            <p:cNvPr id="259" name=""/>
            <p:cNvSpPr/>
            <p:nvPr/>
          </p:nvSpPr>
          <p:spPr>
            <a:xfrm>
              <a:off x="990720" y="3962520"/>
              <a:ext cx="701028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3962520"/>
              <a:ext cx="7010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lb,h,ê tx;T; rxea; [r;z&lt;å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y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l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us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590920" y="5181480"/>
            <a:ext cx="4647600" cy="1469880"/>
            <a:chOff x="2590920" y="5181480"/>
            <a:chExt cx="4647600" cy="1469880"/>
          </a:xfrm>
        </p:grpSpPr>
        <p:sp>
          <p:nvSpPr>
            <p:cNvPr id="266" name=""/>
            <p:cNvSpPr/>
            <p:nvPr/>
          </p:nvSpPr>
          <p:spPr>
            <a:xfrm>
              <a:off x="2590920" y="5181480"/>
              <a:ext cx="21333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@l;a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5840" y="566064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learn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,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, be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2667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God said, “Let the earth bring forth living creatures after their kind: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att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creeping things and beasts of the earth after their kind”; and it was so. (Genesis 1:2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2210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Noah built an altar to the LORD, and took of every clean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ni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of every clean bird and offered burnt offerings on the altar (Genesis 8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35812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533520"/>
            <a:ext cx="33526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1600200"/>
            <a:ext cx="35812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kinOa'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nIa]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00200"/>
            <a:ext cx="198144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son Comm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600200"/>
            <a:ext cx="33526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x.n:a]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1949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w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8195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T'a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8195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8195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T,a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you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ya’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7339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T.a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7339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37339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Tea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962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you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ya’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6483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aWh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6483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6483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M'he ~h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he, i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876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5627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awhi ayh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55627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55627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he !h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5759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575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5759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the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73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sh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 now, Behemoth, which I made as well as you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eats grass like an ox (Job 40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5257800"/>
            <a:ext cx="327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Amheb.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3352680"/>
            <a:ext cx="21337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5486400"/>
            <a:ext cx="27432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G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so, ev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whi ~D"B; rf'B'h; vp,n&lt; yKi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46483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46483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ife (soul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64832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{of} the fles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46483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the blo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46483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t (is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880" y="2286000"/>
            <a:ext cx="2971800" cy="117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viticus 17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239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became known to all who were living in Jerusalem; so that in their own language that field was called Hakeldama, that is, Field of Blood. (Acts 1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rogative parti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hj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, p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hj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92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yhil{a/ yli-ar"B. rAhj' bl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47242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yBir&gt;qiB. vDEx; !Akn" x:Wr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5791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a spiri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5867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stablish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new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573084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 myself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480" y="2286000"/>
            <a:ext cx="21621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alm 51:1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Ki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t, because, but, ex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s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09680" y="4952880"/>
            <a:ext cx="5029200" cy="1470240"/>
            <a:chOff x="2209680" y="4952880"/>
            <a:chExt cx="5029200" cy="1470240"/>
          </a:xfrm>
        </p:grpSpPr>
        <p:sp>
          <p:nvSpPr>
            <p:cNvPr id="317" name=""/>
            <p:cNvSpPr/>
            <p:nvPr/>
          </p:nvSpPr>
          <p:spPr>
            <a:xfrm>
              <a:off x="2209680" y="4952880"/>
              <a:ext cx="205740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ls;K'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537840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be stupid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^ybia' ~h'r"b.a; yhel{a/ hw"hy&gt; ynIa]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343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Genesis 28:1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133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of) Abraha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133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s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219320" y="3123720"/>
            <a:ext cx="6705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Wlx'n&gt;yI ~ymik'x] dAbK'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48006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!Alq' ~yrIme ~yliysik.W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glor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267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ise m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20696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y inheri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6035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But fool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60357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ishono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133720"/>
            <a:ext cx="258120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erbs 3:3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120" y="2895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rm.aYOw: laer"f.yI-ynEb. War&gt;YIw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Wh !m' wyxia'-la, vya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29400" y="3946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w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3962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o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Isra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867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58672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s br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867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s) it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828800"/>
            <a:ext cx="23335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6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486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486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'b.z:[] hm'l' yliae yli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1860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 forsook 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;WD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952880"/>
            <a:ext cx="2971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5486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Wnyhel{a/ hw"hyK; ymi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48769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is) lik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our 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salm 113:5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or, afflic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14400" y="4915080"/>
            <a:ext cx="7543800" cy="1469880"/>
            <a:chOff x="914400" y="4915080"/>
            <a:chExt cx="7543800" cy="1469880"/>
          </a:xfrm>
        </p:grpSpPr>
        <p:sp>
          <p:nvSpPr>
            <p:cNvPr id="377" name=""/>
            <p:cNvSpPr/>
            <p:nvPr/>
          </p:nvSpPr>
          <p:spPr>
            <a:xfrm>
              <a:off x="914400" y="5410080"/>
              <a:ext cx="754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Contrast with        , poor, weak, thin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81280" y="4915080"/>
              <a:ext cx="15238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lD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m,a/ ~yhil{a/ hw"hy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419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(Jeremiah 10:10)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1371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3716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is)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137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%l,m,W ~yYIx; ~yhil{a/-aWh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1148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l'A[a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iv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5812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k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257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terna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ytiyair" haor" hw"hy&gt; rm,aYO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457200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yIr"c.miB. rv,a] yMi[; ynI[\-ta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905120"/>
            <a:ext cx="19144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3: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38862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388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388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ee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38862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have s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5562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afflic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546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5622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56228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in Egyp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il,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743200" y="5029200"/>
            <a:ext cx="4038480" cy="3750840"/>
            <a:chOff x="2743200" y="5029200"/>
            <a:chExt cx="4038480" cy="3750840"/>
          </a:xfrm>
        </p:grpSpPr>
        <p:sp>
          <p:nvSpPr>
            <p:cNvPr id="394" name=""/>
            <p:cNvSpPr/>
            <p:nvPr/>
          </p:nvSpPr>
          <p:spPr>
            <a:xfrm>
              <a:off x="2743200" y="5029200"/>
              <a:ext cx="182880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m'v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3400" y="5410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be fa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429000"/>
            <a:ext cx="769608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set up a pillar in the place where He had spoken with him, a pillar of stone, and he poured out a drink offering on it; he also poure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it (Genesis 35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3429000"/>
            <a:ext cx="769608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charge the sons of Israel, that they bring you clear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beaten olives for the light, to make a lamp burn continually (Exodus 27: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3429000"/>
            <a:ext cx="69343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prepare a table before me in the presence of my enemies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nointed my head with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up overflows (Psalm 23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3429000"/>
            <a:ext cx="69343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knees are weak from fasting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flesh has grown lean, withou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fat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salm 109:2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like the precious oil upon the head,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ming down upon the beard, </a:t>
            </a:r>
            <a:br>
              <a:rPr sz="3200"/>
            </a:b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Eve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aron’s beard… (Psalm 133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3352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aroh'-l[; bAJh; !m,V,K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472428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!roh]a;-!q;z&gt; !q'Z"h;-l[; drEyO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ju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362320" y="4952880"/>
            <a:ext cx="5257800" cy="1523880"/>
            <a:chOff x="2362320" y="4952880"/>
            <a:chExt cx="5257800" cy="1523880"/>
          </a:xfrm>
        </p:grpSpPr>
        <p:sp>
          <p:nvSpPr>
            <p:cNvPr id="410" name=""/>
            <p:cNvSpPr/>
            <p:nvPr/>
          </p:nvSpPr>
          <p:spPr>
            <a:xfrm>
              <a:off x="2362320" y="4952880"/>
              <a:ext cx="21337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jP'v.mi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33920" y="539352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Judgmen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jip.Voh; jpov. ymeyBi yhiy&gt;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934320" y="5486400"/>
            <a:ext cx="13809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uth 1: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4" name=""/>
          <p:cNvSpPr/>
          <p:nvPr/>
        </p:nvSpPr>
        <p:spPr>
          <a:xfrm>
            <a:off x="7162920" y="18892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t wa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190512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the da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judg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905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judg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jP'v.mi hf,[]y: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#r&lt;a'h'-lK'  jpevoh]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25146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(one) judg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2438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of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2590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4738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4738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d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7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7913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(Genesis 18:25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28600"/>
            <a:ext cx="274320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rrogative partic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1600200"/>
            <a:ext cx="76212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162920" y="1294920"/>
            <a:ext cx="75960" cy="304920"/>
          </a:xfrm>
          <a:prstGeom prst="line">
            <a:avLst/>
          </a:prstGeom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v,mo-la, ~yhil{a/ rm,aYO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y&lt;h.a, rv,a] hy&lt;h.a,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(Exodus 3:14).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5238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5238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5238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5238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73392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a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4114800" cy="8380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609480"/>
            <a:ext cx="70866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mphatic Use of Pronou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905120"/>
            <a:ext cx="4114800" cy="8380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br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743200"/>
            <a:ext cx="41148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ay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743200"/>
            <a:ext cx="41148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114800"/>
            <a:ext cx="41148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myself say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14800"/>
            <a:ext cx="4114800" cy="13716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895480"/>
            <a:ext cx="152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rm;a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23540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rm;a' ynIa]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whi ~D"B; rf'B'h; vp,n&lt; yKi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05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fles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1828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 the blo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 (is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ccffff"/>
                </a:solidFill>
                <a:latin typeface="Bwhebb"/>
              </a:rPr>
              <a:t>x:Bez&gt;Mih;-l[; ~k,l' wyTit;n&gt; ynIa]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I (myself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 gave i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733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up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alta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76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k,ytevop.n:-l[; rPek;l.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019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cov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up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r lif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320" y="152280"/>
            <a:ext cx="25527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viticus 17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14400" y="53352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rogative Pronou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600200"/>
            <a:ext cx="2895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00200" y="1523880"/>
            <a:ext cx="3048120" cy="1219320"/>
            <a:chOff x="1600200" y="1523880"/>
            <a:chExt cx="3048120" cy="1219320"/>
          </a:xfrm>
        </p:grpSpPr>
        <p:sp>
          <p:nvSpPr>
            <p:cNvPr id="132" name=""/>
            <p:cNvSpPr/>
            <p:nvPr/>
          </p:nvSpPr>
          <p:spPr>
            <a:xfrm>
              <a:off x="1676520" y="1600200"/>
              <a:ext cx="2890800" cy="1143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1523880"/>
              <a:ext cx="304812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%yae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52280" y="29718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leyhe ~yIm;V'mi T'l.p;n" %y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4267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 have fall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267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rom heav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yl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24196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Isaiah 14:1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31T14:44:40Z</dcterms:modified>
  <cp:revision>501</cp:revision>
  <dc:subject/>
  <dc:title>Discipleship Across the Lifespan</dc:title>
</cp:coreProperties>
</file>