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D02-DFF6-4541-B2ED-9B4D10D9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0AE-92C6-4F93-8F5F-DDC8B283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E82-4A7C-4215-984D-541294B9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0F9-69B4-4034-BFBA-26123AA6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211-9F5D-425E-B502-21E7E21D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82E-E07E-403E-936D-B50F8B53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F5C-46BD-46BF-9763-07FF418F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A2A-09D2-485C-ACCB-A1EBD135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485-3EFA-4E47-B72A-598A6665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221-EC70-4BAE-AC12-98CFE248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85A-AF9A-4FEA-A998-1A254759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2D2-996D-49E1-9B65-BD6E2783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C0E4-A255-4C2D-AE85-2A7A44DB2F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2590920"/>
            <a:ext cx="571500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 Review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b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Fathe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ybi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h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il;f'Wr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Jerusalem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#r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and, earth, ground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la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!B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o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w'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'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y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%l,m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K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,[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lave, servan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laer'f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Israel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[or.P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harao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he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n'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Yea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v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Nam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"do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sWs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ors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71600" y="1600200"/>
            <a:ext cx="640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Aab'c. hw"h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ORD of host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'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wOG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I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r,D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, Road, Journ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Ir;c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Egyp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I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IAG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v,m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os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l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b'c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st, ar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h'z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B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y[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d'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ar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w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, b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us,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untain, H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wOq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ice, s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r'AT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'yh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le, pa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r,x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w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p,n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yIB;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ous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ving, alive (adjectiv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l,y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@s,K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q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jP'v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;Bez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un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tteran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l'A[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last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ci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;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ord, th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n"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;Wr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it, wi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f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e, official, comma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[;v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Im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ven, 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q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x;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, behi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th, be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 of definite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, toward, in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til, as far 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hil{a/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od, god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B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twe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wOt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midst, in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k.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sdom, sk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x;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, below, instead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d,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eld, country,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[;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ve, up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Ep.l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for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[;m;l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 account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, out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w"c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and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p,s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, Scro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, upon, on account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b;D.-l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cause of, on account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P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[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23880" y="4800600"/>
            <a:ext cx="6172200" cy="2288520"/>
            <a:chOff x="1523880" y="4800600"/>
            <a:chExt cx="6172200" cy="2288520"/>
          </a:xfrm>
        </p:grpSpPr>
        <p:sp>
          <p:nvSpPr>
            <p:cNvPr id="207" name=""/>
            <p:cNvSpPr/>
            <p:nvPr/>
          </p:nvSpPr>
          <p:spPr>
            <a:xfrm>
              <a:off x="1523880" y="4800600"/>
              <a:ext cx="3124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lae( WnM'î[i 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3040" y="5105160"/>
              <a:ext cx="3353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“God with us” (Isaiah 7:14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213372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ffff"/>
                </a:solidFill>
                <a:latin typeface="Bwhebb"/>
              </a:rPr>
              <a:t>~ynIëP'-la, ~ynIåP'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38862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Im;V'h; tAdl.At hL,a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3276720"/>
            <a:ext cx="3353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#r&lt;a'h'w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2743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2743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i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27432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heave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449568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ear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5715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Genesis 2: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w&lt;n&gt;ynI-la, %l,YE±w: hn"Ay ~q'Y"w: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76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t'y&gt;h' hwEn&gt;ynI)w&gt; hw"hy&gt; rb:d&gt;K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30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hil{ale( hl'AdG&gt;-ry[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238880" y="5450040"/>
            <a:ext cx="174312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nah 3:3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1972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`~ymi(y" tv,l{ïv. %l:ßh]m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1219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ros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1295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Jona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1295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wen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1295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2794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Ninev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265104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ccording to the w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265104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26668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Ninev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2743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he wa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 great cit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4038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54705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 com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re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day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Ay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Day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0-05T16:16:10Z</dcterms:modified>
  <cp:revision>452</cp:revision>
  <dc:subject/>
  <dc:title>Discipleship Across the Lifespan</dc:title>
</cp:coreProperties>
</file>