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024-586F-4D74-9738-2994DD77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C50-5049-4EA4-B65D-5EC5383D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630-F0DE-496A-BD34-39CD9399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8F0-4448-41B8-8E08-BFF9BBC9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E5E-A3AC-46B4-A4C5-4C4E9B13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44D-4600-48A5-8A20-8E752DAE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ACE-CE04-4EF3-BA7C-F2083C6D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CDF6-BBFE-417D-8E73-84FFF5EA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EE3-E028-4EF5-AF0B-515057F8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140-9EE3-4CDC-AA95-2089C457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478-4A3E-423B-8F6D-D65DCEBC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E22-857A-4404-A422-839E26C7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0618-D9BF-4DD1-A22D-9D79CEF07D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2438280"/>
            <a:ext cx="417672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jectiv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ndicates the idea of motion toward someone or something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819520"/>
            <a:ext cx="289548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#r&lt;a'h'-la,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2819520"/>
            <a:ext cx="464832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(toward) the lan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828800" y="533520"/>
            <a:ext cx="522936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rectional Ending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495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 LORD said to Abram, “Go forth from your country, and from your relatives and from your father’s house,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o the l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ich I will show you” (Genesis 12: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ndicates the idea of motion toward someone or something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819520"/>
            <a:ext cx="289548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hc'r&gt;a;,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2819520"/>
            <a:ext cx="464832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(toward) the lan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828800" y="533520"/>
            <a:ext cx="522936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rectional Ending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495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m took Sarai his wife and Lot his nephew… and they set out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r the l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anaan; thus they came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o the l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anaan. (Genesis 12: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4520" y="3124080"/>
            <a:ext cx="838440" cy="91440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~r"a] hn"D&lt;P; %le ~Wq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0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laeWtb. ht'yBe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04600" y="5410080"/>
            <a:ext cx="384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(Genesis 28:2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2147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ris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2147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13372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Pada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2133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ra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411480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the hous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11480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f Bethu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1295280"/>
            <a:ext cx="838080" cy="91440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3276720"/>
            <a:ext cx="838080" cy="91440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c'r&gt;a; bC'mu ~L'su hNEhiw&gt;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m'y&gt;m'V'h; [:yGIm; Avarow&gt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49080" y="5410080"/>
            <a:ext cx="415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(Genesis 28:12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152388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nd behol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152388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 ladde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tanding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15238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the eart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609480"/>
            <a:ext cx="838080" cy="91440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657600"/>
            <a:ext cx="129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nd its head (top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3733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uching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373392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the heave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2819520"/>
            <a:ext cx="838080" cy="91440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2392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 the LORD is a great God And a great King above all gods (Psalm 95:3)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9718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hw"+hy&gt; lAdåG" laeä yKiÛ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4956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`~yhi(l{a/-lK'-l[; lAdªG"÷ %l,m,îW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057400" y="2133720"/>
            <a:ext cx="4876920" cy="82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x'a,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x'a,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hw"hy&gt; laer"f.yI [m;v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449568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dx'a, hw"hy&gt; Wnyhel{a/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59436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Deuteronomy 6:4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AdG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e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0720" y="1272960"/>
            <a:ext cx="2133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L'D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273320"/>
            <a:ext cx="2133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D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1730520"/>
            <a:ext cx="1676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an adjectiv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86200" y="23623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37339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word that modifies, describes, or characterizes a nou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qez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124080" y="4952880"/>
            <a:ext cx="3048120" cy="3750840"/>
            <a:chOff x="3124080" y="4952880"/>
            <a:chExt cx="3048120" cy="3750840"/>
          </a:xfrm>
        </p:grpSpPr>
        <p:sp>
          <p:nvSpPr>
            <p:cNvPr id="133" name=""/>
            <p:cNvSpPr/>
            <p:nvPr/>
          </p:nvSpPr>
          <p:spPr>
            <a:xfrm>
              <a:off x="3124080" y="4952880"/>
              <a:ext cx="144792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!q'z" 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537840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Beard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qez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66320" y="304776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~ynIqez&gt; hr"f'w&gt; ~h'r"b.a;w&gt;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648320"/>
            <a:ext cx="7086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~ymiY"B; ~yaiB'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114800"/>
            <a:ext cx="1752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braha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4114800"/>
            <a:ext cx="1752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ara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36600" y="4156200"/>
            <a:ext cx="17528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ol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5867280"/>
            <a:ext cx="1752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am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5867280"/>
            <a:ext cx="1752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ea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662940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Abraham and Sarah were old, advanced in age (Genesis 18:11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k'x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09680" y="4876920"/>
            <a:ext cx="4953240" cy="2531880"/>
            <a:chOff x="2209680" y="4876920"/>
            <a:chExt cx="4953240" cy="2531880"/>
          </a:xfrm>
        </p:grpSpPr>
        <p:sp>
          <p:nvSpPr>
            <p:cNvPr id="147" name=""/>
            <p:cNvSpPr/>
            <p:nvPr/>
          </p:nvSpPr>
          <p:spPr>
            <a:xfrm>
              <a:off x="2209680" y="4876920"/>
              <a:ext cx="28958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hm'k.x' 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8320" y="525780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Wisdom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k'x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e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wi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your own eyes; Fear the LORD and turn away from evil. (Proverbs 3: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Aj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92240" y="3149640"/>
            <a:ext cx="38606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Aj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123720"/>
            <a:ext cx="70102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is a poor man who walks in his integ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 he who is perverse in speech and is a fool. (Proverbs 19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05120" y="5410080"/>
            <a:ext cx="4495680" cy="1191240"/>
            <a:chOff x="1905120" y="5410080"/>
            <a:chExt cx="4495680" cy="1191240"/>
          </a:xfrm>
        </p:grpSpPr>
        <p:sp>
          <p:nvSpPr>
            <p:cNvPr id="157" name=""/>
            <p:cNvSpPr/>
            <p:nvPr/>
          </p:nvSpPr>
          <p:spPr>
            <a:xfrm>
              <a:off x="2819520" y="5562360"/>
              <a:ext cx="2666880" cy="9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05120" y="541008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vr"-bAj 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p,y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autifu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p,y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66320" y="342864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t came about when he came near to Egypt, that he said to Sarai his wife, “See now, I know that you are a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eautifu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man” (Genesis 12:1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p,y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43000" y="2971440"/>
            <a:ext cx="678168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Joseph was handsome in form and appearance (Genesis 39: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191120"/>
            <a:ext cx="7162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ra;to-hpey&gt; @seêAy yhiäy&gt;w: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5410080"/>
            <a:ext cx="7162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`ha,r&gt;m; hpeywI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v'y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pright, stra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an adjectiv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86200" y="23623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35812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ving Go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ood king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ighteous judge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inful ma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v'y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glad in the LORD and rejoice, you righteous on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hout for joy, all you who are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uprig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in heart. (Psalm 32:1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Ke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, thus, therefo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aom.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y mu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0" y="3657600"/>
            <a:ext cx="56386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aom.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7720" y="312372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od saw every thing that he had made, and, behol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w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good (Genesis 1:3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600200" y="4952880"/>
            <a:ext cx="5486400" cy="3750840"/>
            <a:chOff x="1600200" y="4952880"/>
            <a:chExt cx="5486400" cy="3750840"/>
          </a:xfrm>
        </p:grpSpPr>
        <p:sp>
          <p:nvSpPr>
            <p:cNvPr id="179" name=""/>
            <p:cNvSpPr/>
            <p:nvPr/>
          </p:nvSpPr>
          <p:spPr>
            <a:xfrm>
              <a:off x="1752480" y="5105520"/>
              <a:ext cx="5105520" cy="121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00200" y="4952880"/>
              <a:ext cx="548640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dao+m. bAjß-hNEhiw&gt; 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j[;m.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w, lit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T'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last, after a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qyDIc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ghteo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d,q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li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Adq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l[; tr&lt;PoK;h;-ta, T't;n"w&gt;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yvid"Q\h; vd&lt;qoB. tdU[eh' !Ara]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56386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xodus 26:3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152388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shall giv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152388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vering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152388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91520" y="38862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k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388620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testimon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388620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ol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962520"/>
            <a:ext cx="2209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holi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jectives change their forms to indicate gender and numb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400" y="704880"/>
            <a:ext cx="708660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jective Inflectio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j'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mall, you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j'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made the two great lights, the greater light to govern the day, and the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less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ght to govern the night (Genesis 1:1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j'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Noah awoke from his wine, he knew what his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young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n had done to him. (Genesis 9:2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4348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r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e ne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91000" y="1295280"/>
            <a:ext cx="4348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wOr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95920" y="3886200"/>
            <a:ext cx="3581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a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v,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ficu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v,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made their lives bitter with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abor in mortar and bricks and at al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ind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labor in the field, all their labors which they rigorously imposed on them (Exodus 1:1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qAxr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r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5530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rom which is derived “rabbi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43000" y="4724280"/>
            <a:ext cx="6934320" cy="1846440"/>
            <a:chOff x="1143000" y="4724280"/>
            <a:chExt cx="6934320" cy="1846440"/>
          </a:xfrm>
        </p:grpSpPr>
        <p:sp>
          <p:nvSpPr>
            <p:cNvPr id="222" name=""/>
            <p:cNvSpPr/>
            <p:nvPr/>
          </p:nvSpPr>
          <p:spPr>
            <a:xfrm>
              <a:off x="6553080" y="4724280"/>
              <a:ext cx="152424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[re 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43000" y="5165640"/>
              <a:ext cx="58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ffff"/>
                  </a:solidFill>
                  <a:latin typeface="Arial"/>
                </a:rPr>
                <a:t>Not to be confused with</a:t>
              </a:r>
              <a:endParaRPr b="0" lang="en-US" sz="4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43000" y="5867280"/>
              <a:ext cx="678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ffff"/>
                  </a:solidFill>
                  <a:latin typeface="Arial"/>
                </a:rPr>
                <a:t>which means “companion”</a:t>
              </a:r>
              <a:endParaRPr b="0" lang="en-US" sz="4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[r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ccffff"/>
                </a:solidFill>
                <a:latin typeface="Bwhebb"/>
              </a:rPr>
              <a:t>[r"w" bAj t[;D:h; #[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933960" y="2666520"/>
            <a:ext cx="1600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24280" y="2590920"/>
            <a:ext cx="1981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knowledg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2590920"/>
            <a:ext cx="1218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f) goo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590920"/>
            <a:ext cx="1218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evi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4038480"/>
            <a:ext cx="4038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Genesis 2:9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4114800" cy="102096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asculin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4114800" cy="102096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Feminin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529080"/>
            <a:ext cx="4114800" cy="12189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vyaih' bwOj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4114800" cy="1935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man is good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748040"/>
            <a:ext cx="411480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bwOj vyaih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748040"/>
            <a:ext cx="411480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b'wOj hv'yaih' 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600200"/>
            <a:ext cx="4114800" cy="1935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woman is good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529080"/>
            <a:ext cx="4114800" cy="12189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v'yaih' hb'wOj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2971800"/>
            <a:ext cx="35053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n the LORD saw that the wickedness of man was great on the earth, and that every intent of the thoughts of his heart was only evil continually (Genesis 6:5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143000" y="4495680"/>
            <a:ext cx="6629400" cy="3020040"/>
            <a:chOff x="1143000" y="4495680"/>
            <a:chExt cx="6629400" cy="3020040"/>
          </a:xfrm>
        </p:grpSpPr>
        <p:sp>
          <p:nvSpPr>
            <p:cNvPr id="235" name=""/>
            <p:cNvSpPr/>
            <p:nvPr/>
          </p:nvSpPr>
          <p:spPr>
            <a:xfrm>
              <a:off x="1828800" y="4724280"/>
              <a:ext cx="525780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43000" y="4495680"/>
              <a:ext cx="66294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~AYh;-lK' [r: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[v'r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ck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yv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rIyVih; ryv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5333760" y="2057040"/>
            <a:ext cx="1904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3276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ol{v.li rv,a]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05740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ong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4648320"/>
            <a:ext cx="1904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457200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s) to Solom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4114800" cy="193536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ttributive Us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52280"/>
            <a:ext cx="4114800" cy="193536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edicative Us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470400"/>
            <a:ext cx="4114800" cy="12189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bwOjh; vyaih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133720"/>
            <a:ext cx="4114800" cy="133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n is goo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70400"/>
            <a:ext cx="4114800" cy="12189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vyaih' bwOj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3720"/>
            <a:ext cx="4114800" cy="133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od ma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689360"/>
            <a:ext cx="4114800" cy="2057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 after the noun it modifies; agrees in definitenes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689360"/>
            <a:ext cx="4114800" cy="2057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precedes the noun but does not have the definite articl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209680"/>
            <a:ext cx="411480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bwOjh; vyaih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463920"/>
            <a:ext cx="4114800" cy="225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od ma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ttributive order can be reversed for emphasi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2209680"/>
            <a:ext cx="411480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vyaih' bwOjh;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63920"/>
            <a:ext cx="4114800" cy="225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o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n (emphasis upon the word “good”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substantive use of the adjective is when the adjective is used in place of a noun that is merely understood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114800"/>
            <a:ext cx="2286000" cy="213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bwOjh;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4114800"/>
            <a:ext cx="4648320" cy="213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od man”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the good thing”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bstantive Use of the Adjec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480" y="1905120"/>
            <a:ext cx="7772400" cy="3124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philim were on the earth in those days, and also afterward, when the sons of God came in to the daughters of men, and they bo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hildr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m. Those were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mighty m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old, men of renown. (Genesis 6: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909960"/>
            <a:ext cx="3200400" cy="533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600200" y="5181480"/>
            <a:ext cx="3048120" cy="3750840"/>
            <a:chOff x="1600200" y="5181480"/>
            <a:chExt cx="3048120" cy="3750840"/>
          </a:xfrm>
        </p:grpSpPr>
        <p:sp>
          <p:nvSpPr>
            <p:cNvPr id="78" name=""/>
            <p:cNvSpPr/>
            <p:nvPr/>
          </p:nvSpPr>
          <p:spPr>
            <a:xfrm>
              <a:off x="1676520" y="5334120"/>
              <a:ext cx="289548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00200" y="5181480"/>
              <a:ext cx="304812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~yrI±BoGIh; 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10-10T01:14:49Z</dcterms:modified>
  <cp:revision>465</cp:revision>
  <dc:subject/>
  <dc:title>Discipleship Across the Lifespan</dc:title>
</cp:coreProperties>
</file>