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90E-15ED-46BE-8AB2-6D912B24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1B0-6FDE-425F-BDE8-B9E3717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B48-0BC8-4759-925C-BD028B8B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DF3-41B9-4C8D-A726-A92FFB8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7FF-CAF1-4B39-BD4B-FCC83E9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CA9-7067-4A42-BDB4-25F8BC8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7FF-D833-46E6-9B39-B9D71E8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2A7-7A1E-415C-800B-D9CE3C93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F1D-2BD4-4811-8131-551AFDB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001-9E37-443B-A5AB-C0F8F4F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2A5-7934-4337-A2EE-7FA6F93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3D2-69BA-4D2C-A8D3-4DD1B8F3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5288-C7AF-4D37-A2C8-5234CED2D5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y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r'f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srae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2819520" y="35053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o cast, throw, or shoo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219320" y="31240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r'y"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2819520" y="55627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914400" y="51814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Alv'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32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Can be used of casting a founda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w'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r;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,m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K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s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r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lave, serv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[or.P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harao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n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e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v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"do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wOG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,D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, Road, J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nd, earth, groun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l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bi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p,s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, Sc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b'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t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5029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used as a verb: To make war, ser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, god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O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ice,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'y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, pa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, b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h'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ving, alive (adjectiv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l,y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s,K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us,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V'h; tAdl.At hL,a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276720"/>
            <a:ext cx="3353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7432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heave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9568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71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Genesis 2: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Bez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un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ter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l'A[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n"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, w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, official, comma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[;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52480" y="4876920"/>
            <a:ext cx="5943600" cy="1523520"/>
            <a:chOff x="1752480" y="4876920"/>
            <a:chExt cx="5943600" cy="1523520"/>
          </a:xfrm>
        </p:grpSpPr>
        <p:sp>
          <p:nvSpPr>
            <p:cNvPr id="177" name=""/>
            <p:cNvSpPr/>
            <p:nvPr/>
          </p:nvSpPr>
          <p:spPr>
            <a:xfrm>
              <a:off x="1752480" y="4876920"/>
              <a:ext cx="2057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r[;v'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6720" y="5257800"/>
              <a:ext cx="441936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WP TypographicSymbols"/>
                </a:rPr>
                <a:t>B 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o split open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ven, 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d"a'h'-ta, ~yhil{a/ hw"hy&gt; rc,yYIw: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38880" y="1219320"/>
            <a:ext cx="1524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12952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12952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2971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dus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288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wyP'a;B. xP;YIw: hm'd"a]h'-!mi rp'[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2193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2971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8954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oun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8954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reath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8954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his nostril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7339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p,n&lt;l. ~d"a'h' yhiy&gt;w: ~yYIx; tm;v.nI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8006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8006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liv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80060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beca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80060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80060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 sou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5105520"/>
            <a:ext cx="1828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Y"x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v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59436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nesis 2:7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B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d, th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9-20T14:54:16Z</dcterms:modified>
  <cp:revision>447</cp:revision>
  <dc:subject/>
  <dc:title>Discipleship Across the Lifespan</dc:title>
</cp:coreProperties>
</file>