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352-EBC9-4CE6-BA96-3F7EBC06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D24-B17B-43BF-95D4-05943BB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192-9024-4B9D-81C0-C3085A30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182-33EC-4E8B-BC37-808E2B69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632-0C30-4DA9-A27B-B02CAED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1D9-CB5B-4830-89D8-01B9DC13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B16-B21A-4DFD-A002-2C60407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866-82C3-44E5-8396-B37F6EC2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28F-327A-46C2-A14E-9B900FBF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FC7-15B9-4BFC-B946-DCEF516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A1D-80D9-4D65-ADA2-1CECAE07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57C-6629-4A50-92DB-C005FB3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98E1-5AA1-46A2-B183-946F3A2598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514600"/>
            <a:ext cx="439092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brew No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regular Feminine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al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rly indicate two of a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66880" y="609480"/>
            <a:ext cx="400068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cep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133720" y="44197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dy"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191120" y="4419720"/>
            <a:ext cx="2361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d;y"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and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ands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regular Feminine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al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rly indicate two of a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words are always dual in 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666880" y="609480"/>
            <a:ext cx="400068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cep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971800" y="502920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m;v'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895480" y="586728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r;c.mi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27920" y="51055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24680" y="5911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105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aven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regular Feminine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al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rly indicate two of a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words are always dual in 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66880" y="609480"/>
            <a:ext cx="400068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cep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971800" y="502920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m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27920" y="51055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5105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regular Feminine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al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regular stem chan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666880" y="609480"/>
            <a:ext cx="400068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cep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9480" y="4343400"/>
            <a:ext cx="3886200" cy="1600200"/>
            <a:chOff x="609480" y="4343400"/>
            <a:chExt cx="3886200" cy="1600200"/>
          </a:xfrm>
        </p:grpSpPr>
        <p:sp>
          <p:nvSpPr>
            <p:cNvPr id="133" name="Rectangle 2"/>
            <p:cNvSpPr/>
            <p:nvPr/>
          </p:nvSpPr>
          <p:spPr>
            <a:xfrm>
              <a:off x="914400" y="4343400"/>
              <a:ext cx="25146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vyai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19520" y="438768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Man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5" name="Rectangle 2"/>
            <p:cNvSpPr/>
            <p:nvPr/>
          </p:nvSpPr>
          <p:spPr>
            <a:xfrm>
              <a:off x="609480" y="5235480"/>
              <a:ext cx="27432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~yv;n&gt;a]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5480" y="528012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Men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37" name="Rectangle 2"/>
          <p:cNvSpPr/>
          <p:nvPr/>
        </p:nvSpPr>
        <p:spPr>
          <a:xfrm>
            <a:off x="4648320" y="434340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V'a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4419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Woma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648320" y="5257800"/>
            <a:ext cx="2743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vin"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5334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Wome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ynonym is one of a group of words that share the same basic meaning, but with completely different spellings and s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6880" y="437364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udent and Pupi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666880" y="3733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by and Infa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6880" y="4983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mart and Intellig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different Hebrew words that are translated “man?”  In what ways are they distinc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85800" y="363528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ya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124080" y="363528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d'a'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5486400" y="363528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Ana/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mony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monym is one of a group of words that share the same spelling or pronunciation (or both) but have different mean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666880" y="4373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wo, too, to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66880" y="3733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run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2514600"/>
            <a:ext cx="12952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01080" y="2057400"/>
            <a:ext cx="1143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mony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876560" y="15235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serpent was more crafty than any beast of the field which the LORD God had m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nesis 3:1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28600" y="1523880"/>
            <a:ext cx="37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 man and his wife were both naked and were not ashamed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Genesis 2:25)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76040" y="5334120"/>
            <a:ext cx="6906240" cy="5205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ich word in the Hebrew is a Homonym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566160" y="594360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~Wr['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90920" y="2209680"/>
            <a:ext cx="388116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"do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57400" y="4092480"/>
            <a:ext cx="4876920" cy="1469880"/>
            <a:chOff x="2057400" y="4092480"/>
            <a:chExt cx="4876920" cy="1469880"/>
          </a:xfrm>
        </p:grpSpPr>
        <p:sp>
          <p:nvSpPr>
            <p:cNvPr id="166" name=""/>
            <p:cNvSpPr/>
            <p:nvPr/>
          </p:nvSpPr>
          <p:spPr>
            <a:xfrm>
              <a:off x="2057400" y="4092480"/>
              <a:ext cx="22096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!Ada'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4092480"/>
              <a:ext cx="22100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!doa'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480" y="462564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or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ebrew Nouns are divided into three classes: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65530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itive nou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nouns have been derived from ver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nouns are derived from other nou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y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00200" y="4724280"/>
            <a:ext cx="6324480" cy="1469880"/>
            <a:chOff x="1600200" y="4724280"/>
            <a:chExt cx="6324480" cy="1469880"/>
          </a:xfrm>
        </p:grpSpPr>
        <p:sp>
          <p:nvSpPr>
            <p:cNvPr id="174" name=""/>
            <p:cNvSpPr/>
            <p:nvPr/>
          </p:nvSpPr>
          <p:spPr>
            <a:xfrm>
              <a:off x="5867280" y="4724280"/>
              <a:ext cx="2057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vAna/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0200" y="516564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ffff"/>
                  </a:solidFill>
                  <a:latin typeface="Arial"/>
                </a:rPr>
                <a:t>Contracted form of</a:t>
              </a:r>
              <a:endParaRPr b="0" lang="en-US" sz="4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'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B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wOG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r,D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, Road, Jour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00200" y="4876920"/>
            <a:ext cx="5562720" cy="1469880"/>
            <a:chOff x="1600200" y="4876920"/>
            <a:chExt cx="5562720" cy="1469880"/>
          </a:xfrm>
        </p:grpSpPr>
        <p:sp>
          <p:nvSpPr>
            <p:cNvPr id="185" name=""/>
            <p:cNvSpPr/>
            <p:nvPr/>
          </p:nvSpPr>
          <p:spPr>
            <a:xfrm>
              <a:off x="1600200" y="4876920"/>
              <a:ext cx="23623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%r;D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5333760"/>
              <a:ext cx="358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walk, trave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ntain, H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7920" y="4191120"/>
            <a:ext cx="6400800" cy="1600560"/>
            <a:chOff x="1447920" y="4191120"/>
            <a:chExt cx="6400800" cy="1600560"/>
          </a:xfrm>
        </p:grpSpPr>
        <p:sp>
          <p:nvSpPr>
            <p:cNvPr id="190" name=""/>
            <p:cNvSpPr/>
            <p:nvPr/>
          </p:nvSpPr>
          <p:spPr>
            <a:xfrm>
              <a:off x="1447920" y="4191120"/>
              <a:ext cx="21333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rr'h'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4600440"/>
              <a:ext cx="472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Mountain (full form of the word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l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33720" y="4800600"/>
            <a:ext cx="5409720" cy="1600920"/>
            <a:chOff x="2133720" y="4800600"/>
            <a:chExt cx="5409720" cy="1600920"/>
          </a:xfrm>
        </p:grpSpPr>
        <p:sp>
          <p:nvSpPr>
            <p:cNvPr id="197" name=""/>
            <p:cNvSpPr/>
            <p:nvPr/>
          </p:nvSpPr>
          <p:spPr>
            <a:xfrm>
              <a:off x="2133720" y="4800600"/>
              <a:ext cx="182844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bb'le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7600" y="5210280"/>
              <a:ext cx="388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Heart (full form of the word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4343400" cy="11732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371600"/>
            <a:ext cx="43434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%a;l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4496040" cy="11732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u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1371600"/>
            <a:ext cx="449604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%a;l.m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in accordan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1828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sseng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743200"/>
            <a:ext cx="43434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!t;n"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2743200"/>
            <a:ext cx="449604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!t;n"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3230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giv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gif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114800"/>
            <a:ext cx="43434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~Wq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114800"/>
            <a:ext cx="449604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~Aqm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602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ri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4572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pla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5486400"/>
            <a:ext cx="43434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jp;v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486400"/>
            <a:ext cx="449604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jP'v.mi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5973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judg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94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udg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p,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33720" y="4724280"/>
            <a:ext cx="6248160" cy="1648440"/>
            <a:chOff x="2133720" y="4724280"/>
            <a:chExt cx="6248160" cy="1648440"/>
          </a:xfrm>
        </p:grpSpPr>
        <p:sp>
          <p:nvSpPr>
            <p:cNvPr id="204" name=""/>
            <p:cNvSpPr/>
            <p:nvPr/>
          </p:nvSpPr>
          <p:spPr>
            <a:xfrm>
              <a:off x="2133720" y="4724280"/>
              <a:ext cx="190476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vp;n"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5181480"/>
              <a:ext cx="472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Refresh, catch your breath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ybi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h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905120" y="4800600"/>
            <a:ext cx="5181480" cy="1648440"/>
            <a:chOff x="1905120" y="4800600"/>
            <a:chExt cx="5181480" cy="1648440"/>
          </a:xfrm>
        </p:grpSpPr>
        <p:sp>
          <p:nvSpPr>
            <p:cNvPr id="209" name=""/>
            <p:cNvSpPr/>
            <p:nvPr/>
          </p:nvSpPr>
          <p:spPr>
            <a:xfrm>
              <a:off x="1905120" y="4800600"/>
              <a:ext cx="25146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ab'n"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520" y="525780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prophesy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p,s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, Sc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362320" y="4952880"/>
            <a:ext cx="4495680" cy="1317600"/>
            <a:chOff x="2362320" y="4952880"/>
            <a:chExt cx="4495680" cy="1317600"/>
          </a:xfrm>
        </p:grpSpPr>
        <p:sp>
          <p:nvSpPr>
            <p:cNvPr id="214" name=""/>
            <p:cNvSpPr/>
            <p:nvPr/>
          </p:nvSpPr>
          <p:spPr>
            <a:xfrm>
              <a:off x="2362320" y="4952880"/>
              <a:ext cx="236196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rp;s'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91120" y="533412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count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I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[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b'c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st,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used as a verb: To make war, ser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Oq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ice,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r'AT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81080" y="4572000"/>
            <a:ext cx="5334120" cy="1164960"/>
            <a:chOff x="1981080" y="4572000"/>
            <a:chExt cx="5334120" cy="1164960"/>
          </a:xfrm>
        </p:grpSpPr>
        <p:sp>
          <p:nvSpPr>
            <p:cNvPr id="230" name=""/>
            <p:cNvSpPr/>
            <p:nvPr/>
          </p:nvSpPr>
          <p:spPr>
            <a:xfrm>
              <a:off x="1981080" y="4572000"/>
              <a:ext cx="220968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r'y"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33560" y="4876560"/>
              <a:ext cx="358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throw, pour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752480" y="5835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 Hiphil stem, “to teach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m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prefix often changes the verb into a nou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1148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prefix can do this, to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44956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jP'v.mi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3657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udg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657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200400"/>
            <a:ext cx="39625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jp;v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687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judg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4343400" cy="11732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447920"/>
            <a:ext cx="434340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dl;y"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28600"/>
            <a:ext cx="4648320" cy="11732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u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600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ive birt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8954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hild will be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or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us (Isaiah 9:6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447920"/>
            <a:ext cx="464832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hd'l.AT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666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enerat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37339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ccou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heaven and the earth (Genesis 2:4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4343400" cy="11732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447920"/>
            <a:ext cx="434340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bv;y"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28600"/>
            <a:ext cx="4648320" cy="11732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u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16002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sit or dwel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9718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Canaanite and the Perizzite were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well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in the land (Genesis 13:7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1447920"/>
            <a:ext cx="4648320" cy="4114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bv'AT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193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journ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7432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ojourn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a hired servant shall not eat of it. (Exodus 12:4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3124080" cy="1554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sculine Nou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85800"/>
            <a:ext cx="3124080" cy="1554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eminine Nou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2209680"/>
            <a:ext cx="243864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505320"/>
            <a:ext cx="2438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4800600"/>
            <a:ext cx="2438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209680"/>
            <a:ext cx="312408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sWs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209680"/>
            <a:ext cx="312408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r'A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05320"/>
            <a:ext cx="312408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~ysiWs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505320"/>
            <a:ext cx="312408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wOrA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4800600"/>
            <a:ext cx="312408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~yIs;Ws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4800600"/>
            <a:ext cx="312408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yIt;r'A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Feminine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uns referring to feminine persons or animals will be femi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uns ending in      will normally be feminine in g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uns ending in     will normally be feminine in ge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uns that refer to parts of the body that exist in pairs are usually femi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666880"/>
            <a:ext cx="83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h "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t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regular Feminine Nou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66880" y="609480"/>
            <a:ext cx="400068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cep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752480" y="259056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#r,[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590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t'cor&gt;a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11680" y="2895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373392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ry[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3733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rI[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1680" y="4038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752480" y="510552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1680" y="51498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343400" y="510552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Bwhebb"/>
              </a:rPr>
              <a:t>twOba'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9-11T18:35:09Z</dcterms:modified>
  <cp:revision>424</cp:revision>
  <dc:subject/>
  <dc:title>Discipleship Across the Lifespan</dc:title>
</cp:coreProperties>
</file>