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40F-1F70-4BAB-8F52-17F6C655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D04-A5ED-48BA-B54C-3CA0AB41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12B-DA6A-466B-8E3F-16AAEE8E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C6A-77CB-49C6-8013-6FEB3A1D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5DD-815E-44D2-B6A5-976AE4F6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7F9-5CF7-4776-AB7F-F133D9E3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E3B-09CF-4CAD-944F-1AF44DA6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A8F-A231-4AF9-9F52-17E0F976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87F-1BA2-4BAF-8A3B-1BA09C0C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BC1-FA73-4363-B45A-C0060535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FAF-7341-4592-B464-F03877C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4CF-D9F5-4606-9051-F8B7D4FF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A308-F681-4DA9-A11D-8D5F653C5E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64524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whebb"/>
              </a:rPr>
              <a:t>dy"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Ay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Aa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whebb"/>
              </a:rPr>
              <a:t>tAxa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whebb"/>
              </a:rPr>
              <a:t>tw&lt;m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whebb"/>
              </a:rPr>
              <a:t>!yI[;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whebb"/>
              </a:rPr>
              <a:t>vr,xo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ecff"/>
                </a:solidFill>
                <a:latin typeface="Bwhebb"/>
              </a:rPr>
              <a:t>qyDIc; 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ar'B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Two Rules of Syllabl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syllable begins with one consonant followed by one vow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syll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(ends with a vow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d (ends with a consona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981080" y="5105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;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#r,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V'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m;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br,[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d'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%l,m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qx'c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vp,n&l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!j'f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v'a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 English, you sometimes have the same consonant doubled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1600200"/>
            <a:ext cx="3733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a</a:t>
            </a: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mm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r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</a:t>
            </a: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n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y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u</a:t>
            </a: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l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96252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brew does this with a Dagesh For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5302080"/>
            <a:ext cx="281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hV'ai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x;Wr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Im;v'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r'AT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w"h.y: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yrI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hn"V'h; varo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Bwhebb"/>
              </a:rPr>
              <a:t>^v.d&gt;q' x:Wr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-304920" y="304920"/>
            <a:ext cx="98298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ar"B" tyvireb.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806480"/>
            <a:ext cx="914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aew&gt; ~yIm]V"h; ta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438280" y="3330720"/>
            <a:ext cx="41911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`#r,a"h"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28600" y="380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Whbow" Whto ht'y&gt;h' #r&lt;a'h'w&gt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8600" y="1654200"/>
            <a:ext cx="86868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~Aht. ynEP.-l[; %v,xow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28600" y="31240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tp,x,r:m. ~yhil{a/ x:Wrw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28600" y="4473720"/>
            <a:ext cx="86868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~yIM'h; ynEP.-l[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Aa yhiy&gt; ~yhil{a/ rm,aYOw: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Aa-yhiy&gt;w: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114800" cy="9903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gesh For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04920"/>
            <a:ext cx="4114800" cy="9903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gesh Le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411480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295280"/>
            <a:ext cx="4114800" cy="99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4114800" cy="1295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s a letter by doubling i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286000"/>
            <a:ext cx="4114800" cy="1295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Begadkephat lett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81280"/>
            <a:ext cx="41148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letter excep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581280"/>
            <a:ext cx="411480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i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x a [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8862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p k d g b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45720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Bwhebb"/>
              </a:rPr>
              <a:t>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Aah'-ta, ~yhil{a/ ar&gt;Y:w: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74880"/>
            <a:ext cx="9144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yhil{a/ lDEb.Y:w: bAj-yKi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98760"/>
            <a:ext cx="9144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%v,xoh; !ybeW rAah' !yBe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304920"/>
            <a:ext cx="91440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`^r,m.v.yIw&gt; hw"hy&gt; ^k.r,b'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806480"/>
            <a:ext cx="914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^yl,ae wyn"P' hw"hy&gt; raey"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791320" y="3178080"/>
            <a:ext cx="3352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`&amp;'N&lt;xuyw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1" descr=""/>
          <p:cNvPicPr/>
          <p:nvPr/>
        </p:nvPicPr>
        <p:blipFill>
          <a:blip r:embed="rId2"/>
          <a:stretch/>
        </p:blipFill>
        <p:spPr>
          <a:xfrm>
            <a:off x="1731960" y="1878120"/>
            <a:ext cx="569268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d'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d'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Title 1"/>
          <p:cNvSpPr/>
          <p:nvPr/>
        </p:nvSpPr>
        <p:spPr>
          <a:xfrm>
            <a:off x="1828800" y="3200400"/>
            <a:ext cx="213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2819520"/>
            <a:ext cx="2362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~doa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Title 1"/>
          <p:cNvSpPr/>
          <p:nvPr/>
        </p:nvSpPr>
        <p:spPr>
          <a:xfrm>
            <a:off x="1828800" y="419112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do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3809880"/>
            <a:ext cx="2362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~wOda/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1905120" y="525780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lo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52280" y="4876920"/>
            <a:ext cx="2362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~d'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6095880" y="3200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191120" y="2819520"/>
            <a:ext cx="236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hm'd'a]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d'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00200" y="3429000"/>
            <a:ext cx="5943600" cy="1171440"/>
            <a:chOff x="1600200" y="3429000"/>
            <a:chExt cx="5943600" cy="1171440"/>
          </a:xfrm>
        </p:grpSpPr>
        <p:sp>
          <p:nvSpPr>
            <p:cNvPr id="128" name="Title 1"/>
            <p:cNvSpPr/>
            <p:nvPr/>
          </p:nvSpPr>
          <p:spPr>
            <a:xfrm>
              <a:off x="1600200" y="3457440"/>
              <a:ext cx="4267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ffff"/>
                  </a:solidFill>
                  <a:latin typeface="Arial"/>
                </a:rPr>
                <a:t>Contrast with</a:t>
              </a:r>
              <a:endParaRPr b="0" lang="en-US" sz="44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29" name="Rectangle 2"/>
            <p:cNvSpPr/>
            <p:nvPr/>
          </p:nvSpPr>
          <p:spPr>
            <a:xfrm>
              <a:off x="4800600" y="3429000"/>
              <a:ext cx="27432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ecff"/>
                  </a:solidFill>
                  <a:latin typeface="Bwhebb"/>
                </a:rPr>
                <a:t>vyai 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00200" y="4724280"/>
            <a:ext cx="6095880" cy="1171800"/>
            <a:chOff x="1600200" y="4724280"/>
            <a:chExt cx="6095880" cy="1171800"/>
          </a:xfrm>
        </p:grpSpPr>
        <p:sp>
          <p:nvSpPr>
            <p:cNvPr id="131" name="Title 1"/>
            <p:cNvSpPr/>
            <p:nvPr/>
          </p:nvSpPr>
          <p:spPr>
            <a:xfrm>
              <a:off x="1600200" y="4753080"/>
              <a:ext cx="4267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ffff"/>
                  </a:solidFill>
                  <a:latin typeface="Arial"/>
                </a:rPr>
                <a:t>Contrast with</a:t>
              </a:r>
              <a:endParaRPr b="0" lang="en-US" sz="44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32" name="Rectangle 2"/>
            <p:cNvSpPr/>
            <p:nvPr/>
          </p:nvSpPr>
          <p:spPr>
            <a:xfrm>
              <a:off x="4952880" y="4724280"/>
              <a:ext cx="27432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cecff"/>
                  </a:solidFill>
                  <a:latin typeface="Bwhebb"/>
                </a:rPr>
                <a:t>vAna/ </a:t>
              </a:r>
              <a:endParaRPr b="0" lang="en-US" sz="8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#r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and, earth, groun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#r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762120" y="3200400"/>
            <a:ext cx="7619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beginning God created the heavens an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(Genesis 1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7621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in went out from the presence of the LORD, and settle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Nod, east of Eden. (Genesis 4:1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#r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762120" y="3200400"/>
            <a:ext cx="7619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blot out from the face of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ry living thing that I have made” (Genesis 7: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838080" y="4876920"/>
            <a:ext cx="7620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ruitful, and multiply, and replenish the earth” (Genesis 9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#r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762120" y="3200400"/>
            <a:ext cx="7619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me about as they journeyed east, that they found a plain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Shinar and settled there (Genesis 11:2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yIm;V'h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438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Y"x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5053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NEhi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920"/>
            <a:ext cx="4114800" cy="9903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gesh For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04920"/>
            <a:ext cx="4114800" cy="990360"/>
          </a:xfrm>
          <a:prstGeom prst="rect">
            <a:avLst/>
          </a:prstGeom>
          <a:gradFill rotWithShape="0">
            <a:gsLst>
              <a:gs pos="0">
                <a:srgbClr val="820019"/>
              </a:gs>
              <a:gs pos="100000">
                <a:srgbClr val="3b000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gesh Le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13716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lK'-ta,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2438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nEP.-l[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5053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AB-rv,a]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#r,a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Title 1"/>
          <p:cNvSpPr/>
          <p:nvPr/>
        </p:nvSpPr>
        <p:spPr>
          <a:xfrm>
            <a:off x="1295280" y="3200400"/>
            <a:ext cx="7620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 LORD said to Abram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forth from you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rom your relatives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from your father’s house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I will show you” (Genesis 12:1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od, god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533520" y="4038480"/>
            <a:ext cx="8229600" cy="2514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en all the leaders of the tower of Shechem heard of 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it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they entered the inner chamber of the temple of El-berith (Judges 9:46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2590920" y="29718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 (strength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371600" y="259092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la/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533520" y="4038480"/>
            <a:ext cx="8229600" cy="1219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Mighty One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, God, the LORD, has spoken (Psalm 50:1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2590920" y="29718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 (strength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371600" y="259092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la/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518148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B,DI hw"hy&gt; ~yhil{a/ lae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533520" y="4114800"/>
            <a:ext cx="8381880" cy="2362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mountains were covered with its shadow,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the cedars of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God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with its bough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Psalm 80:10, NAS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2590920" y="29718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 (strength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371600" y="259092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la/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Title 1"/>
          <p:cNvSpPr/>
          <p:nvPr/>
        </p:nvSpPr>
        <p:spPr>
          <a:xfrm>
            <a:off x="533520" y="4267080"/>
            <a:ext cx="8381880" cy="18288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mountains were covered with its shade, the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mighty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cedars with its branches. (Psalm 80:10, NIV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2590920" y="29718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 (strength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371600" y="259092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la/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hil{a/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2590920" y="3962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 (mostly in Job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762120" y="3581280"/>
            <a:ext cx="236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H;Ala/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2590920" y="2971800"/>
            <a:ext cx="419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od (strength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371600" y="259092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whebb"/>
              </a:rPr>
              <a:t>la/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b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Fath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b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Title 1"/>
          <p:cNvSpPr/>
          <p:nvPr/>
        </p:nvSpPr>
        <p:spPr>
          <a:xfrm>
            <a:off x="533520" y="2971800"/>
            <a:ext cx="7848360" cy="18288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is reason a man shall leave hi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th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his mother, and be joined to his wife… (Genesis 2:24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b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533520" y="2971800"/>
            <a:ext cx="7848360" cy="18288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dah gave birth to Jabal; he was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ath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those who dwell in tents an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vestock (Genesis 4:20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whebb"/>
              </a:rPr>
              <a:t>ba' 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ba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066680" y="2971800"/>
            <a:ext cx="7010640" cy="2743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shall your name be called Abram,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your name shall be Abraham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 will make you the father of a multitude of nations” (Genesis 17:5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la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God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!B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o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n as a Figurative Ter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n of the possession” (</a:t>
            </a:r>
            <a:r>
              <a:rPr b="0" lang="en-US" sz="4400" spc="-1" strike="noStrike">
                <a:solidFill>
                  <a:srgbClr val="ffffff"/>
                </a:solidFill>
                <a:latin typeface="Bwhebb"/>
              </a:rPr>
              <a:t>qv,m,‑!b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as an heir (Genesis 15: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n of a house”(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ytiyBe‑!b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is one who is such a close friend that he is like a member of the family (Genesis 15: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n of death” (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tw&lt;m'‑!b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is one who deserves to die (1 Samuel 20:31) or who has been condemned to die (Psalm 102:2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n of Gehinnon” is someone who is bound for hell (Matthew 23: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n as a Figurative Ter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en Abram was ninety years (                    ) old and nine…”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7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term “sons” (</a:t>
            </a:r>
            <a:r>
              <a:rPr b="0" lang="en-US" sz="4000" spc="-1" strike="noStrike">
                <a:solidFill>
                  <a:srgbClr val="ffffff"/>
                </a:solidFill>
                <a:latin typeface="Bwhebb"/>
              </a:rPr>
              <a:t>yn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s it is used in Jeremiah 48:4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676520"/>
            <a:ext cx="34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hebb"/>
              </a:rPr>
              <a:t>~y[iv.Ti-!B,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85800" y="4419720"/>
            <a:ext cx="7848720" cy="2684520"/>
            <a:chOff x="685800" y="4419720"/>
            <a:chExt cx="7848720" cy="2684520"/>
          </a:xfrm>
        </p:grpSpPr>
        <p:sp>
          <p:nvSpPr>
            <p:cNvPr id="187" name=""/>
            <p:cNvSpPr/>
            <p:nvPr/>
          </p:nvSpPr>
          <p:spPr>
            <a:xfrm>
              <a:off x="762120" y="4419720"/>
              <a:ext cx="7772400" cy="1556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 it has devoured the forehead of Moab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d the scalps of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iotous revelers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(          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WP TypographicSymbols"/>
                </a:rPr>
                <a:t>B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literally, sons of uproar)</a:t>
              </a:r>
              <a:endParaRPr b="0" lang="en-US" sz="32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" y="5181480"/>
              <a:ext cx="2743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ffff"/>
                  </a:solidFill>
                  <a:latin typeface="Bwhebb"/>
                </a:rPr>
                <a:t>!Aav' ynEB. </a:t>
              </a:r>
              <a:endParaRPr b="0" lang="en-US" sz="6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yIB;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ou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yIB;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304920" y="2895480"/>
            <a:ext cx="84582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ely goodness and mercy shall follow me all the days of my life: and I will dwell in th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ho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LORD for ever (Psalm 23:6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1066680" y="4876920"/>
            <a:ext cx="7010640" cy="1676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ho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aron, trust in the LORD;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their help and their shield. (Psalm 115:1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yIB;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304920" y="2895480"/>
            <a:ext cx="8458200" cy="213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urned the city with fire, and all that was in it. Only the silver and gold, and articles of bronze and iron, they put into the treasury of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LORD. (Joshua 6:2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133720" y="142560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tyIB;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762120" y="2971800"/>
            <a:ext cx="7619760" cy="3124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hen she had weaned him, she took him up with her, with a three-year-old bull and one ephah of flour and a jug of wine, and brought him to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u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LORD in Shiloh, although the child was young. (1 Samuel 1:24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;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Word, th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whebb"/>
              </a:rPr>
              <a:t>xa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;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1219320" y="327672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BeDI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65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To spea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1219320" y="449568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rb'D'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48769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Speech, utteranc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;D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62120" y="3809880"/>
            <a:ext cx="7619760" cy="1752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wrote on the tablets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covenant, the T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and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Exodus 34:2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[or&gt;P;-ta, hw"hy&gt; [G:n:y&gt;w: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0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AtyBe-ta,w&gt; ~ylidoG&gt; ~y[ig"n&gt;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962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r"b.a; tv,ae yr:f' rb;D&gt;-l[;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60199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Genesis 12:17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d he plagued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49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Pharaoh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(with) plagues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great ones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244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00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his house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43800" y="50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4997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the word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54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(for the sake of)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51195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Sarai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50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wife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of Abram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Ay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ay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Ay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685800" y="3581280"/>
            <a:ext cx="7848720" cy="1752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ail, for the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day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f the LORD is near!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t will come as destruction from the Almighty. (Isaiah 13:6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Ay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Title 1"/>
          <p:cNvSpPr/>
          <p:nvPr/>
        </p:nvSpPr>
        <p:spPr>
          <a:xfrm>
            <a:off x="457200" y="3581280"/>
            <a:ext cx="8153280" cy="2362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as, you who are longing for the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day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f the LORD, For what purpose 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will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day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f the LORD 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be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you? It </a:t>
            </a:r>
            <a:r>
              <a:rPr b="0" i="1" lang="en-US" sz="3600" spc="-1" strike="noStrike">
                <a:solidFill>
                  <a:srgbClr val="ccffff"/>
                </a:solidFill>
                <a:latin typeface="Arial"/>
              </a:rPr>
              <a:t>will be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arkness and not light (Amos 5:18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laer'f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3276720" y="3886200"/>
            <a:ext cx="213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Israel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30240" y="4146480"/>
            <a:ext cx="14479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laer'f.y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457200" y="2971800"/>
            <a:ext cx="8077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e said, “Your name shall no longer be Jacob, but Israel; for you have striven with God and with men and have prevailed.” (Genesis 32:28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8080" y="5334120"/>
            <a:ext cx="2057400" cy="1312920"/>
            <a:chOff x="838080" y="5334120"/>
            <a:chExt cx="2057400" cy="1312920"/>
          </a:xfrm>
        </p:grpSpPr>
        <p:sp>
          <p:nvSpPr>
            <p:cNvPr id="236" name=""/>
            <p:cNvSpPr/>
            <p:nvPr/>
          </p:nvSpPr>
          <p:spPr>
            <a:xfrm>
              <a:off x="838080" y="5638680"/>
              <a:ext cx="198144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5334120"/>
              <a:ext cx="2057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hr'f'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49160" y="4648320"/>
            <a:ext cx="241560" cy="990360"/>
          </a:xfrm>
          <a:custGeom>
            <a:avLst/>
            <a:gdLst/>
            <a:ahLst/>
            <a:rect l="l" t="t" r="r" b="b"/>
            <a:pathLst>
              <a:path w="152" h="624">
                <a:moveTo>
                  <a:pt x="152" y="0"/>
                </a:moveTo>
                <a:cubicBezTo>
                  <a:pt x="84" y="140"/>
                  <a:pt x="16" y="280"/>
                  <a:pt x="8" y="384"/>
                </a:cubicBezTo>
                <a:cubicBezTo>
                  <a:pt x="0" y="488"/>
                  <a:pt x="52" y="556"/>
                  <a:pt x="104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il;f'Wr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Jerusalem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il;f'Wr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2819520" y="35053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To cast, throw, or shoo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1219320" y="312408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hr'y"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Title 1"/>
          <p:cNvSpPr/>
          <p:nvPr/>
        </p:nvSpPr>
        <p:spPr>
          <a:xfrm>
            <a:off x="2819520" y="556272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Peac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Title 1"/>
          <p:cNvSpPr/>
          <p:nvPr/>
        </p:nvSpPr>
        <p:spPr>
          <a:xfrm>
            <a:off x="914400" y="51814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~Alv'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14324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Can be used of casting a founda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whebb"/>
              </a:rPr>
              <a:t>~D'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w'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'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Yahwe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3489480"/>
            <a:ext cx="1295640" cy="56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87880" y="2851200"/>
            <a:ext cx="24386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Title 1"/>
          <p:cNvSpPr/>
          <p:nvPr/>
        </p:nvSpPr>
        <p:spPr>
          <a:xfrm>
            <a:off x="457200" y="28954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God said unto Moses, I AM THAT I AM: and he said, Thus shalt thou say unto the children of Israel, I AM hath sent me unto you. (Exodus 3:14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w'</a:t>
            </a:r>
            <a:r>
              <a:rPr b="0" lang="en-US" sz="9600" spc="-1" strike="noStrike">
                <a:solidFill>
                  <a:srgbClr val="ccffff"/>
                </a:solidFill>
                <a:latin typeface="Bwhebb"/>
              </a:rPr>
              <a:t>'</a:t>
            </a: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y&gt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676520" y="5410080"/>
            <a:ext cx="5562360" cy="2104920"/>
            <a:chOff x="1676520" y="5410080"/>
            <a:chExt cx="5562360" cy="2104920"/>
          </a:xfrm>
        </p:grpSpPr>
        <p:sp>
          <p:nvSpPr>
            <p:cNvPr id="254" name=""/>
            <p:cNvSpPr/>
            <p:nvPr/>
          </p:nvSpPr>
          <p:spPr>
            <a:xfrm>
              <a:off x="1904760" y="5562360"/>
              <a:ext cx="510516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520" y="5410080"/>
              <a:ext cx="55623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ffff"/>
                  </a:solidFill>
                  <a:latin typeface="Bwhebb"/>
                </a:rPr>
                <a:t>hy&lt;h.a, rv,a] hy&lt;h.a,</a:t>
              </a:r>
              <a:endParaRPr b="0" lang="en-US" sz="66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Ir;c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Egyp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yIr;c.mi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3200400" y="38098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Egypt, a fortified pla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1371600" y="3809880"/>
            <a:ext cx="2743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rAcm'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1371600" y="515952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Bwhebb"/>
              </a:rPr>
              <a:t>rWc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3124080" y="51814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To bind, beseig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v,m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os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768920" y="3733920"/>
            <a:ext cx="138744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v,m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Title 1"/>
          <p:cNvSpPr/>
          <p:nvPr/>
        </p:nvSpPr>
        <p:spPr>
          <a:xfrm>
            <a:off x="76212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d she called his name Moses: and she said, “Because I drew him out of the water.” (Exodus 2:10)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09680" y="5029200"/>
            <a:ext cx="2057400" cy="2531880"/>
            <a:chOff x="2209680" y="5029200"/>
            <a:chExt cx="2057400" cy="2531880"/>
          </a:xfrm>
        </p:grpSpPr>
        <p:sp>
          <p:nvSpPr>
            <p:cNvPr id="269" name=""/>
            <p:cNvSpPr/>
            <p:nvPr/>
          </p:nvSpPr>
          <p:spPr>
            <a:xfrm>
              <a:off x="2362320" y="5257800"/>
              <a:ext cx="175248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99"/>
                </a:gs>
                <a:gs pos="100000">
                  <a:srgbClr val="002f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5029200"/>
              <a:ext cx="20574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ffff"/>
                  </a:solidFill>
                  <a:latin typeface="Bwhebb"/>
                </a:rPr>
                <a:t>hv'm' </a:t>
              </a:r>
              <a:endParaRPr b="0" lang="en-US" sz="80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876920" y="4952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ames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hutmos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hmos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%l,m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King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%l,m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Title 1"/>
          <p:cNvSpPr/>
          <p:nvPr/>
        </p:nvSpPr>
        <p:spPr>
          <a:xfrm>
            <a:off x="4114800" y="403848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To reig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1981080" y="4038480"/>
            <a:ext cx="2514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%l;m' 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sWs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Hors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,[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lave, servan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209680" y="2819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whebb"/>
              </a:rPr>
              <a:t>!ve</a:t>
            </a:r>
            <a:endParaRPr b="0" lang="en-US" sz="8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rb,[,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3352680" y="3962520"/>
            <a:ext cx="426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WP TypographicSymbols"/>
              </a:rPr>
              <a:t>B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Work, serv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905120" y="396252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Bwhebb"/>
              </a:rPr>
              <a:t>db;[' 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[or.P;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haraoh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hn'v'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Yea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981080" y="16765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Bwhebb"/>
              </a:rPr>
              <a:t>~ve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Title 1"/>
          <p:cNvSpPr/>
          <p:nvPr/>
        </p:nvSpPr>
        <p:spPr>
          <a:xfrm>
            <a:off x="2666880" y="3886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Name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gures of Spee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words are not to be taken li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TIENT, LONGSUFFER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brew phrase </a:t>
            </a:r>
            <a:r>
              <a:rPr b="0" lang="en-US" sz="4800" spc="-1" strike="noStrike">
                <a:solidFill>
                  <a:srgbClr val="ffffff"/>
                </a:solidFill>
                <a:latin typeface="Bwhebb"/>
              </a:rPr>
              <a:t>~yIP;a; %r,a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normally translated “slow to anger” in the 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wheb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whebb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whebb"/>
              </a:rPr>
              <a:t>%r,a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word for “long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wheb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whebb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whebb"/>
              </a:rPr>
              <a:t>~yIP;a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dual of </a:t>
            </a:r>
            <a:r>
              <a:rPr b="0" lang="en-US" sz="5400" spc="-1" strike="noStrike">
                <a:solidFill>
                  <a:srgbClr val="ffffff"/>
                </a:solidFill>
                <a:latin typeface="Bwhebb"/>
              </a:rPr>
              <a:t>@n"a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carries the idea of “anger.”  It is related to the word </a:t>
            </a:r>
            <a:r>
              <a:rPr b="0" lang="en-US" sz="5400" spc="-1" strike="noStrike">
                <a:solidFill>
                  <a:srgbClr val="ffffff"/>
                </a:solidFill>
                <a:latin typeface="Bwhebb"/>
              </a:rPr>
              <a:t>@a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Hebrew word for “nos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3-09-05T17:37:16Z</dcterms:modified>
  <cp:revision>442</cp:revision>
  <dc:subject/>
  <dc:title>Discipleship Across the Lifespan</dc:title>
</cp:coreProperties>
</file>