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4A4-616D-49CE-9F01-4B36E722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D92-1252-4CC4-841A-A9A8107F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FC0-4E00-466D-8030-26DAD9EB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36D-D7B7-4382-9F4D-6AE0D34C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4F9-9126-4181-85BF-295C8262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661-61CB-4175-8018-FB3F50CC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90D-A786-4F21-A2DD-65C983A9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4F8-ADF2-407B-BB6C-D034A297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496-730C-4EA1-8D81-B5C4F96B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9D2-1302-4F00-9552-AE647152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AA2-E758-4B0A-B9A5-B89D01B9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DF6-6DBD-4F1D-80E3-958A2F8C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2564-5F37-4049-AB75-2F7A9F7FF4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ts, Dashes, and other Fun 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66960" y="2438280"/>
            <a:ext cx="3710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wel Points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82880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%v,xo;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Darkness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762120" y="3809880"/>
            <a:ext cx="220968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Segho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V="1">
            <a:off x="2286000" y="2285640"/>
            <a:ext cx="1295280" cy="1523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8386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ramaic word for “cluster” (of grapes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144792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ccffff"/>
                </a:solidFill>
                <a:latin typeface="Bwhebb"/>
              </a:rPr>
              <a:t>ba'</a:t>
            </a:r>
            <a:br>
              <a:rPr sz="12000"/>
            </a:br>
            <a:endParaRPr b="0" lang="en-US" sz="1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144792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ccffff"/>
                </a:solidFill>
                <a:latin typeface="Bwhebb"/>
              </a:rPr>
              <a:t>~d'a'</a:t>
            </a:r>
            <a:br>
              <a:rPr sz="12000"/>
            </a:br>
            <a:endParaRPr b="0" lang="en-US" sz="1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44792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ccffff"/>
                </a:solidFill>
                <a:latin typeface="Bwhebb"/>
              </a:rPr>
              <a:t>ha'</a:t>
            </a:r>
            <a:br>
              <a:rPr sz="12000"/>
            </a:br>
            <a:endParaRPr b="0" lang="en-US" sz="1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44792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ccffff"/>
                </a:solidFill>
                <a:latin typeface="Bwhebb"/>
              </a:rPr>
              <a:t>vyai</a:t>
            </a:r>
            <a:br>
              <a:rPr sz="12000"/>
            </a:br>
            <a:endParaRPr b="0" lang="en-US" sz="1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44792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ccffff"/>
                </a:solidFill>
                <a:latin typeface="Bwhebb"/>
              </a:rPr>
              <a:t>tyIB; </a:t>
            </a:r>
            <a:br>
              <a:rPr sz="12000"/>
            </a:br>
            <a:endParaRPr b="0" lang="en-US" sz="1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44792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ccffff"/>
                </a:solidFill>
                <a:latin typeface="Bwhebb"/>
              </a:rPr>
              <a:t>!Be </a:t>
            </a:r>
            <a:br>
              <a:rPr sz="12000"/>
            </a:br>
            <a:endParaRPr b="0" lang="en-US" sz="1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44792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ccffff"/>
                </a:solidFill>
                <a:latin typeface="Bwhebb"/>
              </a:rPr>
              <a:t>rh; </a:t>
            </a:r>
            <a:br>
              <a:rPr sz="12000"/>
            </a:br>
            <a:endParaRPr b="0" lang="en-US" sz="1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44792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ccffff"/>
                </a:solidFill>
                <a:latin typeface="Bwhebb"/>
              </a:rPr>
              <a:t>bAj </a:t>
            </a:r>
            <a:br>
              <a:rPr sz="12000"/>
            </a:br>
            <a:endParaRPr b="0" lang="en-US" sz="1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44792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ccffff"/>
                </a:solidFill>
                <a:latin typeface="Bwhebb"/>
              </a:rPr>
              <a:t>~Ay </a:t>
            </a:r>
            <a:br>
              <a:rPr sz="12000"/>
            </a:br>
            <a:endParaRPr b="0" lang="en-US" sz="1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1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594560" cy="2281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44792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ccffff"/>
                </a:solidFill>
                <a:latin typeface="Bwhebb"/>
              </a:rPr>
              <a:t>lAq </a:t>
            </a:r>
            <a:br>
              <a:rPr sz="12000"/>
            </a:br>
            <a:endParaRPr b="0" lang="en-US" sz="1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44792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ccffff"/>
                </a:solidFill>
                <a:latin typeface="Bwhebb"/>
              </a:rPr>
              <a:t>~ve</a:t>
            </a:r>
            <a:br>
              <a:rPr sz="12000"/>
            </a:br>
            <a:endParaRPr b="0" lang="en-US" sz="1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752480" y="2666880"/>
            <a:ext cx="5329440" cy="9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me that Name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yr;f'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ara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~Wxn"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ahu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!roh]a;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ar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qx'c.yI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ssac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hmol{v.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lom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tyMil;Wv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hulami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ha'le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ea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52280" y="463680"/>
            <a:ext cx="304812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Northeaster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emitic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52280" y="1758960"/>
            <a:ext cx="3048120" cy="1974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Akkadi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byloni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yri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200400" y="463680"/>
            <a:ext cx="327672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Northwes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emitic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200400" y="1758960"/>
            <a:ext cx="3276720" cy="1974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 tablet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garit tablet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rna lett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477120" y="457200"/>
            <a:ext cx="2514600" cy="12985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out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emitic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477120" y="1752480"/>
            <a:ext cx="2514600" cy="1974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bic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iopi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022480" y="4724280"/>
            <a:ext cx="2819520" cy="993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anaani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842000" y="4724280"/>
            <a:ext cx="2819160" cy="993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ramaic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Trapezoid 14"/>
          <p:cNvSpPr/>
          <p:nvPr/>
        </p:nvSpPr>
        <p:spPr>
          <a:xfrm>
            <a:off x="2022480" y="3733920"/>
            <a:ext cx="5638680" cy="990360"/>
          </a:xfrm>
          <a:custGeom>
            <a:avLst/>
            <a:gdLst/>
            <a:ahLst/>
            <a:rect l="l" t="t" r="r" b="b"/>
            <a:pathLst>
              <a:path w="5638800" h="990600">
                <a:moveTo>
                  <a:pt x="0" y="990600"/>
                </a:moveTo>
                <a:lnTo>
                  <a:pt x="1192871" y="0"/>
                </a:lnTo>
                <a:lnTo>
                  <a:pt x="4445929" y="0"/>
                </a:lnTo>
                <a:lnTo>
                  <a:pt x="5638800" y="990600"/>
                </a:ln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004ba0"/>
              </a:gs>
              <a:gs pos="100000">
                <a:srgbClr val="0085ff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!yIq;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hy"[.v;y&gt;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saia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rm'T'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ama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![;n"K.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na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~yIr'c.mi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gyp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rWa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lb,B'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byl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ba'Am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ab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!ADgIm.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egidd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~l;iv'Wry&gt;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erusal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Public\Pictures\Pictures\Bible and Ancient History\Bible\Artifacts\Silver Scroll Amulet4.bmp"/>
          <p:cNvPicPr/>
          <p:nvPr/>
        </p:nvPicPr>
        <p:blipFill>
          <a:blip r:embed="rId2"/>
          <a:stretch/>
        </p:blipFill>
        <p:spPr>
          <a:xfrm>
            <a:off x="5181480" y="457200"/>
            <a:ext cx="3583080" cy="561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Public\Pictures\Pictures\Bible and Ancient History\Bible\Artifacts\Inscriptions\Gezer Calendar.jpg"/>
          <p:cNvPicPr/>
          <p:nvPr/>
        </p:nvPicPr>
        <p:blipFill>
          <a:blip r:embed="rId3"/>
          <a:stretch/>
        </p:blipFill>
        <p:spPr>
          <a:xfrm>
            <a:off x="990720" y="533520"/>
            <a:ext cx="279072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219320" y="4038480"/>
            <a:ext cx="283824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zer Calendar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52280"/>
            <a:ext cx="283824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ilver Scrol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mulet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7" name="Picture 3" descr="C:\Users\Public\Pictures\Pictures\Bible and Ancient History\Bible\Artifacts\Inscriptions\Siloam Inscription.bmp"/>
          <p:cNvPicPr/>
          <p:nvPr/>
        </p:nvPicPr>
        <p:blipFill>
          <a:blip r:embed="rId4"/>
          <a:stretch/>
        </p:blipFill>
        <p:spPr>
          <a:xfrm>
            <a:off x="304920" y="3962520"/>
            <a:ext cx="6095880" cy="250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828800" y="5715000"/>
            <a:ext cx="53341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ezekiah Tunnel Inscrip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~r'a]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r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ccffff"/>
                </a:solidFill>
                <a:latin typeface="Bwhebb"/>
              </a:rPr>
              <a:t>!Der&gt;y: </a:t>
            </a:r>
            <a:endParaRPr b="0" lang="en-US" sz="1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4495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rda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~yhil{a/ ar'B' tyviare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57200" y="2362320"/>
            <a:ext cx="82296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aew&gt; ~yIm;V'h; ta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410080" y="4343400"/>
            <a:ext cx="335304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`#r,a'h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6293880" y="20574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In Beginning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3495600" y="205740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He creat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23720" y="20574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4842360" y="41148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e Heaven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944080" y="411480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an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786360" y="609588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e Earth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f,[]n: ~yhil{a/ rm,aYOw: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0492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  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Wnmel.c;B. ~d'a'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343400" y="46483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  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WnteWmd&gt;K'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621480" y="18288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And He sai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301640" y="18288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Go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931680" y="182880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We will mak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7292880" y="4038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m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930120" y="403848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In our imag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871960" y="594360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Like our likenes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  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^n&gt;yBe tyvia' hb'yaew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25146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!ybeW hV'aih' !ybeW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57200" y="4419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['r&gt;z: !ybeW ^[]r&gt;z: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6520680" y="18288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And enmity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191840" y="182880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I will put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461960" y="18288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Between you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7338600" y="3657600"/>
            <a:ext cx="142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And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betwee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642560" y="38862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e woma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2842920" y="3733920"/>
            <a:ext cx="142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And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betwee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6951960" y="586728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Your se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4878000" y="5715000"/>
            <a:ext cx="142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An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between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772360" y="59436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Her see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1972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^p.Wvy&gt;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-304920" y="304920"/>
            <a:ext cx="4724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T'a;w&gt; var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533520" y="251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`bqe[' WNp,WvT.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6883920" y="76320"/>
            <a:ext cx="275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aWh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7848000" y="16765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H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219640" y="15238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he wil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bruise your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944080" y="16765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head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24960" y="167652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and you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236640" y="388620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you will bruis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hi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4495680" y="39625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he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4" name="Group 14"/>
          <p:cNvGrpSpPr/>
          <p:nvPr/>
        </p:nvGrpSpPr>
        <p:grpSpPr>
          <a:xfrm>
            <a:off x="609480" y="4800600"/>
            <a:ext cx="2057400" cy="3750840"/>
            <a:chOff x="609480" y="4800600"/>
            <a:chExt cx="2057400" cy="3750840"/>
          </a:xfrm>
        </p:grpSpPr>
        <p:sp>
          <p:nvSpPr>
            <p:cNvPr id="245" name="Rectangle 13"/>
            <p:cNvSpPr/>
            <p:nvPr/>
          </p:nvSpPr>
          <p:spPr>
            <a:xfrm>
              <a:off x="609480" y="4952880"/>
              <a:ext cx="2057400" cy="121932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762120" y="4800600"/>
              <a:ext cx="174780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bqo[]y: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Whbow" Whto ht'y&gt;h' #r&lt;a'h'w&gt;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ynEP.-l[; tp,x,r:m. ~yhil{a/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905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x:Wrw&gt; ~Aht. ynEP.-l[; %v,xow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yIM'h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rAa yhiy&gt; ~yhil{a/ rm,aYOw: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rAa-yhiy&gt;w: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rAah'-ta, ~yhil{a/ ar&gt;Y:w: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0574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~yhil{a/ lDEb.Y:w: bAj-yKi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9625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%v,xoh; !ybeW rAah' !yBe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brew Develop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wel markers added by Massor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mran scrolls show evidence of other sorts of vowel ma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oretic text does not show evidence of attempts to iron out textual difficu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4920" y="1599840"/>
            <a:ext cx="6248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 Gd s lvd th wrld tht h gv hs ‘nly bgttn sn tht whvr blvs ‘n hm shld nt prsh bt hv ‘trnl l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6620400" y="1066680"/>
            <a:ext cx="50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153920" y="1219320"/>
            <a:ext cx="50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029240" y="4191120"/>
            <a:ext cx="9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957960" y="5638680"/>
            <a:ext cx="131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W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762840" y="1035000"/>
            <a:ext cx="119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 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287720" y="327672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302480" y="112716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_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'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282680" y="-717480"/>
            <a:ext cx="7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 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944280" y="2025720"/>
            <a:ext cx="118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 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2305800" y="106668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atha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2230200" y="1969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amet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2210040" y="198108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egho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2287440" y="28954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se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363040" y="378000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irek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2286720" y="617220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ibbut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2331360" y="533412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hurek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2362680" y="464832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olem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595080" y="4419720"/>
            <a:ext cx="15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  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u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230400" y="4572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306720" y="204156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Text Box 32"/>
          <p:cNvSpPr/>
          <p:nvPr/>
        </p:nvSpPr>
        <p:spPr>
          <a:xfrm>
            <a:off x="368280" y="353520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Text Box 33"/>
          <p:cNvSpPr/>
          <p:nvPr/>
        </p:nvSpPr>
        <p:spPr>
          <a:xfrm>
            <a:off x="229680" y="447984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257760" y="556272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Line 3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Line 37"/>
          <p:cNvSpPr/>
          <p:nvPr/>
        </p:nvSpPr>
        <p:spPr>
          <a:xfrm>
            <a:off x="20574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Line 38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Line 39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Line 40"/>
          <p:cNvSpPr/>
          <p:nvPr/>
        </p:nvSpPr>
        <p:spPr>
          <a:xfrm>
            <a:off x="1066680" y="6019920"/>
            <a:ext cx="807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Line 41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Line 42"/>
          <p:cNvSpPr/>
          <p:nvPr/>
        </p:nvSpPr>
        <p:spPr>
          <a:xfrm>
            <a:off x="1066680" y="2743200"/>
            <a:ext cx="807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Line 43"/>
          <p:cNvSpPr/>
          <p:nvPr/>
        </p:nvSpPr>
        <p:spPr>
          <a:xfrm>
            <a:off x="0" y="53341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Line 44"/>
          <p:cNvSpPr/>
          <p:nvPr/>
        </p:nvSpPr>
        <p:spPr>
          <a:xfrm>
            <a:off x="1066680" y="990720"/>
            <a:ext cx="807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Line 45"/>
          <p:cNvSpPr/>
          <p:nvPr/>
        </p:nvSpPr>
        <p:spPr>
          <a:xfrm>
            <a:off x="41148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Text Box 46"/>
          <p:cNvSpPr/>
          <p:nvPr/>
        </p:nvSpPr>
        <p:spPr>
          <a:xfrm>
            <a:off x="4557600" y="118728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” as in Ha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Text Box 48"/>
          <p:cNvSpPr/>
          <p:nvPr/>
        </p:nvSpPr>
        <p:spPr>
          <a:xfrm>
            <a:off x="4557960" y="2025720"/>
            <a:ext cx="27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” as in Me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Text Box 49"/>
          <p:cNvSpPr/>
          <p:nvPr/>
        </p:nvSpPr>
        <p:spPr>
          <a:xfrm>
            <a:off x="4557600" y="286380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” as in The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Text Box 50"/>
          <p:cNvSpPr/>
          <p:nvPr/>
        </p:nvSpPr>
        <p:spPr>
          <a:xfrm>
            <a:off x="4556880" y="3701880"/>
            <a:ext cx="35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” as in Machin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4557240" y="4648320"/>
            <a:ext cx="28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O” as in Rol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Text Box 52"/>
          <p:cNvSpPr/>
          <p:nvPr/>
        </p:nvSpPr>
        <p:spPr>
          <a:xfrm>
            <a:off x="4557600" y="541008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U” as in Pu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Text Box 53"/>
          <p:cNvSpPr/>
          <p:nvPr/>
        </p:nvSpPr>
        <p:spPr>
          <a:xfrm>
            <a:off x="4557240" y="617220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U” as in Tru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Text Box 54"/>
          <p:cNvSpPr/>
          <p:nvPr/>
        </p:nvSpPr>
        <p:spPr>
          <a:xfrm>
            <a:off x="4557600" y="12060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” as in Father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2819520" y="1905120"/>
            <a:ext cx="3200400" cy="281916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620400" y="1066680"/>
            <a:ext cx="50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53920" y="1219320"/>
            <a:ext cx="50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860080" y="2666880"/>
            <a:ext cx="9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A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139440" y="3581280"/>
            <a:ext cx="131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W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42200" y="838080"/>
            <a:ext cx="119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 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973520" y="36576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601240" y="22860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4139640" y="83808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_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'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025240" y="838080"/>
            <a:ext cx="10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 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315880" y="1752480"/>
            <a:ext cx="118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 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658320" y="68580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atha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640120" y="16765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amet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600560" y="175248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eghol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915840" y="2743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se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381600" y="411480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irek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7163640" y="403848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Kibbut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7163640" y="480060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hurek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6706080" y="312408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olem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5852880" y="3733920"/>
            <a:ext cx="15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  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u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648320" y="4191120"/>
            <a:ext cx="2209680" cy="8380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tha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828800" y="68580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tyIB;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 - “House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 flipV="1">
            <a:off x="4495320" y="2209680"/>
            <a:ext cx="838440" cy="198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066680" y="3581280"/>
            <a:ext cx="221004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Hire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2590920" y="2057040"/>
            <a:ext cx="1295280" cy="1523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08-30T08:44:19Z</dcterms:modified>
  <cp:revision>422</cp:revision>
  <dc:subject/>
  <dc:title>Discipleship Across the Lifespan</dc:title>
</cp:coreProperties>
</file>