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3EC-4C8D-48B6-BFFB-0122ECCC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1FF-8543-446D-BDBE-F6E2FDB1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4DD-BEA0-4EA2-8A8B-966ADFED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4BD-869A-4D15-B589-C12802C9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D45-D5E2-43D0-AA46-B4DDDEDE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828-5590-4E1B-9D87-FF5B7D0C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632-3910-4C3A-9654-CCFEA64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954-A37A-4EC8-8DC9-CF651804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B66-5E46-49C6-BE22-2D3FB9C5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759-38EA-42EC-8BE6-4C2F9DAF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8EB-083B-45B2-AA48-01D0E4C5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0C3-48F5-4B06-9922-25DD664B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01A3-779C-481C-B91B-68BB1292E1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Name Gam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38102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!h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99840" y="44197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400" y="83772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ffff"/>
                </a:solidFill>
                <a:latin typeface="Bwhebb"/>
              </a:rPr>
              <a:t>!why 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99840" y="44197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400" y="83772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ffff"/>
                </a:solidFill>
                <a:latin typeface="Bwhebb"/>
              </a:rPr>
              <a:t>[lrq 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99840" y="44197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arl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360" y="1272960"/>
            <a:ext cx="2514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frK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240" y="38095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Chr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33720" y="2666880"/>
            <a:ext cx="4833720" cy="824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Name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1272960"/>
            <a:ext cx="2514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d'a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240" y="38095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Ad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76360" y="1272960"/>
            <a:ext cx="2514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W"x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240" y="38095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E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76360" y="1272960"/>
            <a:ext cx="2514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x;nO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240" y="38095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Noa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23720" y="1272960"/>
            <a:ext cx="312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h'r'b.a;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240" y="38095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Abrah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3720" y="1272960"/>
            <a:ext cx="312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bqo[]y"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240" y="38095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Jaco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360" y="1272960"/>
            <a:ext cx="2514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wrhyK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38095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Chihar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1272960"/>
            <a:ext cx="312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,m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Mo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1272960"/>
            <a:ext cx="312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dwID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Dav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3720" y="1272960"/>
            <a:ext cx="312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n"Ay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99840" y="3733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Jona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360" y="1272960"/>
            <a:ext cx="2514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gnK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38095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Cha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880" y="837720"/>
            <a:ext cx="38102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ffff"/>
                </a:solidFill>
                <a:latin typeface="Bwhebb"/>
              </a:rPr>
              <a:t>[wvwhy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44197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oshu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880" y="837720"/>
            <a:ext cx="38102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ffff"/>
                </a:solidFill>
                <a:latin typeface="Bwhebb"/>
              </a:rPr>
              <a:t>wrdnayl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44197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andr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00400" y="83772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ffff"/>
                </a:solidFill>
                <a:latin typeface="Bwhebb"/>
              </a:rPr>
              <a:t>$pr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44197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fi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00400" y="83772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ffff"/>
                </a:solidFill>
                <a:latin typeface="Bwhebb"/>
              </a:rPr>
              <a:t>!wK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99840" y="44197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Kev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38102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wawj</a:t>
            </a:r>
            <a:r>
              <a:rPr b="0" lang="en-US" sz="10600" spc="-1" strike="noStrike">
                <a:solidFill>
                  <a:srgbClr val="ccffff"/>
                </a:solidFill>
                <a:latin typeface="Bwhebb"/>
              </a:rPr>
              <a:t>sg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99840" y="44197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ustav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38102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rblp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99840" y="44197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ilb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08-22T18:09:30Z</dcterms:modified>
  <cp:revision>421</cp:revision>
  <dc:subject/>
  <dc:title>Discipleship Across the Lifespan</dc:title>
</cp:coreProperties>
</file>