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E05-2A94-4520-B841-CE6A7229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A68-EA0F-4DA2-AB0A-408877A0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CC7-86E3-4772-A30B-0005ABB2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D00-0954-4866-8B80-72561E12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ACB-CDC5-414E-945F-FC62B801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135-AFAA-4E29-A987-A41838D4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5B7-C670-4A4C-B050-10FB0E48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E5C-A067-4C12-80A6-920D754D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FEC-340F-4C07-9B47-5A552F98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E9C-7439-409E-B3A8-A8D4E3A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B97-41C1-4E38-B4F4-00DB8BE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7FD-0B27-4268-88CA-39549C7C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E8DF-891A-4FE4-9B5C-BB18315174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he Hebrew Alphabe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leph to T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g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Gimm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ft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lmg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mel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d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ale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cipl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tld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Door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H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us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h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The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w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aw (vav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W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a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w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And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z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Zay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Z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al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x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He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L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jx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Terror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j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e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T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jyj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Clay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Yod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Y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u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3880" y="4495680"/>
            <a:ext cx="6172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dy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Hand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$  k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Kap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K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ep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@k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Palm of the hand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l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Lamed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ten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dml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Learn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(Talmud – “Learning”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08000" y="1371600"/>
            <a:ext cx="2801880" cy="419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990720"/>
            <a:ext cx="3504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Basics of Biblical Hebrew</a:t>
            </a:r>
            <a:br>
              <a:rPr sz="54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y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ary Patico &amp; Miles Van Pel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m  ~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M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~Wm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Blemish or defect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!   n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Nu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m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!wn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Increase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s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amek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S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t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$ms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 - “To Lay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[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‘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Ay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(Sil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!y[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 - “Eye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7760" y="838080"/>
            <a:ext cx="2819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@  P  p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P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y” or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n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Mouth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#   c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sad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Hi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dc;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 - “Side”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q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Qop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bli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Re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g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var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Head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0400" y="838080"/>
            <a:ext cx="3276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f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47760" y="2437920"/>
            <a:ext cx="556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0400" y="838080"/>
            <a:ext cx="3276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v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14240" y="2437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h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ll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!v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Tooth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560" y="1904760"/>
            <a:ext cx="4647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 class quizzes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rkbook assignments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ekly word study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ssignments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inal Exa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1523880"/>
            <a:ext cx="1524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0%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20%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20%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30%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572000"/>
            <a:ext cx="716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4800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ta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4800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00%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  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a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ach” or “Think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wt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Mark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ome letters have a different form when at the end of the wo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743200" y="2133720"/>
            <a:ext cx="3543480" cy="823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 Form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057400" y="3635280"/>
            <a:ext cx="2514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# c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5562720" y="762120"/>
            <a:ext cx="2514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$  k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5638680" y="2209680"/>
            <a:ext cx="2514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m  ~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905120" y="2187720"/>
            <a:ext cx="2819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@ p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5638680" y="3581280"/>
            <a:ext cx="2514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!  n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304920"/>
            <a:ext cx="28191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Form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Begadkephat Let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52160" y="16765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52280" y="1905120"/>
            <a:ext cx="1352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b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09520" y="1143000"/>
            <a:ext cx="1257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B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Subtitle 1"/>
          <p:cNvSpPr/>
          <p:nvPr/>
        </p:nvSpPr>
        <p:spPr>
          <a:xfrm>
            <a:off x="1352520" y="2400480"/>
            <a:ext cx="25146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Subtitle 1"/>
          <p:cNvSpPr/>
          <p:nvPr/>
        </p:nvSpPr>
        <p:spPr>
          <a:xfrm>
            <a:off x="1352520" y="350532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52280" y="3733920"/>
            <a:ext cx="1352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g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09520" y="2971800"/>
            <a:ext cx="1257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G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Subtitle 1"/>
          <p:cNvSpPr/>
          <p:nvPr/>
        </p:nvSpPr>
        <p:spPr>
          <a:xfrm>
            <a:off x="1352520" y="4229280"/>
            <a:ext cx="30672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h as in 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Subtitle 1"/>
          <p:cNvSpPr/>
          <p:nvPr/>
        </p:nvSpPr>
        <p:spPr>
          <a:xfrm>
            <a:off x="1352520" y="531180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52280" y="5540400"/>
            <a:ext cx="1352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d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09520" y="4778280"/>
            <a:ext cx="12574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D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Subtitle 1"/>
          <p:cNvSpPr/>
          <p:nvPr/>
        </p:nvSpPr>
        <p:spPr>
          <a:xfrm>
            <a:off x="1352520" y="6035760"/>
            <a:ext cx="3067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h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Subtitle 1"/>
          <p:cNvSpPr/>
          <p:nvPr/>
        </p:nvSpPr>
        <p:spPr>
          <a:xfrm>
            <a:off x="5848200" y="167652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648320" y="1905120"/>
            <a:ext cx="1352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k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705200" y="1143000"/>
            <a:ext cx="1257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K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Subtitle 1"/>
          <p:cNvSpPr/>
          <p:nvPr/>
        </p:nvSpPr>
        <p:spPr>
          <a:xfrm>
            <a:off x="5848200" y="2400480"/>
            <a:ext cx="30672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ch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Subtitle 1"/>
          <p:cNvSpPr/>
          <p:nvPr/>
        </p:nvSpPr>
        <p:spPr>
          <a:xfrm>
            <a:off x="5848200" y="3505320"/>
            <a:ext cx="291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o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648320" y="3733920"/>
            <a:ext cx="1352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p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705200" y="2971800"/>
            <a:ext cx="1257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P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Subtitle 1"/>
          <p:cNvSpPr/>
          <p:nvPr/>
        </p:nvSpPr>
        <p:spPr>
          <a:xfrm>
            <a:off x="5848200" y="4229280"/>
            <a:ext cx="30672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Subtitle 1"/>
          <p:cNvSpPr/>
          <p:nvPr/>
        </p:nvSpPr>
        <p:spPr>
          <a:xfrm>
            <a:off x="5848200" y="531180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4648320" y="5388120"/>
            <a:ext cx="1352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705200" y="4778280"/>
            <a:ext cx="12574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Subtitle 1"/>
          <p:cNvSpPr/>
          <p:nvPr/>
        </p:nvSpPr>
        <p:spPr>
          <a:xfrm>
            <a:off x="5848200" y="6035760"/>
            <a:ext cx="3067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 as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38080" y="6858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aghesh Len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685800" y="230040"/>
            <a:ext cx="7543800" cy="621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ook Alik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2705040" y="1555920"/>
            <a:ext cx="3467160" cy="936360"/>
            <a:chOff x="2705040" y="1555920"/>
            <a:chExt cx="3467160" cy="936360"/>
          </a:xfrm>
        </p:grpSpPr>
        <p:sp>
          <p:nvSpPr>
            <p:cNvPr id="166" name="Rectangle 2"/>
            <p:cNvSpPr/>
            <p:nvPr/>
          </p:nvSpPr>
          <p:spPr>
            <a:xfrm>
              <a:off x="2705040" y="1555920"/>
              <a:ext cx="1352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b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7" name="Subtitle 1"/>
            <p:cNvSpPr/>
            <p:nvPr/>
          </p:nvSpPr>
          <p:spPr>
            <a:xfrm>
              <a:off x="3133440" y="1784520"/>
              <a:ext cx="2514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68" name="Rectangle 2"/>
            <p:cNvSpPr/>
            <p:nvPr/>
          </p:nvSpPr>
          <p:spPr>
            <a:xfrm>
              <a:off x="4819680" y="1555920"/>
              <a:ext cx="1352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k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69" name="Group 2048"/>
          <p:cNvGrpSpPr/>
          <p:nvPr/>
        </p:nvGrpSpPr>
        <p:grpSpPr>
          <a:xfrm>
            <a:off x="2743200" y="2416320"/>
            <a:ext cx="3467160" cy="936360"/>
            <a:chOff x="2743200" y="2416320"/>
            <a:chExt cx="3467160" cy="936360"/>
          </a:xfrm>
        </p:grpSpPr>
        <p:sp>
          <p:nvSpPr>
            <p:cNvPr id="170" name="Rectangle 2"/>
            <p:cNvSpPr/>
            <p:nvPr/>
          </p:nvSpPr>
          <p:spPr>
            <a:xfrm>
              <a:off x="2743200" y="2416320"/>
              <a:ext cx="1352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g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1" name="Subtitle 1"/>
            <p:cNvSpPr/>
            <p:nvPr/>
          </p:nvSpPr>
          <p:spPr>
            <a:xfrm>
              <a:off x="3733560" y="26449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2" name="Rectangle 2"/>
            <p:cNvSpPr/>
            <p:nvPr/>
          </p:nvSpPr>
          <p:spPr>
            <a:xfrm>
              <a:off x="4857840" y="2416320"/>
              <a:ext cx="1352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n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73" name="Group 2047"/>
          <p:cNvGrpSpPr/>
          <p:nvPr/>
        </p:nvGrpSpPr>
        <p:grpSpPr>
          <a:xfrm>
            <a:off x="1638360" y="3330720"/>
            <a:ext cx="5829120" cy="936360"/>
            <a:chOff x="1638360" y="3330720"/>
            <a:chExt cx="5829120" cy="936360"/>
          </a:xfrm>
        </p:grpSpPr>
        <p:sp>
          <p:nvSpPr>
            <p:cNvPr id="174" name="Rectangle 2"/>
            <p:cNvSpPr/>
            <p:nvPr/>
          </p:nvSpPr>
          <p:spPr>
            <a:xfrm>
              <a:off x="1638360" y="3330720"/>
              <a:ext cx="1352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h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5" name="Subtitle 1"/>
            <p:cNvSpPr/>
            <p:nvPr/>
          </p:nvSpPr>
          <p:spPr>
            <a:xfrm>
              <a:off x="2628720" y="35593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6" name="Rectangle 2"/>
            <p:cNvSpPr/>
            <p:nvPr/>
          </p:nvSpPr>
          <p:spPr>
            <a:xfrm>
              <a:off x="3752640" y="3330720"/>
              <a:ext cx="1352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x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7" name="Subtitle 1"/>
            <p:cNvSpPr/>
            <p:nvPr/>
          </p:nvSpPr>
          <p:spPr>
            <a:xfrm>
              <a:off x="4991040" y="35593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78" name="Rectangle 2"/>
            <p:cNvSpPr/>
            <p:nvPr/>
          </p:nvSpPr>
          <p:spPr>
            <a:xfrm>
              <a:off x="6114960" y="3330720"/>
              <a:ext cx="1352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t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20880" y="4222800"/>
            <a:ext cx="3527280" cy="958320"/>
            <a:chOff x="2720880" y="4222800"/>
            <a:chExt cx="3527280" cy="958320"/>
          </a:xfrm>
        </p:grpSpPr>
        <p:sp>
          <p:nvSpPr>
            <p:cNvPr id="180" name="Rectangle 2"/>
            <p:cNvSpPr/>
            <p:nvPr/>
          </p:nvSpPr>
          <p:spPr>
            <a:xfrm>
              <a:off x="2720880" y="4222800"/>
              <a:ext cx="1375920" cy="9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~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1" name="Subtitle 1"/>
            <p:cNvSpPr/>
            <p:nvPr/>
          </p:nvSpPr>
          <p:spPr>
            <a:xfrm>
              <a:off x="3728880" y="4456440"/>
              <a:ext cx="13953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2" name="Rectangle 2"/>
            <p:cNvSpPr/>
            <p:nvPr/>
          </p:nvSpPr>
          <p:spPr>
            <a:xfrm>
              <a:off x="4872240" y="4222800"/>
              <a:ext cx="1375920" cy="9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s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600200" y="5235480"/>
            <a:ext cx="5715000" cy="959040"/>
            <a:chOff x="1600200" y="5235480"/>
            <a:chExt cx="5715000" cy="959040"/>
          </a:xfrm>
        </p:grpSpPr>
        <p:sp>
          <p:nvSpPr>
            <p:cNvPr id="184" name="Rectangle 2"/>
            <p:cNvSpPr/>
            <p:nvPr/>
          </p:nvSpPr>
          <p:spPr>
            <a:xfrm>
              <a:off x="1600200" y="5235480"/>
              <a:ext cx="13525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d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5" name="Subtitle 1"/>
            <p:cNvSpPr/>
            <p:nvPr/>
          </p:nvSpPr>
          <p:spPr>
            <a:xfrm>
              <a:off x="2590920" y="546408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6" name="Rectangle 2"/>
            <p:cNvSpPr/>
            <p:nvPr/>
          </p:nvSpPr>
          <p:spPr>
            <a:xfrm>
              <a:off x="3714840" y="5235480"/>
              <a:ext cx="13525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r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7" name="Subtitle 1"/>
            <p:cNvSpPr/>
            <p:nvPr/>
          </p:nvSpPr>
          <p:spPr>
            <a:xfrm>
              <a:off x="4838760" y="548640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8" name="Rectangle 2"/>
            <p:cNvSpPr/>
            <p:nvPr/>
          </p:nvSpPr>
          <p:spPr>
            <a:xfrm>
              <a:off x="5962680" y="5257800"/>
              <a:ext cx="13525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$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Look Alik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90" name="Group 2"/>
          <p:cNvGrpSpPr/>
          <p:nvPr/>
        </p:nvGrpSpPr>
        <p:grpSpPr>
          <a:xfrm>
            <a:off x="3222720" y="1555920"/>
            <a:ext cx="2595600" cy="936360"/>
            <a:chOff x="3222720" y="1555920"/>
            <a:chExt cx="2595600" cy="936360"/>
          </a:xfrm>
        </p:grpSpPr>
        <p:sp>
          <p:nvSpPr>
            <p:cNvPr id="191" name="Rectangle 2"/>
            <p:cNvSpPr/>
            <p:nvPr/>
          </p:nvSpPr>
          <p:spPr>
            <a:xfrm>
              <a:off x="3222720" y="1555920"/>
              <a:ext cx="4809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c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2" name="Subtitle 1"/>
            <p:cNvSpPr/>
            <p:nvPr/>
          </p:nvSpPr>
          <p:spPr>
            <a:xfrm>
              <a:off x="3962520" y="1784520"/>
              <a:ext cx="8953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3" name="Rectangle 2"/>
            <p:cNvSpPr/>
            <p:nvPr/>
          </p:nvSpPr>
          <p:spPr>
            <a:xfrm>
              <a:off x="5337360" y="1555920"/>
              <a:ext cx="4809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[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2743200" y="2416320"/>
            <a:ext cx="3467160" cy="936360"/>
            <a:chOff x="2743200" y="2416320"/>
            <a:chExt cx="3467160" cy="936360"/>
          </a:xfrm>
        </p:grpSpPr>
        <p:sp>
          <p:nvSpPr>
            <p:cNvPr id="195" name="Rectangle 2"/>
            <p:cNvSpPr/>
            <p:nvPr/>
          </p:nvSpPr>
          <p:spPr>
            <a:xfrm>
              <a:off x="2743200" y="2416320"/>
              <a:ext cx="1352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w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6" name="Subtitle 1"/>
            <p:cNvSpPr/>
            <p:nvPr/>
          </p:nvSpPr>
          <p:spPr>
            <a:xfrm>
              <a:off x="3733560" y="26449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97" name="Rectangle 2"/>
            <p:cNvSpPr/>
            <p:nvPr/>
          </p:nvSpPr>
          <p:spPr>
            <a:xfrm>
              <a:off x="4857840" y="2416320"/>
              <a:ext cx="1352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z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98" name="Group 6"/>
          <p:cNvGrpSpPr/>
          <p:nvPr/>
        </p:nvGrpSpPr>
        <p:grpSpPr>
          <a:xfrm>
            <a:off x="2743200" y="3352680"/>
            <a:ext cx="3467160" cy="936720"/>
            <a:chOff x="2743200" y="3352680"/>
            <a:chExt cx="3467160" cy="936720"/>
          </a:xfrm>
        </p:grpSpPr>
        <p:sp>
          <p:nvSpPr>
            <p:cNvPr id="199" name="Rectangle 2"/>
            <p:cNvSpPr/>
            <p:nvPr/>
          </p:nvSpPr>
          <p:spPr>
            <a:xfrm>
              <a:off x="2743200" y="3352680"/>
              <a:ext cx="13525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w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0" name="Subtitle 1"/>
            <p:cNvSpPr/>
            <p:nvPr/>
          </p:nvSpPr>
          <p:spPr>
            <a:xfrm>
              <a:off x="3733560" y="358128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1" name="Rectangle 2"/>
            <p:cNvSpPr/>
            <p:nvPr/>
          </p:nvSpPr>
          <p:spPr>
            <a:xfrm>
              <a:off x="4857840" y="3352680"/>
              <a:ext cx="13525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!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2743200" y="4397400"/>
            <a:ext cx="3467160" cy="936720"/>
            <a:chOff x="2743200" y="4397400"/>
            <a:chExt cx="3467160" cy="936720"/>
          </a:xfrm>
        </p:grpSpPr>
        <p:sp>
          <p:nvSpPr>
            <p:cNvPr id="203" name="Rectangle 2"/>
            <p:cNvSpPr/>
            <p:nvPr/>
          </p:nvSpPr>
          <p:spPr>
            <a:xfrm>
              <a:off x="2743200" y="4397400"/>
              <a:ext cx="13525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$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4" name="Subtitle 1"/>
            <p:cNvSpPr/>
            <p:nvPr/>
          </p:nvSpPr>
          <p:spPr>
            <a:xfrm>
              <a:off x="3733560" y="462600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05" name="Rectangle 2"/>
            <p:cNvSpPr/>
            <p:nvPr/>
          </p:nvSpPr>
          <p:spPr>
            <a:xfrm>
              <a:off x="4857840" y="4397400"/>
              <a:ext cx="13525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!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istory of Writ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536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o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Early writing based on pictograms"/>
          <p:cNvPicPr/>
          <p:nvPr/>
        </p:nvPicPr>
        <p:blipFill>
          <a:blip r:embed="rId2"/>
          <a:stretch/>
        </p:blipFill>
        <p:spPr>
          <a:xfrm>
            <a:off x="1981080" y="2681280"/>
            <a:ext cx="370836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istory of Writ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9536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o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https://upload.wikimedia.org/wikipedia/commons/thumb/6/66/Perros_No.svg/220px-Perros_No.svg.png"/>
          <p:cNvPicPr/>
          <p:nvPr/>
        </p:nvPicPr>
        <p:blipFill>
          <a:blip r:embed="rId2"/>
          <a:stretch/>
        </p:blipFill>
        <p:spPr>
          <a:xfrm>
            <a:off x="762120" y="320040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rainbowresource.com/products/041723.jpg"/>
          <p:cNvPicPr/>
          <p:nvPr/>
        </p:nvPicPr>
        <p:blipFill>
          <a:blip r:embed="rId3"/>
          <a:stretch/>
        </p:blipFill>
        <p:spPr>
          <a:xfrm>
            <a:off x="4038480" y="1523880"/>
            <a:ext cx="33228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istory of Writ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536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o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llable Ma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http://pwcs.bennett.schoolfusion.us/modules/groups/homepagefiles/cms/494196/Image/Learning%20Links/hiero-chart-gif.gif"/>
          <p:cNvPicPr/>
          <p:nvPr/>
        </p:nvPicPr>
        <p:blipFill>
          <a:blip r:embed="rId2"/>
          <a:stretch/>
        </p:blipFill>
        <p:spPr>
          <a:xfrm>
            <a:off x="4648320" y="1676520"/>
            <a:ext cx="382104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istory of Writ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536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o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llable Ma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b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http://2.bp.blogspot.com/-1nlc6dOX5DU/T0e_uedPNrI/AAAAAAAAAIM/wkzySgazcuA/s1600/phoenician-alphabet.jpg"/>
          <p:cNvPicPr/>
          <p:nvPr/>
        </p:nvPicPr>
        <p:blipFill>
          <a:blip r:embed="rId2"/>
          <a:stretch/>
        </p:blipFill>
        <p:spPr>
          <a:xfrm>
            <a:off x="4329000" y="2209680"/>
            <a:ext cx="432144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a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Alep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447920" y="4419720"/>
            <a:ext cx="63244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@la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Ox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Thousand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14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B  b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4400" y="2437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ame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Be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nd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gin” or “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y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447920" y="4495680"/>
            <a:ext cx="6324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Bwhebb"/>
              </a:rPr>
              <a:t>tyB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House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11-18T21:38:14Z</dcterms:modified>
  <cp:revision>413</cp:revision>
  <dc:subject/>
  <dc:title>Discipleship Across the Lifespan</dc:title>
</cp:coreProperties>
</file>