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31.wmf" ContentType="image/x-wmf"/>
  <Override PartName="/ppt/media/image13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.jpeg" ContentType="image/jpeg"/>
  <Override PartName="/ppt/media/image30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2.gif" ContentType="image/gif"/>
  <Override PartName="/ppt/media/image17.jpeg" ContentType="image/jpeg"/>
  <Override PartName="/ppt/media/image22.gif" ContentType="image/gif"/>
  <Override PartName="/ppt/media/image18.jpeg" ContentType="image/jpeg"/>
  <Override PartName="/ppt/media/image20.jpeg" ContentType="image/jpe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947B-355B-4401-A5B3-31407689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6EF4-4227-43E0-8623-D8732C78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0C33-6D95-4182-A414-50A6B9947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B28E-E04B-4A7D-A14C-6EF2B880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AD5D-6E16-4196-B11A-8484025D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2D56-0ACA-4EFC-A3B4-B34F92B2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F825-9581-448B-9F74-D0338B59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7947-02EC-426D-8963-D75DBAE9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58E0-A9D5-4791-89FC-C874644D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A1DA-00DE-4C81-AD02-1561148B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3E9B-048E-4552-8245-4A68DABF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36B9-CE90-48F0-B48A-1D1C107D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149C-EBD5-439D-A0BC-FA76960966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gif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image" Target="../media/image22.gif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 Survey 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Older Test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5029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09680" y="2533680"/>
            <a:ext cx="480060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ld Testa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676520" y="2438280"/>
            <a:ext cx="5798880" cy="160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World of the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ld Testa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80880" y="762120"/>
            <a:ext cx="8382240" cy="5181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505320" y="2666880"/>
            <a:ext cx="2361960" cy="144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3520" y="1104840"/>
            <a:ext cx="8153280" cy="5676840"/>
          </a:xfrm>
          <a:custGeom>
            <a:avLst/>
            <a:gdLst/>
            <a:ahLst/>
            <a:rect l="l" t="t" r="r" b="b"/>
            <a:pathLst>
              <a:path w="5136" h="3576">
                <a:moveTo>
                  <a:pt x="768" y="3576"/>
                </a:moveTo>
                <a:lnTo>
                  <a:pt x="720" y="3480"/>
                </a:lnTo>
                <a:cubicBezTo>
                  <a:pt x="720" y="3440"/>
                  <a:pt x="776" y="3360"/>
                  <a:pt x="768" y="3336"/>
                </a:cubicBezTo>
                <a:cubicBezTo>
                  <a:pt x="760" y="3312"/>
                  <a:pt x="704" y="3336"/>
                  <a:pt x="672" y="3336"/>
                </a:cubicBezTo>
                <a:lnTo>
                  <a:pt x="576" y="3336"/>
                </a:lnTo>
                <a:lnTo>
                  <a:pt x="528" y="3240"/>
                </a:lnTo>
                <a:lnTo>
                  <a:pt x="432" y="3144"/>
                </a:lnTo>
                <a:lnTo>
                  <a:pt x="336" y="3048"/>
                </a:lnTo>
                <a:lnTo>
                  <a:pt x="288" y="2904"/>
                </a:lnTo>
                <a:lnTo>
                  <a:pt x="240" y="2808"/>
                </a:lnTo>
                <a:lnTo>
                  <a:pt x="288" y="2712"/>
                </a:lnTo>
                <a:lnTo>
                  <a:pt x="288" y="2616"/>
                </a:lnTo>
                <a:lnTo>
                  <a:pt x="384" y="2520"/>
                </a:lnTo>
                <a:cubicBezTo>
                  <a:pt x="384" y="2520"/>
                  <a:pt x="368" y="2336"/>
                  <a:pt x="384" y="2280"/>
                </a:cubicBezTo>
                <a:cubicBezTo>
                  <a:pt x="400" y="2224"/>
                  <a:pt x="440" y="2208"/>
                  <a:pt x="480" y="2184"/>
                </a:cubicBezTo>
                <a:cubicBezTo>
                  <a:pt x="520" y="2160"/>
                  <a:pt x="576" y="2152"/>
                  <a:pt x="624" y="2136"/>
                </a:cubicBezTo>
                <a:cubicBezTo>
                  <a:pt x="624" y="2136"/>
                  <a:pt x="768" y="2088"/>
                  <a:pt x="768" y="2088"/>
                </a:cubicBezTo>
                <a:cubicBezTo>
                  <a:pt x="768" y="2088"/>
                  <a:pt x="852" y="2084"/>
                  <a:pt x="916" y="2084"/>
                </a:cubicBezTo>
                <a:cubicBezTo>
                  <a:pt x="980" y="2084"/>
                  <a:pt x="1089" y="2103"/>
                  <a:pt x="1152" y="2088"/>
                </a:cubicBezTo>
                <a:cubicBezTo>
                  <a:pt x="1216" y="2080"/>
                  <a:pt x="1248" y="2016"/>
                  <a:pt x="1296" y="1992"/>
                </a:cubicBezTo>
                <a:cubicBezTo>
                  <a:pt x="1344" y="1968"/>
                  <a:pt x="1408" y="1968"/>
                  <a:pt x="1440" y="1944"/>
                </a:cubicBezTo>
                <a:lnTo>
                  <a:pt x="1488" y="1848"/>
                </a:lnTo>
                <a:cubicBezTo>
                  <a:pt x="1488" y="1848"/>
                  <a:pt x="1622" y="1762"/>
                  <a:pt x="1632" y="1704"/>
                </a:cubicBezTo>
                <a:cubicBezTo>
                  <a:pt x="1642" y="1646"/>
                  <a:pt x="1584" y="1512"/>
                  <a:pt x="1584" y="1512"/>
                </a:cubicBezTo>
                <a:cubicBezTo>
                  <a:pt x="1584" y="1512"/>
                  <a:pt x="1640" y="1440"/>
                  <a:pt x="1680" y="1416"/>
                </a:cubicBezTo>
                <a:cubicBezTo>
                  <a:pt x="1720" y="1392"/>
                  <a:pt x="1769" y="1398"/>
                  <a:pt x="1793" y="1358"/>
                </a:cubicBezTo>
                <a:cubicBezTo>
                  <a:pt x="1817" y="1318"/>
                  <a:pt x="1808" y="1240"/>
                  <a:pt x="1824" y="1176"/>
                </a:cubicBezTo>
                <a:cubicBezTo>
                  <a:pt x="1840" y="1112"/>
                  <a:pt x="1856" y="1040"/>
                  <a:pt x="1920" y="984"/>
                </a:cubicBezTo>
                <a:cubicBezTo>
                  <a:pt x="1920" y="984"/>
                  <a:pt x="2112" y="864"/>
                  <a:pt x="2208" y="840"/>
                </a:cubicBezTo>
                <a:cubicBezTo>
                  <a:pt x="2304" y="816"/>
                  <a:pt x="2400" y="808"/>
                  <a:pt x="2496" y="840"/>
                </a:cubicBezTo>
                <a:cubicBezTo>
                  <a:pt x="2592" y="872"/>
                  <a:pt x="2712" y="984"/>
                  <a:pt x="2784" y="1032"/>
                </a:cubicBezTo>
                <a:lnTo>
                  <a:pt x="2928" y="1128"/>
                </a:lnTo>
                <a:lnTo>
                  <a:pt x="3024" y="1176"/>
                </a:lnTo>
                <a:cubicBezTo>
                  <a:pt x="3080" y="1192"/>
                  <a:pt x="3192" y="1184"/>
                  <a:pt x="3264" y="1224"/>
                </a:cubicBezTo>
                <a:cubicBezTo>
                  <a:pt x="3336" y="1264"/>
                  <a:pt x="3400" y="1352"/>
                  <a:pt x="3456" y="1416"/>
                </a:cubicBezTo>
                <a:lnTo>
                  <a:pt x="3600" y="1608"/>
                </a:lnTo>
                <a:lnTo>
                  <a:pt x="3792" y="1800"/>
                </a:lnTo>
                <a:lnTo>
                  <a:pt x="3984" y="1944"/>
                </a:lnTo>
                <a:lnTo>
                  <a:pt x="4320" y="2088"/>
                </a:lnTo>
                <a:lnTo>
                  <a:pt x="4608" y="2184"/>
                </a:lnTo>
                <a:lnTo>
                  <a:pt x="4752" y="2280"/>
                </a:lnTo>
                <a:lnTo>
                  <a:pt x="4896" y="2328"/>
                </a:lnTo>
                <a:lnTo>
                  <a:pt x="4992" y="2280"/>
                </a:lnTo>
                <a:lnTo>
                  <a:pt x="5136" y="2280"/>
                </a:lnTo>
                <a:lnTo>
                  <a:pt x="5136" y="2184"/>
                </a:lnTo>
                <a:lnTo>
                  <a:pt x="5040" y="2088"/>
                </a:lnTo>
                <a:lnTo>
                  <a:pt x="4944" y="1848"/>
                </a:lnTo>
                <a:lnTo>
                  <a:pt x="4704" y="1608"/>
                </a:lnTo>
                <a:lnTo>
                  <a:pt x="4464" y="1512"/>
                </a:lnTo>
                <a:lnTo>
                  <a:pt x="4272" y="1272"/>
                </a:lnTo>
                <a:lnTo>
                  <a:pt x="4032" y="1032"/>
                </a:lnTo>
                <a:lnTo>
                  <a:pt x="3840" y="744"/>
                </a:lnTo>
                <a:cubicBezTo>
                  <a:pt x="3776" y="656"/>
                  <a:pt x="3736" y="592"/>
                  <a:pt x="3648" y="504"/>
                </a:cubicBezTo>
                <a:cubicBezTo>
                  <a:pt x="3560" y="416"/>
                  <a:pt x="3448" y="296"/>
                  <a:pt x="3312" y="216"/>
                </a:cubicBezTo>
                <a:lnTo>
                  <a:pt x="2832" y="24"/>
                </a:lnTo>
                <a:cubicBezTo>
                  <a:pt x="2664" y="0"/>
                  <a:pt x="2446" y="33"/>
                  <a:pt x="2304" y="72"/>
                </a:cubicBezTo>
                <a:cubicBezTo>
                  <a:pt x="2176" y="112"/>
                  <a:pt x="2077" y="180"/>
                  <a:pt x="1981" y="256"/>
                </a:cubicBezTo>
                <a:cubicBezTo>
                  <a:pt x="1885" y="332"/>
                  <a:pt x="1784" y="439"/>
                  <a:pt x="1730" y="531"/>
                </a:cubicBezTo>
                <a:cubicBezTo>
                  <a:pt x="1676" y="623"/>
                  <a:pt x="1671" y="740"/>
                  <a:pt x="1655" y="807"/>
                </a:cubicBezTo>
                <a:lnTo>
                  <a:pt x="1632" y="936"/>
                </a:lnTo>
                <a:lnTo>
                  <a:pt x="1632" y="1080"/>
                </a:lnTo>
                <a:lnTo>
                  <a:pt x="1536" y="1128"/>
                </a:lnTo>
                <a:lnTo>
                  <a:pt x="1488" y="1224"/>
                </a:lnTo>
                <a:lnTo>
                  <a:pt x="1440" y="1368"/>
                </a:lnTo>
                <a:lnTo>
                  <a:pt x="1344" y="1464"/>
                </a:lnTo>
                <a:lnTo>
                  <a:pt x="1344" y="1560"/>
                </a:lnTo>
                <a:lnTo>
                  <a:pt x="1296" y="1752"/>
                </a:lnTo>
                <a:cubicBezTo>
                  <a:pt x="1280" y="1800"/>
                  <a:pt x="1272" y="1816"/>
                  <a:pt x="1248" y="1848"/>
                </a:cubicBezTo>
                <a:cubicBezTo>
                  <a:pt x="1224" y="1880"/>
                  <a:pt x="1192" y="1920"/>
                  <a:pt x="1152" y="1944"/>
                </a:cubicBezTo>
                <a:lnTo>
                  <a:pt x="1008" y="1992"/>
                </a:lnTo>
                <a:lnTo>
                  <a:pt x="864" y="1992"/>
                </a:lnTo>
                <a:lnTo>
                  <a:pt x="672" y="1992"/>
                </a:lnTo>
                <a:lnTo>
                  <a:pt x="576" y="1944"/>
                </a:lnTo>
                <a:lnTo>
                  <a:pt x="480" y="1896"/>
                </a:lnTo>
                <a:lnTo>
                  <a:pt x="336" y="1896"/>
                </a:lnTo>
                <a:lnTo>
                  <a:pt x="240" y="1896"/>
                </a:lnTo>
                <a:lnTo>
                  <a:pt x="96" y="1896"/>
                </a:lnTo>
                <a:lnTo>
                  <a:pt x="0" y="1992"/>
                </a:lnTo>
                <a:lnTo>
                  <a:pt x="96" y="2136"/>
                </a:lnTo>
                <a:lnTo>
                  <a:pt x="144" y="2232"/>
                </a:lnTo>
                <a:cubicBezTo>
                  <a:pt x="144" y="2232"/>
                  <a:pt x="164" y="2305"/>
                  <a:pt x="165" y="2334"/>
                </a:cubicBezTo>
                <a:cubicBezTo>
                  <a:pt x="157" y="2366"/>
                  <a:pt x="148" y="2378"/>
                  <a:pt x="152" y="2409"/>
                </a:cubicBezTo>
                <a:cubicBezTo>
                  <a:pt x="156" y="2440"/>
                  <a:pt x="176" y="2464"/>
                  <a:pt x="192" y="2520"/>
                </a:cubicBezTo>
                <a:cubicBezTo>
                  <a:pt x="199" y="2578"/>
                  <a:pt x="192" y="2696"/>
                  <a:pt x="192" y="2760"/>
                </a:cubicBezTo>
                <a:cubicBezTo>
                  <a:pt x="192" y="2824"/>
                  <a:pt x="192" y="2848"/>
                  <a:pt x="192" y="2904"/>
                </a:cubicBezTo>
                <a:cubicBezTo>
                  <a:pt x="198" y="2958"/>
                  <a:pt x="203" y="3038"/>
                  <a:pt x="227" y="3086"/>
                </a:cubicBezTo>
                <a:cubicBezTo>
                  <a:pt x="251" y="3134"/>
                  <a:pt x="296" y="3160"/>
                  <a:pt x="336" y="3192"/>
                </a:cubicBezTo>
                <a:lnTo>
                  <a:pt x="432" y="3288"/>
                </a:lnTo>
                <a:lnTo>
                  <a:pt x="528" y="3432"/>
                </a:lnTo>
                <a:lnTo>
                  <a:pt x="672" y="3384"/>
                </a:lnTo>
                <a:lnTo>
                  <a:pt x="672" y="3480"/>
                </a:lnTo>
                <a:lnTo>
                  <a:pt x="768" y="3576"/>
                </a:lnTo>
                <a:close/>
              </a:path>
            </a:pathLst>
          </a:custGeom>
          <a:solidFill>
            <a:srgbClr val="003366">
              <a:alpha val="33000"/>
            </a:srgbClr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200400" y="3048120"/>
            <a:ext cx="362412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ertile Cresc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33520" y="1104840"/>
            <a:ext cx="8153280" cy="5676840"/>
          </a:xfrm>
          <a:custGeom>
            <a:avLst/>
            <a:gdLst/>
            <a:ahLst/>
            <a:rect l="l" t="t" r="r" b="b"/>
            <a:pathLst>
              <a:path w="5136" h="3576">
                <a:moveTo>
                  <a:pt x="768" y="3576"/>
                </a:moveTo>
                <a:lnTo>
                  <a:pt x="720" y="3480"/>
                </a:lnTo>
                <a:cubicBezTo>
                  <a:pt x="720" y="3440"/>
                  <a:pt x="776" y="3360"/>
                  <a:pt x="768" y="3336"/>
                </a:cubicBezTo>
                <a:cubicBezTo>
                  <a:pt x="760" y="3312"/>
                  <a:pt x="704" y="3336"/>
                  <a:pt x="672" y="3336"/>
                </a:cubicBezTo>
                <a:lnTo>
                  <a:pt x="576" y="3336"/>
                </a:lnTo>
                <a:lnTo>
                  <a:pt x="528" y="3240"/>
                </a:lnTo>
                <a:lnTo>
                  <a:pt x="432" y="3144"/>
                </a:lnTo>
                <a:lnTo>
                  <a:pt x="336" y="3048"/>
                </a:lnTo>
                <a:lnTo>
                  <a:pt x="288" y="2904"/>
                </a:lnTo>
                <a:lnTo>
                  <a:pt x="240" y="2808"/>
                </a:lnTo>
                <a:lnTo>
                  <a:pt x="288" y="2712"/>
                </a:lnTo>
                <a:lnTo>
                  <a:pt x="288" y="2616"/>
                </a:lnTo>
                <a:lnTo>
                  <a:pt x="384" y="2520"/>
                </a:lnTo>
                <a:cubicBezTo>
                  <a:pt x="384" y="2520"/>
                  <a:pt x="368" y="2336"/>
                  <a:pt x="384" y="2280"/>
                </a:cubicBezTo>
                <a:cubicBezTo>
                  <a:pt x="400" y="2224"/>
                  <a:pt x="440" y="2208"/>
                  <a:pt x="480" y="2184"/>
                </a:cubicBezTo>
                <a:cubicBezTo>
                  <a:pt x="520" y="2160"/>
                  <a:pt x="576" y="2152"/>
                  <a:pt x="624" y="2136"/>
                </a:cubicBezTo>
                <a:cubicBezTo>
                  <a:pt x="624" y="2136"/>
                  <a:pt x="768" y="2088"/>
                  <a:pt x="768" y="2088"/>
                </a:cubicBezTo>
                <a:cubicBezTo>
                  <a:pt x="768" y="2088"/>
                  <a:pt x="852" y="2084"/>
                  <a:pt x="916" y="2084"/>
                </a:cubicBezTo>
                <a:cubicBezTo>
                  <a:pt x="980" y="2084"/>
                  <a:pt x="1089" y="2103"/>
                  <a:pt x="1152" y="2088"/>
                </a:cubicBezTo>
                <a:cubicBezTo>
                  <a:pt x="1216" y="2080"/>
                  <a:pt x="1248" y="2016"/>
                  <a:pt x="1296" y="1992"/>
                </a:cubicBezTo>
                <a:cubicBezTo>
                  <a:pt x="1344" y="1968"/>
                  <a:pt x="1408" y="1968"/>
                  <a:pt x="1440" y="1944"/>
                </a:cubicBezTo>
                <a:lnTo>
                  <a:pt x="1488" y="1848"/>
                </a:lnTo>
                <a:cubicBezTo>
                  <a:pt x="1488" y="1848"/>
                  <a:pt x="1622" y="1762"/>
                  <a:pt x="1632" y="1704"/>
                </a:cubicBezTo>
                <a:cubicBezTo>
                  <a:pt x="1642" y="1646"/>
                  <a:pt x="1584" y="1512"/>
                  <a:pt x="1584" y="1512"/>
                </a:cubicBezTo>
                <a:cubicBezTo>
                  <a:pt x="1584" y="1512"/>
                  <a:pt x="1640" y="1440"/>
                  <a:pt x="1680" y="1416"/>
                </a:cubicBezTo>
                <a:cubicBezTo>
                  <a:pt x="1720" y="1392"/>
                  <a:pt x="1769" y="1398"/>
                  <a:pt x="1793" y="1358"/>
                </a:cubicBezTo>
                <a:cubicBezTo>
                  <a:pt x="1817" y="1318"/>
                  <a:pt x="1808" y="1240"/>
                  <a:pt x="1824" y="1176"/>
                </a:cubicBezTo>
                <a:cubicBezTo>
                  <a:pt x="1840" y="1112"/>
                  <a:pt x="1856" y="1040"/>
                  <a:pt x="1920" y="984"/>
                </a:cubicBezTo>
                <a:cubicBezTo>
                  <a:pt x="1920" y="984"/>
                  <a:pt x="2112" y="864"/>
                  <a:pt x="2208" y="840"/>
                </a:cubicBezTo>
                <a:cubicBezTo>
                  <a:pt x="2304" y="816"/>
                  <a:pt x="2400" y="808"/>
                  <a:pt x="2496" y="840"/>
                </a:cubicBezTo>
                <a:cubicBezTo>
                  <a:pt x="2592" y="872"/>
                  <a:pt x="2712" y="984"/>
                  <a:pt x="2784" y="1032"/>
                </a:cubicBezTo>
                <a:lnTo>
                  <a:pt x="2928" y="1128"/>
                </a:lnTo>
                <a:lnTo>
                  <a:pt x="3024" y="1176"/>
                </a:lnTo>
                <a:cubicBezTo>
                  <a:pt x="3080" y="1192"/>
                  <a:pt x="3192" y="1184"/>
                  <a:pt x="3264" y="1224"/>
                </a:cubicBezTo>
                <a:cubicBezTo>
                  <a:pt x="3336" y="1264"/>
                  <a:pt x="3400" y="1352"/>
                  <a:pt x="3456" y="1416"/>
                </a:cubicBezTo>
                <a:lnTo>
                  <a:pt x="3600" y="1608"/>
                </a:lnTo>
                <a:lnTo>
                  <a:pt x="3792" y="1800"/>
                </a:lnTo>
                <a:lnTo>
                  <a:pt x="3984" y="1944"/>
                </a:lnTo>
                <a:lnTo>
                  <a:pt x="4320" y="2088"/>
                </a:lnTo>
                <a:lnTo>
                  <a:pt x="4608" y="2184"/>
                </a:lnTo>
                <a:lnTo>
                  <a:pt x="4752" y="2280"/>
                </a:lnTo>
                <a:lnTo>
                  <a:pt x="4896" y="2328"/>
                </a:lnTo>
                <a:lnTo>
                  <a:pt x="4992" y="2280"/>
                </a:lnTo>
                <a:lnTo>
                  <a:pt x="5136" y="2280"/>
                </a:lnTo>
                <a:lnTo>
                  <a:pt x="5136" y="2184"/>
                </a:lnTo>
                <a:lnTo>
                  <a:pt x="5040" y="2088"/>
                </a:lnTo>
                <a:lnTo>
                  <a:pt x="4944" y="1848"/>
                </a:lnTo>
                <a:lnTo>
                  <a:pt x="4704" y="1608"/>
                </a:lnTo>
                <a:lnTo>
                  <a:pt x="4464" y="1512"/>
                </a:lnTo>
                <a:lnTo>
                  <a:pt x="4272" y="1272"/>
                </a:lnTo>
                <a:lnTo>
                  <a:pt x="4032" y="1032"/>
                </a:lnTo>
                <a:lnTo>
                  <a:pt x="3840" y="744"/>
                </a:lnTo>
                <a:cubicBezTo>
                  <a:pt x="3776" y="656"/>
                  <a:pt x="3736" y="592"/>
                  <a:pt x="3648" y="504"/>
                </a:cubicBezTo>
                <a:cubicBezTo>
                  <a:pt x="3560" y="416"/>
                  <a:pt x="3448" y="296"/>
                  <a:pt x="3312" y="216"/>
                </a:cubicBezTo>
                <a:lnTo>
                  <a:pt x="2832" y="24"/>
                </a:lnTo>
                <a:cubicBezTo>
                  <a:pt x="2664" y="0"/>
                  <a:pt x="2446" y="33"/>
                  <a:pt x="2304" y="72"/>
                </a:cubicBezTo>
                <a:cubicBezTo>
                  <a:pt x="2176" y="112"/>
                  <a:pt x="2077" y="180"/>
                  <a:pt x="1981" y="256"/>
                </a:cubicBezTo>
                <a:cubicBezTo>
                  <a:pt x="1885" y="332"/>
                  <a:pt x="1784" y="439"/>
                  <a:pt x="1730" y="531"/>
                </a:cubicBezTo>
                <a:cubicBezTo>
                  <a:pt x="1676" y="623"/>
                  <a:pt x="1671" y="740"/>
                  <a:pt x="1655" y="807"/>
                </a:cubicBezTo>
                <a:lnTo>
                  <a:pt x="1632" y="936"/>
                </a:lnTo>
                <a:lnTo>
                  <a:pt x="1632" y="1080"/>
                </a:lnTo>
                <a:lnTo>
                  <a:pt x="1536" y="1128"/>
                </a:lnTo>
                <a:lnTo>
                  <a:pt x="1488" y="1224"/>
                </a:lnTo>
                <a:lnTo>
                  <a:pt x="1440" y="1368"/>
                </a:lnTo>
                <a:lnTo>
                  <a:pt x="1344" y="1464"/>
                </a:lnTo>
                <a:lnTo>
                  <a:pt x="1344" y="1560"/>
                </a:lnTo>
                <a:lnTo>
                  <a:pt x="1296" y="1752"/>
                </a:lnTo>
                <a:cubicBezTo>
                  <a:pt x="1280" y="1800"/>
                  <a:pt x="1272" y="1816"/>
                  <a:pt x="1248" y="1848"/>
                </a:cubicBezTo>
                <a:cubicBezTo>
                  <a:pt x="1224" y="1880"/>
                  <a:pt x="1192" y="1920"/>
                  <a:pt x="1152" y="1944"/>
                </a:cubicBezTo>
                <a:lnTo>
                  <a:pt x="1008" y="1992"/>
                </a:lnTo>
                <a:lnTo>
                  <a:pt x="864" y="1992"/>
                </a:lnTo>
                <a:lnTo>
                  <a:pt x="672" y="1992"/>
                </a:lnTo>
                <a:lnTo>
                  <a:pt x="576" y="1944"/>
                </a:lnTo>
                <a:lnTo>
                  <a:pt x="480" y="1896"/>
                </a:lnTo>
                <a:lnTo>
                  <a:pt x="336" y="1896"/>
                </a:lnTo>
                <a:lnTo>
                  <a:pt x="240" y="1896"/>
                </a:lnTo>
                <a:lnTo>
                  <a:pt x="96" y="1896"/>
                </a:lnTo>
                <a:lnTo>
                  <a:pt x="0" y="1992"/>
                </a:lnTo>
                <a:lnTo>
                  <a:pt x="96" y="2136"/>
                </a:lnTo>
                <a:lnTo>
                  <a:pt x="144" y="2232"/>
                </a:lnTo>
                <a:cubicBezTo>
                  <a:pt x="144" y="2232"/>
                  <a:pt x="164" y="2305"/>
                  <a:pt x="165" y="2334"/>
                </a:cubicBezTo>
                <a:cubicBezTo>
                  <a:pt x="157" y="2366"/>
                  <a:pt x="148" y="2378"/>
                  <a:pt x="152" y="2409"/>
                </a:cubicBezTo>
                <a:cubicBezTo>
                  <a:pt x="156" y="2440"/>
                  <a:pt x="176" y="2464"/>
                  <a:pt x="192" y="2520"/>
                </a:cubicBezTo>
                <a:cubicBezTo>
                  <a:pt x="199" y="2578"/>
                  <a:pt x="192" y="2696"/>
                  <a:pt x="192" y="2760"/>
                </a:cubicBezTo>
                <a:cubicBezTo>
                  <a:pt x="192" y="2824"/>
                  <a:pt x="192" y="2848"/>
                  <a:pt x="192" y="2904"/>
                </a:cubicBezTo>
                <a:cubicBezTo>
                  <a:pt x="198" y="2958"/>
                  <a:pt x="203" y="3038"/>
                  <a:pt x="227" y="3086"/>
                </a:cubicBezTo>
                <a:cubicBezTo>
                  <a:pt x="251" y="3134"/>
                  <a:pt x="296" y="3160"/>
                  <a:pt x="336" y="3192"/>
                </a:cubicBezTo>
                <a:lnTo>
                  <a:pt x="432" y="3288"/>
                </a:lnTo>
                <a:lnTo>
                  <a:pt x="528" y="3432"/>
                </a:lnTo>
                <a:lnTo>
                  <a:pt x="672" y="3384"/>
                </a:lnTo>
                <a:lnTo>
                  <a:pt x="672" y="3480"/>
                </a:lnTo>
                <a:lnTo>
                  <a:pt x="768" y="3576"/>
                </a:lnTo>
                <a:close/>
              </a:path>
            </a:pathLst>
          </a:custGeom>
          <a:solidFill>
            <a:srgbClr val="003366">
              <a:alpha val="33000"/>
            </a:srgbClr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0" y="2590920"/>
            <a:ext cx="362412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esopotami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4876920"/>
            <a:ext cx="167652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gyp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208480" y="266688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esopotam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3280" y="5257800"/>
            <a:ext cx="12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11720" y="504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at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208480" y="266688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esopotam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3280" y="5257800"/>
            <a:ext cx="12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11720" y="504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at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1308240"/>
            <a:ext cx="3682800" cy="3682800"/>
          </a:xfrm>
          <a:custGeom>
            <a:avLst/>
            <a:gdLst/>
            <a:ahLst/>
            <a:rect l="l" t="t" r="r" b="b"/>
            <a:pathLst>
              <a:path w="2320" h="2320">
                <a:moveTo>
                  <a:pt x="0" y="1912"/>
                </a:moveTo>
                <a:cubicBezTo>
                  <a:pt x="44" y="1876"/>
                  <a:pt x="299" y="1916"/>
                  <a:pt x="406" y="1890"/>
                </a:cubicBezTo>
                <a:cubicBezTo>
                  <a:pt x="513" y="1864"/>
                  <a:pt x="580" y="1829"/>
                  <a:pt x="640" y="1753"/>
                </a:cubicBezTo>
                <a:cubicBezTo>
                  <a:pt x="700" y="1677"/>
                  <a:pt x="691" y="1589"/>
                  <a:pt x="768" y="1432"/>
                </a:cubicBezTo>
                <a:cubicBezTo>
                  <a:pt x="845" y="1275"/>
                  <a:pt x="1040" y="976"/>
                  <a:pt x="1104" y="808"/>
                </a:cubicBezTo>
                <a:cubicBezTo>
                  <a:pt x="1168" y="640"/>
                  <a:pt x="1160" y="544"/>
                  <a:pt x="1152" y="424"/>
                </a:cubicBezTo>
                <a:cubicBezTo>
                  <a:pt x="1144" y="304"/>
                  <a:pt x="1024" y="144"/>
                  <a:pt x="1056" y="88"/>
                </a:cubicBezTo>
                <a:cubicBezTo>
                  <a:pt x="1088" y="32"/>
                  <a:pt x="1256" y="96"/>
                  <a:pt x="1344" y="88"/>
                </a:cubicBezTo>
                <a:cubicBezTo>
                  <a:pt x="1432" y="80"/>
                  <a:pt x="1560" y="0"/>
                  <a:pt x="1584" y="40"/>
                </a:cubicBezTo>
                <a:lnTo>
                  <a:pt x="1488" y="328"/>
                </a:lnTo>
                <a:lnTo>
                  <a:pt x="1344" y="616"/>
                </a:lnTo>
                <a:lnTo>
                  <a:pt x="1248" y="808"/>
                </a:lnTo>
                <a:cubicBezTo>
                  <a:pt x="1272" y="808"/>
                  <a:pt x="1408" y="664"/>
                  <a:pt x="1488" y="616"/>
                </a:cubicBezTo>
                <a:cubicBezTo>
                  <a:pt x="1568" y="568"/>
                  <a:pt x="1640" y="544"/>
                  <a:pt x="1728" y="520"/>
                </a:cubicBezTo>
                <a:cubicBezTo>
                  <a:pt x="1816" y="496"/>
                  <a:pt x="1952" y="432"/>
                  <a:pt x="2016" y="472"/>
                </a:cubicBezTo>
                <a:cubicBezTo>
                  <a:pt x="2080" y="512"/>
                  <a:pt x="2072" y="680"/>
                  <a:pt x="2112" y="760"/>
                </a:cubicBezTo>
                <a:cubicBezTo>
                  <a:pt x="2152" y="840"/>
                  <a:pt x="2320" y="920"/>
                  <a:pt x="2256" y="952"/>
                </a:cubicBezTo>
                <a:cubicBezTo>
                  <a:pt x="2192" y="984"/>
                  <a:pt x="1872" y="936"/>
                  <a:pt x="1728" y="952"/>
                </a:cubicBezTo>
                <a:cubicBezTo>
                  <a:pt x="1584" y="968"/>
                  <a:pt x="1504" y="992"/>
                  <a:pt x="1392" y="1048"/>
                </a:cubicBezTo>
                <a:cubicBezTo>
                  <a:pt x="1280" y="1104"/>
                  <a:pt x="1136" y="1192"/>
                  <a:pt x="1056" y="1288"/>
                </a:cubicBezTo>
                <a:cubicBezTo>
                  <a:pt x="976" y="1384"/>
                  <a:pt x="968" y="1504"/>
                  <a:pt x="912" y="1624"/>
                </a:cubicBezTo>
                <a:cubicBezTo>
                  <a:pt x="856" y="1744"/>
                  <a:pt x="800" y="1904"/>
                  <a:pt x="720" y="2008"/>
                </a:cubicBezTo>
                <a:cubicBezTo>
                  <a:pt x="640" y="2112"/>
                  <a:pt x="528" y="2200"/>
                  <a:pt x="432" y="2248"/>
                </a:cubicBezTo>
                <a:cubicBezTo>
                  <a:pt x="336" y="2296"/>
                  <a:pt x="192" y="2320"/>
                  <a:pt x="144" y="2296"/>
                </a:cubicBezTo>
                <a:cubicBezTo>
                  <a:pt x="96" y="2272"/>
                  <a:pt x="168" y="2168"/>
                  <a:pt x="144" y="2104"/>
                </a:cubicBezTo>
                <a:cubicBezTo>
                  <a:pt x="120" y="2040"/>
                  <a:pt x="30" y="1952"/>
                  <a:pt x="0" y="1912"/>
                </a:cubicBezTo>
                <a:close/>
              </a:path>
            </a:pathLst>
          </a:custGeom>
          <a:solidFill>
            <a:srgbClr val="003300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74480" y="2971800"/>
            <a:ext cx="144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ri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41840" y="4038480"/>
            <a:ext cx="163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273760" y="35654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sra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28600" y="533520"/>
            <a:ext cx="3288960" cy="2361960"/>
            <a:chOff x="228600" y="533520"/>
            <a:chExt cx="3288960" cy="2361960"/>
          </a:xfrm>
        </p:grpSpPr>
        <p:sp>
          <p:nvSpPr>
            <p:cNvPr id="100" name=""/>
            <p:cNvSpPr/>
            <p:nvPr/>
          </p:nvSpPr>
          <p:spPr>
            <a:xfrm>
              <a:off x="2305080" y="657360"/>
              <a:ext cx="121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Hittit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228600" y="533520"/>
              <a:ext cx="1965240" cy="236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"/>
          <p:cNvGrpSpPr/>
          <p:nvPr/>
        </p:nvGrpSpPr>
        <p:grpSpPr>
          <a:xfrm>
            <a:off x="5437440" y="685800"/>
            <a:ext cx="3325680" cy="2011320"/>
            <a:chOff x="5437440" y="685800"/>
            <a:chExt cx="3325680" cy="2011320"/>
          </a:xfrm>
        </p:grpSpPr>
        <p:sp>
          <p:nvSpPr>
            <p:cNvPr id="103" name=""/>
            <p:cNvSpPr/>
            <p:nvPr/>
          </p:nvSpPr>
          <p:spPr>
            <a:xfrm>
              <a:off x="5437440" y="1828800"/>
              <a:ext cx="136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Assyri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858000" y="685800"/>
              <a:ext cx="1905120" cy="201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482400" y="4648320"/>
            <a:ext cx="4356360" cy="1965240"/>
            <a:chOff x="482400" y="4648320"/>
            <a:chExt cx="4356360" cy="1965240"/>
          </a:xfrm>
        </p:grpSpPr>
        <p:sp>
          <p:nvSpPr>
            <p:cNvPr id="106" name=""/>
            <p:cNvSpPr/>
            <p:nvPr/>
          </p:nvSpPr>
          <p:spPr>
            <a:xfrm>
              <a:off x="482400" y="5257800"/>
              <a:ext cx="112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Egyp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5"/>
            <a:stretch/>
          </p:blipFill>
          <p:spPr>
            <a:xfrm>
              <a:off x="1981080" y="4648320"/>
              <a:ext cx="2857680" cy="1965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6324480" y="3809880"/>
            <a:ext cx="1857600" cy="1362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615360" y="3290760"/>
            <a:ext cx="177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abyl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37440" y="1828800"/>
            <a:ext cx="13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sy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15360" y="3290760"/>
            <a:ext cx="177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abyl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2400" y="5257800"/>
            <a:ext cx="11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gy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05080" y="6573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itt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20280" y="280368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89280" y="289548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hoeni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3124080"/>
            <a:ext cx="457200" cy="76320"/>
          </a:xfrm>
          <a:prstGeom prst="line">
            <a:avLst/>
          </a:prstGeom>
          <a:ln w="936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73760" y="35654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sra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743280" y="-1676520"/>
            <a:ext cx="5400720" cy="8534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" y="22096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entral Mountain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" y="1676520"/>
            <a:ext cx="28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Coastal Pl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3048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Jordan Rift Vall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9280" y="3581280"/>
            <a:ext cx="21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rans Jord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733920" y="5756400"/>
            <a:ext cx="6553080" cy="1101600"/>
          </a:xfrm>
          <a:prstGeom prst="rect">
            <a:avLst/>
          </a:prstGeom>
          <a:ln w="9360">
            <a:solidFill>
              <a:srgbClr val="00b00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4648320" y="5562720"/>
            <a:ext cx="0" cy="761760"/>
          </a:xfrm>
          <a:prstGeom prst="line">
            <a:avLst/>
          </a:prstGeom>
          <a:ln w="76320">
            <a:solidFill>
              <a:srgbClr val="00b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48520" y="5181480"/>
            <a:ext cx="0" cy="762120"/>
          </a:xfrm>
          <a:prstGeom prst="line">
            <a:avLst/>
          </a:prstGeom>
          <a:ln w="76320">
            <a:solidFill>
              <a:srgbClr val="00b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15200" y="5791320"/>
            <a:ext cx="0" cy="761760"/>
          </a:xfrm>
          <a:prstGeom prst="line">
            <a:avLst/>
          </a:prstGeom>
          <a:ln w="76320">
            <a:solidFill>
              <a:srgbClr val="00b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534520" y="5181480"/>
            <a:ext cx="0" cy="762120"/>
          </a:xfrm>
          <a:prstGeom prst="line">
            <a:avLst/>
          </a:prstGeom>
          <a:ln w="76320">
            <a:solidFill>
              <a:srgbClr val="00b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788000" cy="7086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738680" cy="7086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38" dur="1" fill="hold"/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743280" y="-1676520"/>
            <a:ext cx="5400720" cy="85345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28600" y="3808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Valley of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Jezre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9200" y="12938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Jezre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0" y="254160"/>
            <a:ext cx="9144000" cy="608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8" dur="1" fill="hold"/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r. John T. Stevens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495680" y="17226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y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ademic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246384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3657600" cy="403848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743280" y="-1676520"/>
            <a:ext cx="5400720" cy="8534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3808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Valley of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Jezre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1371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Yarmuk 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67560" y="1228680"/>
            <a:ext cx="1200240" cy="358920"/>
          </a:xfrm>
          <a:custGeom>
            <a:avLst/>
            <a:gdLst/>
            <a:ahLst/>
            <a:rect l="l" t="t" r="r" b="b"/>
            <a:pathLst>
              <a:path w="756" h="226">
                <a:moveTo>
                  <a:pt x="0" y="215"/>
                </a:moveTo>
                <a:cubicBezTo>
                  <a:pt x="56" y="159"/>
                  <a:pt x="24" y="175"/>
                  <a:pt x="89" y="159"/>
                </a:cubicBezTo>
                <a:cubicBezTo>
                  <a:pt x="100" y="152"/>
                  <a:pt x="110" y="137"/>
                  <a:pt x="123" y="137"/>
                </a:cubicBezTo>
                <a:cubicBezTo>
                  <a:pt x="146" y="137"/>
                  <a:pt x="189" y="159"/>
                  <a:pt x="189" y="159"/>
                </a:cubicBezTo>
                <a:cubicBezTo>
                  <a:pt x="253" y="63"/>
                  <a:pt x="166" y="178"/>
                  <a:pt x="245" y="115"/>
                </a:cubicBezTo>
                <a:cubicBezTo>
                  <a:pt x="256" y="107"/>
                  <a:pt x="256" y="88"/>
                  <a:pt x="267" y="81"/>
                </a:cubicBezTo>
                <a:cubicBezTo>
                  <a:pt x="287" y="68"/>
                  <a:pt x="334" y="59"/>
                  <a:pt x="334" y="59"/>
                </a:cubicBezTo>
                <a:cubicBezTo>
                  <a:pt x="422" y="0"/>
                  <a:pt x="374" y="11"/>
                  <a:pt x="478" y="26"/>
                </a:cubicBezTo>
                <a:cubicBezTo>
                  <a:pt x="482" y="37"/>
                  <a:pt x="479" y="54"/>
                  <a:pt x="489" y="59"/>
                </a:cubicBezTo>
                <a:cubicBezTo>
                  <a:pt x="500" y="64"/>
                  <a:pt x="511" y="48"/>
                  <a:pt x="523" y="48"/>
                </a:cubicBezTo>
                <a:cubicBezTo>
                  <a:pt x="550" y="48"/>
                  <a:pt x="574" y="64"/>
                  <a:pt x="600" y="70"/>
                </a:cubicBezTo>
                <a:cubicBezTo>
                  <a:pt x="638" y="96"/>
                  <a:pt x="633" y="86"/>
                  <a:pt x="656" y="126"/>
                </a:cubicBezTo>
                <a:cubicBezTo>
                  <a:pt x="664" y="140"/>
                  <a:pt x="666" y="158"/>
                  <a:pt x="678" y="170"/>
                </a:cubicBezTo>
                <a:cubicBezTo>
                  <a:pt x="686" y="178"/>
                  <a:pt x="700" y="177"/>
                  <a:pt x="711" y="181"/>
                </a:cubicBezTo>
                <a:cubicBezTo>
                  <a:pt x="715" y="192"/>
                  <a:pt x="715" y="207"/>
                  <a:pt x="723" y="215"/>
                </a:cubicBezTo>
                <a:cubicBezTo>
                  <a:pt x="731" y="223"/>
                  <a:pt x="756" y="226"/>
                  <a:pt x="756" y="226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2133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Jabbok 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04200" y="2998800"/>
            <a:ext cx="1616040" cy="360360"/>
          </a:xfrm>
          <a:custGeom>
            <a:avLst/>
            <a:gdLst/>
            <a:ahLst/>
            <a:rect l="l" t="t" r="r" b="b"/>
            <a:pathLst>
              <a:path w="1018" h="227">
                <a:moveTo>
                  <a:pt x="18" y="211"/>
                </a:moveTo>
                <a:cubicBezTo>
                  <a:pt x="102" y="183"/>
                  <a:pt x="0" y="227"/>
                  <a:pt x="63" y="155"/>
                </a:cubicBezTo>
                <a:cubicBezTo>
                  <a:pt x="80" y="135"/>
                  <a:pt x="129" y="111"/>
                  <a:pt x="129" y="111"/>
                </a:cubicBezTo>
                <a:cubicBezTo>
                  <a:pt x="180" y="34"/>
                  <a:pt x="165" y="70"/>
                  <a:pt x="185" y="11"/>
                </a:cubicBezTo>
                <a:cubicBezTo>
                  <a:pt x="200" y="15"/>
                  <a:pt x="215" y="16"/>
                  <a:pt x="229" y="22"/>
                </a:cubicBezTo>
                <a:cubicBezTo>
                  <a:pt x="241" y="27"/>
                  <a:pt x="250" y="41"/>
                  <a:pt x="263" y="44"/>
                </a:cubicBezTo>
                <a:cubicBezTo>
                  <a:pt x="299" y="52"/>
                  <a:pt x="337" y="51"/>
                  <a:pt x="374" y="55"/>
                </a:cubicBezTo>
                <a:cubicBezTo>
                  <a:pt x="430" y="74"/>
                  <a:pt x="555" y="47"/>
                  <a:pt x="596" y="44"/>
                </a:cubicBezTo>
                <a:cubicBezTo>
                  <a:pt x="632" y="32"/>
                  <a:pt x="660" y="12"/>
                  <a:pt x="696" y="0"/>
                </a:cubicBezTo>
                <a:cubicBezTo>
                  <a:pt x="788" y="30"/>
                  <a:pt x="740" y="19"/>
                  <a:pt x="840" y="33"/>
                </a:cubicBezTo>
                <a:cubicBezTo>
                  <a:pt x="887" y="48"/>
                  <a:pt x="893" y="28"/>
                  <a:pt x="940" y="44"/>
                </a:cubicBezTo>
                <a:cubicBezTo>
                  <a:pt x="955" y="116"/>
                  <a:pt x="948" y="111"/>
                  <a:pt x="1018" y="111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06240" y="20574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il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29718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Arnon 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67560" y="5397480"/>
            <a:ext cx="1606680" cy="303120"/>
          </a:xfrm>
          <a:custGeom>
            <a:avLst/>
            <a:gdLst/>
            <a:ahLst/>
            <a:rect l="l" t="t" r="r" b="b"/>
            <a:pathLst>
              <a:path w="1012" h="191">
                <a:moveTo>
                  <a:pt x="0" y="0"/>
                </a:moveTo>
                <a:cubicBezTo>
                  <a:pt x="11" y="4"/>
                  <a:pt x="24" y="5"/>
                  <a:pt x="34" y="11"/>
                </a:cubicBezTo>
                <a:cubicBezTo>
                  <a:pt x="57" y="24"/>
                  <a:pt x="75" y="47"/>
                  <a:pt x="100" y="55"/>
                </a:cubicBezTo>
                <a:cubicBezTo>
                  <a:pt x="122" y="62"/>
                  <a:pt x="167" y="77"/>
                  <a:pt x="167" y="77"/>
                </a:cubicBezTo>
                <a:cubicBezTo>
                  <a:pt x="193" y="73"/>
                  <a:pt x="240" y="69"/>
                  <a:pt x="267" y="55"/>
                </a:cubicBezTo>
                <a:cubicBezTo>
                  <a:pt x="279" y="49"/>
                  <a:pt x="288" y="38"/>
                  <a:pt x="300" y="33"/>
                </a:cubicBezTo>
                <a:cubicBezTo>
                  <a:pt x="322" y="24"/>
                  <a:pt x="367" y="11"/>
                  <a:pt x="367" y="11"/>
                </a:cubicBezTo>
                <a:cubicBezTo>
                  <a:pt x="396" y="15"/>
                  <a:pt x="447" y="17"/>
                  <a:pt x="478" y="33"/>
                </a:cubicBezTo>
                <a:cubicBezTo>
                  <a:pt x="561" y="75"/>
                  <a:pt x="462" y="39"/>
                  <a:pt x="545" y="66"/>
                </a:cubicBezTo>
                <a:cubicBezTo>
                  <a:pt x="569" y="91"/>
                  <a:pt x="598" y="109"/>
                  <a:pt x="623" y="133"/>
                </a:cubicBezTo>
                <a:cubicBezTo>
                  <a:pt x="688" y="126"/>
                  <a:pt x="739" y="107"/>
                  <a:pt x="800" y="122"/>
                </a:cubicBezTo>
                <a:cubicBezTo>
                  <a:pt x="808" y="129"/>
                  <a:pt x="813" y="139"/>
                  <a:pt x="823" y="144"/>
                </a:cubicBezTo>
                <a:cubicBezTo>
                  <a:pt x="837" y="151"/>
                  <a:pt x="855" y="146"/>
                  <a:pt x="867" y="155"/>
                </a:cubicBezTo>
                <a:cubicBezTo>
                  <a:pt x="878" y="163"/>
                  <a:pt x="882" y="178"/>
                  <a:pt x="889" y="189"/>
                </a:cubicBezTo>
                <a:cubicBezTo>
                  <a:pt x="997" y="176"/>
                  <a:pt x="959" y="191"/>
                  <a:pt x="1012" y="166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44880" y="5664240"/>
            <a:ext cx="10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a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067680" cy="6075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5730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-76320" y="914400"/>
            <a:ext cx="9372600" cy="592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23" dur="1" fill="hold"/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3504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Majors Road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2438280"/>
            <a:ext cx="3276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King’s High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743280" y="-1143000"/>
            <a:ext cx="5400720" cy="85345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04920" y="3657600"/>
            <a:ext cx="32763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Way of the Sea (the Way of the Philistin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40040" y="652320"/>
            <a:ext cx="4621320" cy="5608800"/>
          </a:xfrm>
          <a:custGeom>
            <a:avLst/>
            <a:gdLst/>
            <a:ahLst/>
            <a:rect l="l" t="t" r="r" b="b"/>
            <a:pathLst>
              <a:path w="2911" h="3533">
                <a:moveTo>
                  <a:pt x="2911" y="0"/>
                </a:moveTo>
                <a:cubicBezTo>
                  <a:pt x="2842" y="103"/>
                  <a:pt x="2724" y="133"/>
                  <a:pt x="2611" y="167"/>
                </a:cubicBezTo>
                <a:cubicBezTo>
                  <a:pt x="2573" y="179"/>
                  <a:pt x="2539" y="201"/>
                  <a:pt x="2500" y="211"/>
                </a:cubicBezTo>
                <a:cubicBezTo>
                  <a:pt x="2449" y="223"/>
                  <a:pt x="2396" y="224"/>
                  <a:pt x="2345" y="233"/>
                </a:cubicBezTo>
                <a:cubicBezTo>
                  <a:pt x="2273" y="305"/>
                  <a:pt x="2376" y="209"/>
                  <a:pt x="2289" y="267"/>
                </a:cubicBezTo>
                <a:cubicBezTo>
                  <a:pt x="2207" y="321"/>
                  <a:pt x="2302" y="285"/>
                  <a:pt x="2222" y="311"/>
                </a:cubicBezTo>
                <a:cubicBezTo>
                  <a:pt x="2211" y="318"/>
                  <a:pt x="2199" y="325"/>
                  <a:pt x="2189" y="333"/>
                </a:cubicBezTo>
                <a:cubicBezTo>
                  <a:pt x="2181" y="340"/>
                  <a:pt x="2175" y="350"/>
                  <a:pt x="2167" y="356"/>
                </a:cubicBezTo>
                <a:cubicBezTo>
                  <a:pt x="2146" y="372"/>
                  <a:pt x="2100" y="400"/>
                  <a:pt x="2100" y="400"/>
                </a:cubicBezTo>
                <a:cubicBezTo>
                  <a:pt x="2072" y="443"/>
                  <a:pt x="2040" y="479"/>
                  <a:pt x="2011" y="522"/>
                </a:cubicBezTo>
                <a:cubicBezTo>
                  <a:pt x="2003" y="533"/>
                  <a:pt x="1989" y="556"/>
                  <a:pt x="1989" y="556"/>
                </a:cubicBezTo>
                <a:cubicBezTo>
                  <a:pt x="1974" y="615"/>
                  <a:pt x="1964" y="621"/>
                  <a:pt x="1933" y="667"/>
                </a:cubicBezTo>
                <a:cubicBezTo>
                  <a:pt x="1904" y="710"/>
                  <a:pt x="1921" y="707"/>
                  <a:pt x="1889" y="744"/>
                </a:cubicBezTo>
                <a:cubicBezTo>
                  <a:pt x="1872" y="764"/>
                  <a:pt x="1848" y="778"/>
                  <a:pt x="1833" y="800"/>
                </a:cubicBezTo>
                <a:cubicBezTo>
                  <a:pt x="1802" y="846"/>
                  <a:pt x="1776" y="872"/>
                  <a:pt x="1722" y="889"/>
                </a:cubicBezTo>
                <a:cubicBezTo>
                  <a:pt x="1690" y="937"/>
                  <a:pt x="1674" y="927"/>
                  <a:pt x="1622" y="944"/>
                </a:cubicBezTo>
                <a:cubicBezTo>
                  <a:pt x="1591" y="976"/>
                  <a:pt x="1561" y="972"/>
                  <a:pt x="1522" y="989"/>
                </a:cubicBezTo>
                <a:cubicBezTo>
                  <a:pt x="1454" y="1018"/>
                  <a:pt x="1498" y="1011"/>
                  <a:pt x="1411" y="1033"/>
                </a:cubicBezTo>
                <a:cubicBezTo>
                  <a:pt x="1392" y="1038"/>
                  <a:pt x="1352" y="1046"/>
                  <a:pt x="1333" y="1056"/>
                </a:cubicBezTo>
                <a:cubicBezTo>
                  <a:pt x="1259" y="1093"/>
                  <a:pt x="1345" y="1067"/>
                  <a:pt x="1256" y="1089"/>
                </a:cubicBezTo>
                <a:cubicBezTo>
                  <a:pt x="1221" y="1112"/>
                  <a:pt x="1206" y="1137"/>
                  <a:pt x="1178" y="1167"/>
                </a:cubicBezTo>
                <a:cubicBezTo>
                  <a:pt x="1159" y="1225"/>
                  <a:pt x="1145" y="1282"/>
                  <a:pt x="1111" y="1333"/>
                </a:cubicBezTo>
                <a:cubicBezTo>
                  <a:pt x="1107" y="1344"/>
                  <a:pt x="1105" y="1356"/>
                  <a:pt x="1100" y="1367"/>
                </a:cubicBezTo>
                <a:cubicBezTo>
                  <a:pt x="1094" y="1379"/>
                  <a:pt x="1082" y="1388"/>
                  <a:pt x="1078" y="1400"/>
                </a:cubicBezTo>
                <a:cubicBezTo>
                  <a:pt x="1068" y="1429"/>
                  <a:pt x="1063" y="1459"/>
                  <a:pt x="1056" y="1489"/>
                </a:cubicBezTo>
                <a:cubicBezTo>
                  <a:pt x="1042" y="1544"/>
                  <a:pt x="1021" y="1575"/>
                  <a:pt x="1000" y="1622"/>
                </a:cubicBezTo>
                <a:cubicBezTo>
                  <a:pt x="979" y="1669"/>
                  <a:pt x="971" y="1718"/>
                  <a:pt x="956" y="1767"/>
                </a:cubicBezTo>
                <a:cubicBezTo>
                  <a:pt x="941" y="1815"/>
                  <a:pt x="925" y="1863"/>
                  <a:pt x="911" y="1911"/>
                </a:cubicBezTo>
                <a:cubicBezTo>
                  <a:pt x="904" y="1934"/>
                  <a:pt x="889" y="1978"/>
                  <a:pt x="889" y="1978"/>
                </a:cubicBezTo>
                <a:cubicBezTo>
                  <a:pt x="880" y="2042"/>
                  <a:pt x="879" y="2072"/>
                  <a:pt x="844" y="2122"/>
                </a:cubicBezTo>
                <a:cubicBezTo>
                  <a:pt x="823" y="2207"/>
                  <a:pt x="794" y="2269"/>
                  <a:pt x="756" y="2344"/>
                </a:cubicBezTo>
                <a:cubicBezTo>
                  <a:pt x="734" y="2386"/>
                  <a:pt x="726" y="2444"/>
                  <a:pt x="711" y="2489"/>
                </a:cubicBezTo>
                <a:cubicBezTo>
                  <a:pt x="691" y="2551"/>
                  <a:pt x="692" y="2619"/>
                  <a:pt x="644" y="2667"/>
                </a:cubicBezTo>
                <a:cubicBezTo>
                  <a:pt x="614" y="2786"/>
                  <a:pt x="655" y="2644"/>
                  <a:pt x="611" y="2744"/>
                </a:cubicBezTo>
                <a:cubicBezTo>
                  <a:pt x="588" y="2796"/>
                  <a:pt x="586" y="2833"/>
                  <a:pt x="555" y="2878"/>
                </a:cubicBezTo>
                <a:cubicBezTo>
                  <a:pt x="544" y="2923"/>
                  <a:pt x="532" y="2945"/>
                  <a:pt x="500" y="2978"/>
                </a:cubicBezTo>
                <a:cubicBezTo>
                  <a:pt x="486" y="3021"/>
                  <a:pt x="459" y="3043"/>
                  <a:pt x="433" y="3078"/>
                </a:cubicBezTo>
                <a:cubicBezTo>
                  <a:pt x="417" y="3099"/>
                  <a:pt x="389" y="3144"/>
                  <a:pt x="389" y="3144"/>
                </a:cubicBezTo>
                <a:cubicBezTo>
                  <a:pt x="385" y="3155"/>
                  <a:pt x="385" y="3169"/>
                  <a:pt x="378" y="3178"/>
                </a:cubicBezTo>
                <a:cubicBezTo>
                  <a:pt x="370" y="3189"/>
                  <a:pt x="354" y="3191"/>
                  <a:pt x="344" y="3200"/>
                </a:cubicBezTo>
                <a:cubicBezTo>
                  <a:pt x="252" y="3275"/>
                  <a:pt x="366" y="3197"/>
                  <a:pt x="278" y="3255"/>
                </a:cubicBezTo>
                <a:cubicBezTo>
                  <a:pt x="252" y="3293"/>
                  <a:pt x="227" y="3318"/>
                  <a:pt x="189" y="3344"/>
                </a:cubicBezTo>
                <a:cubicBezTo>
                  <a:pt x="133" y="3431"/>
                  <a:pt x="205" y="3329"/>
                  <a:pt x="133" y="3400"/>
                </a:cubicBezTo>
                <a:cubicBezTo>
                  <a:pt x="82" y="3450"/>
                  <a:pt x="143" y="3422"/>
                  <a:pt x="78" y="3444"/>
                </a:cubicBezTo>
                <a:cubicBezTo>
                  <a:pt x="49" y="3473"/>
                  <a:pt x="28" y="3505"/>
                  <a:pt x="0" y="3533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34760" y="2057400"/>
            <a:ext cx="18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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Megid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45040" y="4199040"/>
            <a:ext cx="3336840" cy="561960"/>
          </a:xfrm>
          <a:custGeom>
            <a:avLst/>
            <a:gdLst/>
            <a:ahLst/>
            <a:rect l="l" t="t" r="r" b="b"/>
            <a:pathLst>
              <a:path w="1756" h="354">
                <a:moveTo>
                  <a:pt x="1756" y="244"/>
                </a:moveTo>
                <a:cubicBezTo>
                  <a:pt x="1701" y="226"/>
                  <a:pt x="1705" y="222"/>
                  <a:pt x="1623" y="244"/>
                </a:cubicBezTo>
                <a:cubicBezTo>
                  <a:pt x="1613" y="247"/>
                  <a:pt x="1609" y="261"/>
                  <a:pt x="1600" y="266"/>
                </a:cubicBezTo>
                <a:cubicBezTo>
                  <a:pt x="1590" y="272"/>
                  <a:pt x="1578" y="273"/>
                  <a:pt x="1567" y="277"/>
                </a:cubicBezTo>
                <a:cubicBezTo>
                  <a:pt x="1515" y="354"/>
                  <a:pt x="1468" y="308"/>
                  <a:pt x="1389" y="299"/>
                </a:cubicBezTo>
                <a:cubicBezTo>
                  <a:pt x="1345" y="294"/>
                  <a:pt x="1300" y="292"/>
                  <a:pt x="1256" y="288"/>
                </a:cubicBezTo>
                <a:cubicBezTo>
                  <a:pt x="1245" y="284"/>
                  <a:pt x="1234" y="279"/>
                  <a:pt x="1223" y="277"/>
                </a:cubicBezTo>
                <a:cubicBezTo>
                  <a:pt x="1194" y="272"/>
                  <a:pt x="1163" y="273"/>
                  <a:pt x="1134" y="266"/>
                </a:cubicBezTo>
                <a:cubicBezTo>
                  <a:pt x="1107" y="259"/>
                  <a:pt x="1083" y="240"/>
                  <a:pt x="1056" y="233"/>
                </a:cubicBezTo>
                <a:cubicBezTo>
                  <a:pt x="965" y="210"/>
                  <a:pt x="871" y="197"/>
                  <a:pt x="778" y="188"/>
                </a:cubicBezTo>
                <a:cubicBezTo>
                  <a:pt x="650" y="162"/>
                  <a:pt x="514" y="157"/>
                  <a:pt x="389" y="199"/>
                </a:cubicBezTo>
                <a:cubicBezTo>
                  <a:pt x="344" y="192"/>
                  <a:pt x="320" y="197"/>
                  <a:pt x="289" y="166"/>
                </a:cubicBezTo>
                <a:cubicBezTo>
                  <a:pt x="264" y="141"/>
                  <a:pt x="263" y="102"/>
                  <a:pt x="222" y="88"/>
                </a:cubicBezTo>
                <a:cubicBezTo>
                  <a:pt x="200" y="81"/>
                  <a:pt x="156" y="66"/>
                  <a:pt x="156" y="66"/>
                </a:cubicBezTo>
                <a:cubicBezTo>
                  <a:pt x="112" y="0"/>
                  <a:pt x="69" y="10"/>
                  <a:pt x="0" y="10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85600" y="4038480"/>
            <a:ext cx="123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Jeric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45440" y="-88920"/>
            <a:ext cx="681120" cy="7443720"/>
          </a:xfrm>
          <a:custGeom>
            <a:avLst/>
            <a:gdLst/>
            <a:ahLst/>
            <a:rect l="l" t="t" r="r" b="b"/>
            <a:pathLst>
              <a:path w="429" h="4689">
                <a:moveTo>
                  <a:pt x="429" y="0"/>
                </a:moveTo>
                <a:cubicBezTo>
                  <a:pt x="414" y="15"/>
                  <a:pt x="391" y="25"/>
                  <a:pt x="384" y="45"/>
                </a:cubicBezTo>
                <a:cubicBezTo>
                  <a:pt x="376" y="68"/>
                  <a:pt x="370" y="95"/>
                  <a:pt x="351" y="112"/>
                </a:cubicBezTo>
                <a:cubicBezTo>
                  <a:pt x="307" y="151"/>
                  <a:pt x="264" y="158"/>
                  <a:pt x="218" y="189"/>
                </a:cubicBezTo>
                <a:cubicBezTo>
                  <a:pt x="190" y="232"/>
                  <a:pt x="195" y="249"/>
                  <a:pt x="151" y="278"/>
                </a:cubicBezTo>
                <a:cubicBezTo>
                  <a:pt x="124" y="361"/>
                  <a:pt x="160" y="262"/>
                  <a:pt x="118" y="345"/>
                </a:cubicBezTo>
                <a:cubicBezTo>
                  <a:pt x="108" y="365"/>
                  <a:pt x="102" y="403"/>
                  <a:pt x="96" y="423"/>
                </a:cubicBezTo>
                <a:cubicBezTo>
                  <a:pt x="89" y="445"/>
                  <a:pt x="80" y="467"/>
                  <a:pt x="73" y="489"/>
                </a:cubicBezTo>
                <a:cubicBezTo>
                  <a:pt x="69" y="500"/>
                  <a:pt x="62" y="523"/>
                  <a:pt x="62" y="523"/>
                </a:cubicBezTo>
                <a:cubicBezTo>
                  <a:pt x="73" y="568"/>
                  <a:pt x="80" y="613"/>
                  <a:pt x="96" y="656"/>
                </a:cubicBezTo>
                <a:cubicBezTo>
                  <a:pt x="80" y="789"/>
                  <a:pt x="65" y="904"/>
                  <a:pt x="107" y="1034"/>
                </a:cubicBezTo>
                <a:cubicBezTo>
                  <a:pt x="110" y="1203"/>
                  <a:pt x="25" y="1522"/>
                  <a:pt x="151" y="1711"/>
                </a:cubicBezTo>
                <a:cubicBezTo>
                  <a:pt x="184" y="1814"/>
                  <a:pt x="144" y="1920"/>
                  <a:pt x="207" y="2011"/>
                </a:cubicBezTo>
                <a:cubicBezTo>
                  <a:pt x="226" y="2070"/>
                  <a:pt x="221" y="2131"/>
                  <a:pt x="240" y="2189"/>
                </a:cubicBezTo>
                <a:cubicBezTo>
                  <a:pt x="236" y="2263"/>
                  <a:pt x="236" y="2337"/>
                  <a:pt x="229" y="2411"/>
                </a:cubicBezTo>
                <a:cubicBezTo>
                  <a:pt x="221" y="2491"/>
                  <a:pt x="192" y="2558"/>
                  <a:pt x="173" y="2634"/>
                </a:cubicBezTo>
                <a:cubicBezTo>
                  <a:pt x="165" y="2666"/>
                  <a:pt x="158" y="2729"/>
                  <a:pt x="140" y="2756"/>
                </a:cubicBezTo>
                <a:cubicBezTo>
                  <a:pt x="112" y="2799"/>
                  <a:pt x="122" y="2776"/>
                  <a:pt x="107" y="2822"/>
                </a:cubicBezTo>
                <a:cubicBezTo>
                  <a:pt x="109" y="2881"/>
                  <a:pt x="118" y="3511"/>
                  <a:pt x="151" y="3611"/>
                </a:cubicBezTo>
                <a:cubicBezTo>
                  <a:pt x="170" y="3786"/>
                  <a:pt x="165" y="3692"/>
                  <a:pt x="151" y="3956"/>
                </a:cubicBezTo>
                <a:cubicBezTo>
                  <a:pt x="148" y="4011"/>
                  <a:pt x="145" y="4067"/>
                  <a:pt x="140" y="4122"/>
                </a:cubicBezTo>
                <a:cubicBezTo>
                  <a:pt x="138" y="4141"/>
                  <a:pt x="134" y="4160"/>
                  <a:pt x="129" y="4178"/>
                </a:cubicBezTo>
                <a:cubicBezTo>
                  <a:pt x="123" y="4201"/>
                  <a:pt x="107" y="4245"/>
                  <a:pt x="107" y="4245"/>
                </a:cubicBezTo>
                <a:cubicBezTo>
                  <a:pt x="94" y="4350"/>
                  <a:pt x="54" y="4443"/>
                  <a:pt x="29" y="4545"/>
                </a:cubicBezTo>
                <a:cubicBezTo>
                  <a:pt x="17" y="4675"/>
                  <a:pt x="0" y="4630"/>
                  <a:pt x="29" y="4689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62" dur="1" fill="hold"/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Climate of Canaan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terranean Clim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endent upon winter r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y Rains: Octo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er Rains: Apr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is the Big Idea of the Old Testamen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886200" y="27432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80880" y="4008600"/>
            <a:ext cx="822960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is the Big Idea of the New Testa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286000" y="2209680"/>
            <a:ext cx="4545000" cy="1486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Old Testa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or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2133360" cy="1298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reatio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304560" y="1752480"/>
            <a:ext cx="8381880" cy="6098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1 -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2362320"/>
            <a:ext cx="1981440" cy="1298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362320"/>
            <a:ext cx="2133360" cy="1298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362320" y="609480"/>
            <a:ext cx="411480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e-Histor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62120" y="38098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438280" y="3678120"/>
            <a:ext cx="1981440" cy="1579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440240" y="3678120"/>
            <a:ext cx="2112840" cy="1579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6553080" y="3657600"/>
            <a:ext cx="2133720" cy="1600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6553080" y="2362320"/>
            <a:ext cx="2133720" cy="1298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ower of Bab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267080" y="3886200"/>
            <a:ext cx="4876920" cy="2311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istorical Boo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320" y="1752120"/>
            <a:ext cx="2743200" cy="6858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2000 - 1500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0" y="2438280"/>
            <a:ext cx="2819520" cy="14479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 of the Patriarc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19520" y="1752480"/>
            <a:ext cx="3047760" cy="6858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1500 - 1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1752480"/>
            <a:ext cx="2819520" cy="6858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1000 - 5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14400" y="609480"/>
            <a:ext cx="701028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ld Testament Histor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"/>
          <p:cNvSpPr/>
          <p:nvPr/>
        </p:nvSpPr>
        <p:spPr>
          <a:xfrm>
            <a:off x="8686800" y="1752480"/>
            <a:ext cx="457200" cy="6858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17640" y="1752480"/>
            <a:ext cx="79560" cy="6858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19520" y="2438280"/>
            <a:ext cx="1447560" cy="14479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odus and Sin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67080" y="2438280"/>
            <a:ext cx="1600200" cy="14479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867280" y="2438280"/>
            <a:ext cx="2667240" cy="14479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ngs of Israel and Jud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8115120" y="2857320"/>
            <a:ext cx="144792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u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67280" y="4530600"/>
            <a:ext cx="2590920" cy="581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oetic Boo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886200"/>
            <a:ext cx="4267080" cy="2311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ora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00800" y="5110200"/>
            <a:ext cx="2743200" cy="10688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rophetic Boo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494080" y="2362320"/>
            <a:ext cx="2063520" cy="3124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0" name=""/>
          <p:cNvSpPr txBox="1"/>
          <p:nvPr/>
        </p:nvSpPr>
        <p:spPr>
          <a:xfrm>
            <a:off x="1981080" y="228600"/>
            <a:ext cx="5265720" cy="66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Covenantal Histor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"/>
          <p:cNvSpPr/>
          <p:nvPr/>
        </p:nvSpPr>
        <p:spPr>
          <a:xfrm>
            <a:off x="436680" y="1066680"/>
            <a:ext cx="2057400" cy="1298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reation Coven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893880" y="243828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12640" y="3701880"/>
            <a:ext cx="19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God gives a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54360" y="1066680"/>
            <a:ext cx="1981440" cy="1298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Noahic Coven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4568760" y="2362320"/>
            <a:ext cx="1967040" cy="31399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545160" y="1066680"/>
            <a:ext cx="2133720" cy="1298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brahamic Coven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535800" y="2362320"/>
            <a:ext cx="2151000" cy="31446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700520" y="5484960"/>
            <a:ext cx="162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Renewal of the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32440" y="5468760"/>
            <a:ext cx="162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romise of a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94080" y="1066680"/>
            <a:ext cx="2057400" cy="1298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damic Coven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90920" y="548964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alvation prom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746440" y="2341440"/>
            <a:ext cx="1960560" cy="3144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3" name=""/>
          <p:cNvSpPr txBox="1"/>
          <p:nvPr/>
        </p:nvSpPr>
        <p:spPr>
          <a:xfrm>
            <a:off x="1981080" y="228600"/>
            <a:ext cx="5265720" cy="66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Covenantal Histor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"/>
          <p:cNvSpPr/>
          <p:nvPr/>
        </p:nvSpPr>
        <p:spPr>
          <a:xfrm>
            <a:off x="744480" y="1066680"/>
            <a:ext cx="1981080" cy="1298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osaic Coven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762120" y="2362320"/>
            <a:ext cx="1963440" cy="3124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6" name=""/>
          <p:cNvSpPr/>
          <p:nvPr/>
        </p:nvSpPr>
        <p:spPr>
          <a:xfrm>
            <a:off x="820800" y="5465880"/>
            <a:ext cx="185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Blessings &amp; cursings in the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19440" y="1066680"/>
            <a:ext cx="1987560" cy="1298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Davidic Coven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95760" y="5465880"/>
            <a:ext cx="185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King over the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77040" y="1066680"/>
            <a:ext cx="1987560" cy="1298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New Coven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24760" y="5454720"/>
            <a:ext cx="238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King dies for His king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707000" y="1066680"/>
            <a:ext cx="1676160" cy="1600200"/>
          </a:xfrm>
          <a:prstGeom prst="flowChartDocumen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Remo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from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4707000" y="3138480"/>
            <a:ext cx="1676160" cy="2362320"/>
          </a:xfrm>
          <a:prstGeom prst="flowChartDocumen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Return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o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6324480" y="2362320"/>
            <a:ext cx="2168640" cy="3144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495680" y="17226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y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ademic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essional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143000" y="1676520"/>
            <a:ext cx="2655720" cy="3886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r. John T. Stevens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914400" y="1371600"/>
            <a:ext cx="914400" cy="3429000"/>
            <a:chOff x="914400" y="1371600"/>
            <a:chExt cx="914400" cy="3429000"/>
          </a:xfrm>
        </p:grpSpPr>
        <p:sp>
          <p:nvSpPr>
            <p:cNvPr id="215" name=""/>
            <p:cNvSpPr/>
            <p:nvPr/>
          </p:nvSpPr>
          <p:spPr>
            <a:xfrm>
              <a:off x="914400" y="1371600"/>
              <a:ext cx="914400" cy="342900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88560" y="1600200"/>
              <a:ext cx="721440" cy="2895480"/>
            </a:xfrm>
            <a:custGeom>
              <a:avLst/>
              <a:gdLst/>
              <a:ahLst/>
              <a:rect l="l" t="t" r="r" b="b"/>
              <a:pathLst>
                <a:path w="1704" h="1824">
                  <a:moveTo>
                    <a:pt x="928" y="0"/>
                  </a:moveTo>
                  <a:cubicBezTo>
                    <a:pt x="792" y="20"/>
                    <a:pt x="656" y="40"/>
                    <a:pt x="544" y="96"/>
                  </a:cubicBezTo>
                  <a:cubicBezTo>
                    <a:pt x="432" y="152"/>
                    <a:pt x="336" y="232"/>
                    <a:pt x="256" y="336"/>
                  </a:cubicBezTo>
                  <a:cubicBezTo>
                    <a:pt x="176" y="440"/>
                    <a:pt x="104" y="608"/>
                    <a:pt x="64" y="720"/>
                  </a:cubicBezTo>
                  <a:cubicBezTo>
                    <a:pt x="24" y="832"/>
                    <a:pt x="0" y="896"/>
                    <a:pt x="16" y="1008"/>
                  </a:cubicBezTo>
                  <a:cubicBezTo>
                    <a:pt x="32" y="1120"/>
                    <a:pt x="80" y="1272"/>
                    <a:pt x="160" y="1392"/>
                  </a:cubicBezTo>
                  <a:cubicBezTo>
                    <a:pt x="240" y="1512"/>
                    <a:pt x="376" y="1656"/>
                    <a:pt x="496" y="1728"/>
                  </a:cubicBezTo>
                  <a:cubicBezTo>
                    <a:pt x="616" y="1800"/>
                    <a:pt x="744" y="1824"/>
                    <a:pt x="880" y="1824"/>
                  </a:cubicBezTo>
                  <a:cubicBezTo>
                    <a:pt x="1016" y="1824"/>
                    <a:pt x="1192" y="1792"/>
                    <a:pt x="1312" y="1728"/>
                  </a:cubicBezTo>
                  <a:cubicBezTo>
                    <a:pt x="1432" y="1664"/>
                    <a:pt x="1536" y="1560"/>
                    <a:pt x="1600" y="1440"/>
                  </a:cubicBezTo>
                  <a:cubicBezTo>
                    <a:pt x="1664" y="1320"/>
                    <a:pt x="1704" y="1152"/>
                    <a:pt x="1696" y="1008"/>
                  </a:cubicBezTo>
                  <a:cubicBezTo>
                    <a:pt x="1688" y="864"/>
                    <a:pt x="1632" y="696"/>
                    <a:pt x="1552" y="576"/>
                  </a:cubicBezTo>
                  <a:cubicBezTo>
                    <a:pt x="1472" y="456"/>
                    <a:pt x="1336" y="344"/>
                    <a:pt x="1216" y="288"/>
                  </a:cubicBezTo>
                  <a:cubicBezTo>
                    <a:pt x="1096" y="232"/>
                    <a:pt x="936" y="224"/>
                    <a:pt x="832" y="240"/>
                  </a:cubicBezTo>
                  <a:cubicBezTo>
                    <a:pt x="728" y="256"/>
                    <a:pt x="672" y="304"/>
                    <a:pt x="592" y="384"/>
                  </a:cubicBezTo>
                  <a:cubicBezTo>
                    <a:pt x="512" y="464"/>
                    <a:pt x="392" y="592"/>
                    <a:pt x="352" y="720"/>
                  </a:cubicBezTo>
                  <a:cubicBezTo>
                    <a:pt x="312" y="848"/>
                    <a:pt x="312" y="1024"/>
                    <a:pt x="352" y="1152"/>
                  </a:cubicBezTo>
                  <a:cubicBezTo>
                    <a:pt x="392" y="1280"/>
                    <a:pt x="496" y="1416"/>
                    <a:pt x="592" y="1488"/>
                  </a:cubicBezTo>
                  <a:cubicBezTo>
                    <a:pt x="688" y="1560"/>
                    <a:pt x="824" y="1576"/>
                    <a:pt x="928" y="1584"/>
                  </a:cubicBezTo>
                  <a:cubicBezTo>
                    <a:pt x="1032" y="1592"/>
                    <a:pt x="1136" y="1576"/>
                    <a:pt x="1216" y="1536"/>
                  </a:cubicBezTo>
                  <a:cubicBezTo>
                    <a:pt x="1296" y="1496"/>
                    <a:pt x="1368" y="1440"/>
                    <a:pt x="1408" y="1344"/>
                  </a:cubicBezTo>
                  <a:cubicBezTo>
                    <a:pt x="1448" y="1248"/>
                    <a:pt x="1472" y="1080"/>
                    <a:pt x="1456" y="960"/>
                  </a:cubicBezTo>
                  <a:cubicBezTo>
                    <a:pt x="1440" y="840"/>
                    <a:pt x="1384" y="704"/>
                    <a:pt x="1312" y="624"/>
                  </a:cubicBezTo>
                  <a:cubicBezTo>
                    <a:pt x="1240" y="544"/>
                    <a:pt x="1120" y="488"/>
                    <a:pt x="1024" y="480"/>
                  </a:cubicBezTo>
                  <a:cubicBezTo>
                    <a:pt x="928" y="472"/>
                    <a:pt x="816" y="504"/>
                    <a:pt x="736" y="576"/>
                  </a:cubicBezTo>
                  <a:cubicBezTo>
                    <a:pt x="656" y="648"/>
                    <a:pt x="560" y="792"/>
                    <a:pt x="544" y="912"/>
                  </a:cubicBezTo>
                  <a:cubicBezTo>
                    <a:pt x="528" y="1032"/>
                    <a:pt x="568" y="1216"/>
                    <a:pt x="640" y="1296"/>
                  </a:cubicBezTo>
                  <a:cubicBezTo>
                    <a:pt x="712" y="1376"/>
                    <a:pt x="880" y="1408"/>
                    <a:pt x="976" y="1392"/>
                  </a:cubicBezTo>
                  <a:cubicBezTo>
                    <a:pt x="1072" y="1376"/>
                    <a:pt x="1176" y="1288"/>
                    <a:pt x="1216" y="1200"/>
                  </a:cubicBezTo>
                  <a:cubicBezTo>
                    <a:pt x="1256" y="1112"/>
                    <a:pt x="1240" y="944"/>
                    <a:pt x="1216" y="864"/>
                  </a:cubicBezTo>
                  <a:cubicBezTo>
                    <a:pt x="1192" y="784"/>
                    <a:pt x="1120" y="744"/>
                    <a:pt x="1072" y="720"/>
                  </a:cubicBezTo>
                  <a:cubicBezTo>
                    <a:pt x="1024" y="696"/>
                    <a:pt x="976" y="696"/>
                    <a:pt x="928" y="720"/>
                  </a:cubicBezTo>
                  <a:cubicBezTo>
                    <a:pt x="880" y="744"/>
                    <a:pt x="808" y="808"/>
                    <a:pt x="784" y="864"/>
                  </a:cubicBezTo>
                  <a:cubicBezTo>
                    <a:pt x="760" y="920"/>
                    <a:pt x="760" y="1000"/>
                    <a:pt x="784" y="1056"/>
                  </a:cubicBezTo>
                  <a:cubicBezTo>
                    <a:pt x="808" y="1112"/>
                    <a:pt x="880" y="1184"/>
                    <a:pt x="928" y="1200"/>
                  </a:cubicBezTo>
                  <a:cubicBezTo>
                    <a:pt x="976" y="1216"/>
                    <a:pt x="1040" y="1184"/>
                    <a:pt x="1072" y="1152"/>
                  </a:cubicBezTo>
                  <a:cubicBezTo>
                    <a:pt x="1104" y="1120"/>
                    <a:pt x="1128" y="1048"/>
                    <a:pt x="1120" y="1008"/>
                  </a:cubicBezTo>
                  <a:cubicBezTo>
                    <a:pt x="1112" y="968"/>
                    <a:pt x="1068" y="940"/>
                    <a:pt x="1024" y="912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2362320" y="76320"/>
            <a:ext cx="4572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Indeed, as I live, all the earth will be filled with the glory of the Lord (Numbers 14:21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447920" y="1371240"/>
            <a:ext cx="6476760" cy="341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47920" y="1371600"/>
            <a:ext cx="6476760" cy="3429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367160" y="2598840"/>
            <a:ext cx="539640" cy="7826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905120" y="228600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Peo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N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19920" y="2286000"/>
            <a:ext cx="1600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 Peo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Wor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 N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 rot="16200000">
            <a:off x="-280800" y="2642760"/>
            <a:ext cx="1629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Cre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224" name=""/>
          <p:cNvSpPr txBox="1"/>
          <p:nvPr/>
        </p:nvSpPr>
        <p:spPr>
          <a:xfrm rot="16200000">
            <a:off x="7758000" y="2680920"/>
            <a:ext cx="2009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Re-Cre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225" name=""/>
          <p:cNvSpPr/>
          <p:nvPr/>
        </p:nvSpPr>
        <p:spPr>
          <a:xfrm>
            <a:off x="3733920" y="484812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The Te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The V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The Serv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The S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467480" y="1371600"/>
            <a:ext cx="914400" cy="3429000"/>
            <a:chOff x="7467480" y="1371600"/>
            <a:chExt cx="914400" cy="3429000"/>
          </a:xfrm>
        </p:grpSpPr>
        <p:sp>
          <p:nvSpPr>
            <p:cNvPr id="227" name=""/>
            <p:cNvSpPr/>
            <p:nvPr/>
          </p:nvSpPr>
          <p:spPr>
            <a:xfrm>
              <a:off x="7467480" y="1371600"/>
              <a:ext cx="914400" cy="342900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41640" y="1600200"/>
              <a:ext cx="721440" cy="2895480"/>
            </a:xfrm>
            <a:custGeom>
              <a:avLst/>
              <a:gdLst/>
              <a:ahLst/>
              <a:rect l="l" t="t" r="r" b="b"/>
              <a:pathLst>
                <a:path w="1704" h="1824">
                  <a:moveTo>
                    <a:pt x="928" y="0"/>
                  </a:moveTo>
                  <a:cubicBezTo>
                    <a:pt x="792" y="20"/>
                    <a:pt x="656" y="40"/>
                    <a:pt x="544" y="96"/>
                  </a:cubicBezTo>
                  <a:cubicBezTo>
                    <a:pt x="432" y="152"/>
                    <a:pt x="336" y="232"/>
                    <a:pt x="256" y="336"/>
                  </a:cubicBezTo>
                  <a:cubicBezTo>
                    <a:pt x="176" y="440"/>
                    <a:pt x="104" y="608"/>
                    <a:pt x="64" y="720"/>
                  </a:cubicBezTo>
                  <a:cubicBezTo>
                    <a:pt x="24" y="832"/>
                    <a:pt x="0" y="896"/>
                    <a:pt x="16" y="1008"/>
                  </a:cubicBezTo>
                  <a:cubicBezTo>
                    <a:pt x="32" y="1120"/>
                    <a:pt x="80" y="1272"/>
                    <a:pt x="160" y="1392"/>
                  </a:cubicBezTo>
                  <a:cubicBezTo>
                    <a:pt x="240" y="1512"/>
                    <a:pt x="376" y="1656"/>
                    <a:pt x="496" y="1728"/>
                  </a:cubicBezTo>
                  <a:cubicBezTo>
                    <a:pt x="616" y="1800"/>
                    <a:pt x="744" y="1824"/>
                    <a:pt x="880" y="1824"/>
                  </a:cubicBezTo>
                  <a:cubicBezTo>
                    <a:pt x="1016" y="1824"/>
                    <a:pt x="1192" y="1792"/>
                    <a:pt x="1312" y="1728"/>
                  </a:cubicBezTo>
                  <a:cubicBezTo>
                    <a:pt x="1432" y="1664"/>
                    <a:pt x="1536" y="1560"/>
                    <a:pt x="1600" y="1440"/>
                  </a:cubicBezTo>
                  <a:cubicBezTo>
                    <a:pt x="1664" y="1320"/>
                    <a:pt x="1704" y="1152"/>
                    <a:pt x="1696" y="1008"/>
                  </a:cubicBezTo>
                  <a:cubicBezTo>
                    <a:pt x="1688" y="864"/>
                    <a:pt x="1632" y="696"/>
                    <a:pt x="1552" y="576"/>
                  </a:cubicBezTo>
                  <a:cubicBezTo>
                    <a:pt x="1472" y="456"/>
                    <a:pt x="1336" y="344"/>
                    <a:pt x="1216" y="288"/>
                  </a:cubicBezTo>
                  <a:cubicBezTo>
                    <a:pt x="1096" y="232"/>
                    <a:pt x="936" y="224"/>
                    <a:pt x="832" y="240"/>
                  </a:cubicBezTo>
                  <a:cubicBezTo>
                    <a:pt x="728" y="256"/>
                    <a:pt x="672" y="304"/>
                    <a:pt x="592" y="384"/>
                  </a:cubicBezTo>
                  <a:cubicBezTo>
                    <a:pt x="512" y="464"/>
                    <a:pt x="392" y="592"/>
                    <a:pt x="352" y="720"/>
                  </a:cubicBezTo>
                  <a:cubicBezTo>
                    <a:pt x="312" y="848"/>
                    <a:pt x="312" y="1024"/>
                    <a:pt x="352" y="1152"/>
                  </a:cubicBezTo>
                  <a:cubicBezTo>
                    <a:pt x="392" y="1280"/>
                    <a:pt x="496" y="1416"/>
                    <a:pt x="592" y="1488"/>
                  </a:cubicBezTo>
                  <a:cubicBezTo>
                    <a:pt x="688" y="1560"/>
                    <a:pt x="824" y="1576"/>
                    <a:pt x="928" y="1584"/>
                  </a:cubicBezTo>
                  <a:cubicBezTo>
                    <a:pt x="1032" y="1592"/>
                    <a:pt x="1136" y="1576"/>
                    <a:pt x="1216" y="1536"/>
                  </a:cubicBezTo>
                  <a:cubicBezTo>
                    <a:pt x="1296" y="1496"/>
                    <a:pt x="1368" y="1440"/>
                    <a:pt x="1408" y="1344"/>
                  </a:cubicBezTo>
                  <a:cubicBezTo>
                    <a:pt x="1448" y="1248"/>
                    <a:pt x="1472" y="1080"/>
                    <a:pt x="1456" y="960"/>
                  </a:cubicBezTo>
                  <a:cubicBezTo>
                    <a:pt x="1440" y="840"/>
                    <a:pt x="1384" y="704"/>
                    <a:pt x="1312" y="624"/>
                  </a:cubicBezTo>
                  <a:cubicBezTo>
                    <a:pt x="1240" y="544"/>
                    <a:pt x="1120" y="488"/>
                    <a:pt x="1024" y="480"/>
                  </a:cubicBezTo>
                  <a:cubicBezTo>
                    <a:pt x="928" y="472"/>
                    <a:pt x="816" y="504"/>
                    <a:pt x="736" y="576"/>
                  </a:cubicBezTo>
                  <a:cubicBezTo>
                    <a:pt x="656" y="648"/>
                    <a:pt x="560" y="792"/>
                    <a:pt x="544" y="912"/>
                  </a:cubicBezTo>
                  <a:cubicBezTo>
                    <a:pt x="528" y="1032"/>
                    <a:pt x="568" y="1216"/>
                    <a:pt x="640" y="1296"/>
                  </a:cubicBezTo>
                  <a:cubicBezTo>
                    <a:pt x="712" y="1376"/>
                    <a:pt x="880" y="1408"/>
                    <a:pt x="976" y="1392"/>
                  </a:cubicBezTo>
                  <a:cubicBezTo>
                    <a:pt x="1072" y="1376"/>
                    <a:pt x="1176" y="1288"/>
                    <a:pt x="1216" y="1200"/>
                  </a:cubicBezTo>
                  <a:cubicBezTo>
                    <a:pt x="1256" y="1112"/>
                    <a:pt x="1240" y="944"/>
                    <a:pt x="1216" y="864"/>
                  </a:cubicBezTo>
                  <a:cubicBezTo>
                    <a:pt x="1192" y="784"/>
                    <a:pt x="1120" y="744"/>
                    <a:pt x="1072" y="720"/>
                  </a:cubicBezTo>
                  <a:cubicBezTo>
                    <a:pt x="1024" y="696"/>
                    <a:pt x="976" y="696"/>
                    <a:pt x="928" y="720"/>
                  </a:cubicBezTo>
                  <a:cubicBezTo>
                    <a:pt x="880" y="744"/>
                    <a:pt x="808" y="808"/>
                    <a:pt x="784" y="864"/>
                  </a:cubicBezTo>
                  <a:cubicBezTo>
                    <a:pt x="760" y="920"/>
                    <a:pt x="760" y="1000"/>
                    <a:pt x="784" y="1056"/>
                  </a:cubicBezTo>
                  <a:cubicBezTo>
                    <a:pt x="808" y="1112"/>
                    <a:pt x="880" y="1184"/>
                    <a:pt x="928" y="1200"/>
                  </a:cubicBezTo>
                  <a:cubicBezTo>
                    <a:pt x="976" y="1216"/>
                    <a:pt x="1040" y="1184"/>
                    <a:pt x="1072" y="1152"/>
                  </a:cubicBezTo>
                  <a:cubicBezTo>
                    <a:pt x="1104" y="1120"/>
                    <a:pt x="1128" y="1048"/>
                    <a:pt x="1120" y="1008"/>
                  </a:cubicBezTo>
                  <a:cubicBezTo>
                    <a:pt x="1112" y="968"/>
                    <a:pt x="1068" y="940"/>
                    <a:pt x="1024" y="912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3962520" y="16765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I be lifted up from the ear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337356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will draw all men to my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12: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911720" y="652140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T.J. Camp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371600" y="1905120"/>
            <a:ext cx="1974960" cy="3152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495680" y="1722600"/>
            <a:ext cx="4114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y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ademic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essional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iritual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stry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r. John T. Stevens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r. John T. Stevens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3429000"/>
            <a:ext cx="67820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JohnStevenson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Arial"/>
              </a:rPr>
              <a:t>Course Objectives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iarize you with the history and geography of the Old Testa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 the progress of redemption in the Old Testa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 the way in which Christ is portrayed in the Old Testa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 the importance of the Old Testament in the life of the believ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Arial"/>
              </a:rPr>
              <a:t>Textbook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419720" y="1447560"/>
            <a:ext cx="3962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A Survey of the Old Testament: The Bible Jesus U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 Stevenso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eemer Publishing:  2008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3382920" cy="4695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2667240" cy="9907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entateu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47760" y="914400"/>
            <a:ext cx="5715000" cy="990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sis, Exodus, Leviticus, Numbers, Deuterono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2667240" cy="13716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istorical Boo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1905120"/>
            <a:ext cx="5715000" cy="1371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shua, Judges, Ruth, 1-2 Samuel, 1-2 Kings, 1-2 Chronicles, Ezra, Nehemiah, Es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3276720"/>
            <a:ext cx="2667240" cy="11430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oetic Boo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276720"/>
            <a:ext cx="571500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b, Psalms, Proverbs, Ecclesiastes, Song of Solo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4419720"/>
            <a:ext cx="2667240" cy="23619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rophetic Boo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4419720"/>
            <a:ext cx="5715000" cy="23619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aiah, Jeremiah, Lamentations, Ezekiel, Daniel, Hosea, Joel, Amos, Obadiah, Jonah, Micah, Nahum, Habakkuk, Zephaniah, Haggai, Zechariah, Malach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600200" y="152280"/>
            <a:ext cx="60958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glish Old Testa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2667240" cy="9907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ora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047760" y="914400"/>
            <a:ext cx="5715000" cy="990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sis, Exodus, Leviticus, Numbers, Deuterono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2667240" cy="24382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rophets</a:t>
            </a:r>
            <a:br>
              <a:rPr sz="36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ccffff"/>
                </a:solidFill>
                <a:latin typeface="Arial"/>
              </a:rPr>
              <a:t>Nabi’im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1905120"/>
            <a:ext cx="5715000" cy="24382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shua, Judges, Samuel, Kings, Isaiah, Jeremiah, Ezekiel, The Twelv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Hosea, Joel, Amos, Obadiah, Jonah, Micah, Nahum, Habakkuk, Zephaniah, Haggai, Zechariah, Malach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4343400"/>
            <a:ext cx="2667240" cy="20574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ritings</a:t>
            </a:r>
            <a:br>
              <a:rPr sz="36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ccffff"/>
                </a:solidFill>
                <a:latin typeface="Arial"/>
              </a:rPr>
              <a:t>Kethuvim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4343400"/>
            <a:ext cx="5715000" cy="2057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alms, Proverbs, Job, Song of Solomon, Ruth, Lamentations, Ecclesiastes, Esther, Daniel, Ezra-Nehemiah, Chronicle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362320" y="152280"/>
            <a:ext cx="4267080" cy="609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ebrew Bib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Stevenson</cp:lastModifiedBy>
  <dcterms:modified xsi:type="dcterms:W3CDTF">2009-02-10T21:17:34Z</dcterms:modified>
  <cp:revision>244</cp:revision>
  <dc:subject/>
  <dc:title>Discipleship Across the Lifespan</dc:title>
</cp:coreProperties>
</file>