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-m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257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d “Hemoglobul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[kast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, e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i`ma,t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ment, cl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;r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u`pa,g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dep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fobe,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cai,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4-28T18:25:01Z</dcterms:modified>
  <cp:revision>221</cp:revision>
  <dc:subject/>
  <dc:title>Slide 1</dc:title>
</cp:coreProperties>
</file>