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orist &amp; Future Passive Indictative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wgrkl"/>
              </a:rPr>
              <a:t>le,gw de. u`mi/n o[ti polloi. avpo. avnatolw/n kai. dusmw/n h[xousin kai. avnakliqh,sontai meta. VAbraa.m kai. VIsaa.k kai. VIakw.b evn th/| basilei,a| tw/n ouvranw/n))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ay to you that many will come from east and west, and recline with Abraham, Isaac and Jacob in the kingdom of heaven… (Matthew 8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5800" y="169056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shall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7120" y="255888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shall lie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i` de. ui`oi. th/j basilei,aj evkblhqh,sontai eivj to. sko,toj to. evxw,ter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sons of the kingdom will be cast out into the outer darkness (Matthew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2320" y="3733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Cristo.j katagge,lletai( kai. evn tou,tw| cai,rwÅ VAlla. kai. carh,soma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proclaimed, in in this I rejoice, but also I will rejoice (Philippians 1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proclai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ti, ga.r h` grafh. le,geiÈ evpi,steusen de. VAbraa.m tw/| qew/| kai. evlogi,sqh auvtw/| eivj dikaiosu,nhn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at does the Scripture say? "And Abraham believed God, and it was reckoned to him as righteousness.“ (Romans 4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and Aorist Pas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rist still has the vowel augment that indicates an ao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does not have the au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ssive i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orist inserts a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q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ter the 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ssive in the Future inserts a </a:t>
            </a:r>
            <a:r>
              <a:rPr b="0" lang="en-US" sz="4000" spc="-1" strike="noStrike">
                <a:solidFill>
                  <a:srgbClr val="ffffff"/>
                </a:solidFill>
                <a:latin typeface="Bwgrkl"/>
              </a:rPr>
              <a:t>q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ter the 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680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60488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4433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62120"/>
            <a:ext cx="60948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43368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721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11020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us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429000"/>
            <a:ext cx="60948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7621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60020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43828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342900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26708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1055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76212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60020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43828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342900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26708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510552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6095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lo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6095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lo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was lo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76680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60488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4433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762120"/>
            <a:ext cx="60948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43368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2721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11020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us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429000"/>
            <a:ext cx="60948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7621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160020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43828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3429000"/>
            <a:ext cx="243864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426708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5105520"/>
            <a:ext cx="243864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;lu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76212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60020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438280"/>
            <a:ext cx="243828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42900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26708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105520"/>
            <a:ext cx="243828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lu,qhs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orist 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6095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lo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6095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lo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was lo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876920"/>
            <a:ext cx="2971800" cy="1371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81280"/>
            <a:ext cx="2819160" cy="1752840"/>
          </a:xfrm>
          <a:prstGeom prst="wedgeRoundRectCallout">
            <a:avLst>
              <a:gd name="adj1" fmla="val 70606"/>
              <a:gd name="adj2" fmla="val 48824"/>
              <a:gd name="adj3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one instance where the aorist passive ha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q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228600"/>
            <a:ext cx="198108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8176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57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3415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1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7528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9467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7085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18464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181440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571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3386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1720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9435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s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7056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28600"/>
            <a:ext cx="220968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81440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,s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571840"/>
            <a:ext cx="28954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,s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338640"/>
            <a:ext cx="28954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,s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17204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s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4352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,s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70564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qh,s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228600"/>
            <a:ext cx="289548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1143000"/>
            <a:ext cx="17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i` de. ei=pan\ pi,steuson evpi. to.n ku,rion VIhsou/n kai. swqh,sh| su. kai. o` oi=ko,j sou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said, “Believe in the Lord Jesus, and you shall be saved, you and your household.” (Acts 16: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dio,ti evx e;rgwn no,mou ouv dikaiwqh,setai pa/sa sa.rx evnw,pion auvtou/( dia. ga.r no,mou evpi,gnwsij a`marti,a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765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by the works of the Law no flesh will be justified in His sight; for through the Law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nowledge of sin (Romans 3: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Kai. evge,neto evn evkei,naij tai/j h`me,raij h=lqen VIhsou/j avpo. Nazare.t th/j Galilai,aj kai. evbapti,sqh eivj to.n VIorda,nhn u`po. VIwa,nnou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came (about) in those days Jesus came from Nazareth in Galilee and was baptized by John in the Jordan (Mark 1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wgrkl"/>
              </a:rPr>
              <a:t>Maka,rioi oi` ptwcoi. tw/| pneu,mati(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wgrkl"/>
              </a:rPr>
              <a:t>o[ti auvtw/n evstin h` basilei,a tw/n ouvranw/nÅ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wgrkl"/>
              </a:rPr>
              <a:t>maka,rioi oi` kaqaroi. th/| kardi,a|( o[ti auvtoi. to.n qeo.n o;yonta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wgrkl"/>
              </a:rPr>
              <a:t>maka,rioi oi` eivrhnopoioi,(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Bwgrkl"/>
              </a:rPr>
              <a:t>o[ti auvtoi. ui`oi. qeou/ klhqh,sontaiÅ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:3, 8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4-28T18:05:21Z</dcterms:modified>
  <cp:revision>253</cp:revision>
  <dc:subject/>
  <dc:title>Slide 1</dc:title>
</cp:coreProperties>
</file>