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8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New Vocabulary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hapter 2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avpe,rcomai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dep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371600" y="51055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vph/lqon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I depart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a;rc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r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52578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dle:  I beg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gra,f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dio,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, for this rea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doxa,z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glorif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dunami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khru,ss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reach, procla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pi,n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dr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8-04-21T19:19:53Z</dcterms:modified>
  <cp:revision>219</cp:revision>
  <dc:subject/>
  <dc:title>Slide 1</dc:title>
</cp:coreProperties>
</file>