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41072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772400" cy="28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First Aorist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Active &amp; Middle Indictative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hapter 23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514080"/>
            <a:ext cx="830592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Bwgrkl"/>
              </a:rPr>
              <a:t>Ouvk e;graya u`mi/n( o[ti ouvk oi;date th.n avlh,qeian( avllV o[ti oi;date auvth,n( kai. o[ti pa/n yeu/doj evk th/j avlhqei,aj ouvk e;stinÅ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did not write to you because you do not know the truth, but because you do know it, and because every lie is not of the truth (1 John 2:21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Bwgrkl"/>
              </a:rPr>
              <a:t>To,te o` VIhsou/j evla,lhsen toi/j o;cloij kai. toi/j maqhtai/j auvtou/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n Jesus spoke to the multitudes and to His discip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07696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Bwgrkl"/>
              </a:rPr>
              <a:t>oi` de. ei=pan\ pi,steuson evpi. to.n ku,rion VIhsou/n kai. swqh,sh| su. kai. o` oi=ko,j sou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they said, “Believe on the Lord Jesus and you shall be saved and your house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69608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Bwgrkl"/>
              </a:rPr>
              <a:t>kai. evla,lhsan auvtw/| to.n lo,gon tou/ kuri,ou su.n pa/sin toi/j evn th/| oivki,a| auvtou/Å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they spoke to him the word of the Lord with all those in his house (Acts 16:32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-686160"/>
            <a:ext cx="87631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Bwgrkl"/>
              </a:rPr>
              <a:t>evka,lesen u`ma/j dia. tou/ euvaggeli,ou h`mw/n eivj peripoi,hsin do,xhj tou/ kuri,ou h`mw/n VIhsou/ Cristou/Å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called you through His gospel into possession of the glory of the Lord Jesus Christ (2 Thess. 2:14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895480" y="205740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520" y="361800"/>
            <a:ext cx="845820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Bwgrkl"/>
              </a:rPr>
              <a:t>ou]j de. prow,risen( tou,touj kai. evka,lesen\ kai. ou]j evka,lesen( tou,touj kai. evdikai,wsen\ ou]j de. evdikai,wsen( tou,touj kai. evdo,xasenÅ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who he predestined, these also he called, and who he called, these also he justified, but who he justified, these also he glorified (Romans 8:30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tems beginning in a vowe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904760" y="198072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Bwgrk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wgrkl"/>
              </a:rPr>
              <a:t>VAgapa,w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becomes </a:t>
            </a:r>
            <a:r>
              <a:rPr b="0" lang="en-US" sz="4000" spc="-1" strike="noStrike">
                <a:solidFill>
                  <a:srgbClr val="ffffff"/>
                </a:solidFill>
                <a:latin typeface="Bwgrkl"/>
              </a:rPr>
              <a:t>hvga,phs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Bwgrk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wgrkl"/>
              </a:rPr>
              <a:t>VAkou,w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becomes </a:t>
            </a:r>
            <a:r>
              <a:rPr b="0" lang="en-US" sz="4000" spc="-1" strike="noStrike">
                <a:solidFill>
                  <a:srgbClr val="ffffff"/>
                </a:solidFill>
                <a:latin typeface="Bwgrkl"/>
              </a:rPr>
              <a:t>h;kous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Bwgrkl"/>
              </a:rPr>
              <a:t>~Hmei/j hvkou,samen evk tou/ no,mou o[ti o` cristo.j me,nei eivj to.n aivw/na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heard from the law that the Christ remains forever (John12:34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Bwgrkl"/>
              </a:rPr>
              <a:t>Au[th evsti.n h` evntolh. h` evmh,( i[na avgapa/te avllh,louj kaqw.j hvga,phsa u`ma/j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is My commandment, that ya’ll love one another, just as I loved you. (John 15:12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iquid Aoris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904760" y="198072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4000" spc="-1" strike="noStrike">
                <a:solidFill>
                  <a:srgbClr val="ffffff"/>
                </a:solidFill>
                <a:latin typeface="Bwgrkl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s dropped and only the </a:t>
            </a:r>
            <a:r>
              <a:rPr b="0" lang="en-US" sz="4000" spc="-1" strike="noStrike">
                <a:solidFill>
                  <a:srgbClr val="ffffff"/>
                </a:solidFill>
                <a:latin typeface="Bwgrkl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s ad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Bwgrk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wgrkl"/>
              </a:rPr>
              <a:t>Me,nw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becomes </a:t>
            </a:r>
            <a:r>
              <a:rPr b="0" lang="en-US" sz="4000" spc="-1" strike="noStrike">
                <a:solidFill>
                  <a:srgbClr val="ffffff"/>
                </a:solidFill>
                <a:latin typeface="Bwgrkl"/>
              </a:rPr>
              <a:t>e;main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The Use of the Aorist Tense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066680"/>
            <a:ext cx="716292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are three tenses in the Greek that are used for the past tens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or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f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erf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aorist tense describes  either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mple action (usually in the past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nctiliar action (point actio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orist Middle Indicativ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898560" y="995400"/>
            <a:ext cx="2514600" cy="82512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wgrkl"/>
              </a:rPr>
              <a:t>lu,w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98560" y="1833480"/>
            <a:ext cx="2514600" cy="82512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wgrkl"/>
              </a:rPr>
              <a:t>lu,eij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98560" y="2671920"/>
            <a:ext cx="2514600" cy="82512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wgrkl"/>
              </a:rPr>
              <a:t>lu,ei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6440" y="990720"/>
            <a:ext cx="762120" cy="251460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98560" y="3662280"/>
            <a:ext cx="2514600" cy="155628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wgrkl"/>
              </a:rPr>
              <a:t>lu,ome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898560" y="4500720"/>
            <a:ext cx="2514600" cy="82512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wgrkl"/>
              </a:rPr>
              <a:t>lu,et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98560" y="5338800"/>
            <a:ext cx="2514600" cy="155628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wgrkl"/>
              </a:rPr>
              <a:t>lu,ousi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4800" spc="-1" strike="noStrike">
                <a:solidFill>
                  <a:srgbClr val="ffffff"/>
                </a:solidFill>
                <a:latin typeface="Bwgrkl"/>
              </a:rPr>
              <a:t>n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36440" y="3657600"/>
            <a:ext cx="762120" cy="251460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41760" y="990720"/>
            <a:ext cx="2438280" cy="82512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wgrkl"/>
              </a:rPr>
              <a:t>e;lusa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641760" y="1828800"/>
            <a:ext cx="2438280" cy="82512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wgrkl"/>
              </a:rPr>
              <a:t>e;lusaj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41760" y="2666880"/>
            <a:ext cx="2438280" cy="155628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wgrkl"/>
              </a:rPr>
              <a:t>e;luse 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4800" spc="-1" strike="noStrike">
                <a:solidFill>
                  <a:srgbClr val="ffffff"/>
                </a:solidFill>
                <a:latin typeface="Bwgrkl"/>
              </a:rPr>
              <a:t>n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641760" y="3657600"/>
            <a:ext cx="2438280" cy="155628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wgrkl"/>
              </a:rPr>
              <a:t>e;lusame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641760" y="4495680"/>
            <a:ext cx="2438280" cy="82512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wgrkl"/>
              </a:rPr>
              <a:t>e;lusat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641760" y="5334120"/>
            <a:ext cx="2438280" cy="82512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wgrkl"/>
              </a:rPr>
              <a:t>e;lusa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55760" y="4572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Pres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565440" y="4572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Aorist Act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156360" y="990720"/>
            <a:ext cx="2971800" cy="155628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wgrkl"/>
              </a:rPr>
              <a:t>evlusa,mh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156360" y="1828800"/>
            <a:ext cx="2971800" cy="82512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wgrkl"/>
              </a:rPr>
              <a:t>evlu,sw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156360" y="2666880"/>
            <a:ext cx="2971800" cy="82512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wgrkl"/>
              </a:rPr>
              <a:t>evlu,sato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56360" y="3657600"/>
            <a:ext cx="2971800" cy="155628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wgrkl"/>
              </a:rPr>
              <a:t>evlusa,meqa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156360" y="4495680"/>
            <a:ext cx="2971800" cy="155628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wgrkl"/>
              </a:rPr>
              <a:t>evlu,sasq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56360" y="5334120"/>
            <a:ext cx="2971800" cy="155628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wgrkl"/>
              </a:rPr>
              <a:t>evlu,santo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80040" y="457200"/>
            <a:ext cx="306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Aorist Midd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1219320"/>
            <a:ext cx="7543800" cy="23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On some occasions, the middle voice actually changes the meaning of the word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a;rcw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active):  I ru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a;rcomai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middle):  I beg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There are two ways the Aorist can be formed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19320" y="182880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First Aorist (Regular formati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econd Aorist (Irregular formati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657600"/>
            <a:ext cx="82296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These forms do not affect the meaning; a first aorist means the same thing as a second aoris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There are two ways the Aorist can be formed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19320" y="182880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First Aorist (Regular formati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econd Aorist (Irregular formati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3657600"/>
            <a:ext cx="82296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Regular English formation:  Put “ed” on the end of a word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5029200"/>
            <a:ext cx="82296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Irregular English formation:  “Swam” instead of “swimmed.”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Difference between the First Aorist versus the Second Aorist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240" y="2057040"/>
            <a:ext cx="4267080" cy="762120"/>
          </a:xfrm>
          <a:prstGeom prst="rect">
            <a:avLst/>
          </a:prstGeom>
          <a:gradFill rotWithShape="0">
            <a:gsLst>
              <a:gs pos="0">
                <a:srgbClr val="6c0024"/>
              </a:gs>
              <a:gs pos="100000">
                <a:srgbClr val="31001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rst Aori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95680" y="2057400"/>
            <a:ext cx="4267440" cy="762120"/>
          </a:xfrm>
          <a:prstGeom prst="rect">
            <a:avLst/>
          </a:prstGeom>
          <a:gradFill rotWithShape="0">
            <a:gsLst>
              <a:gs pos="0">
                <a:srgbClr val="6c0024"/>
              </a:gs>
              <a:gs pos="100000">
                <a:srgbClr val="31001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Aori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2819520"/>
            <a:ext cx="4267080" cy="7617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comm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495680" y="2819520"/>
            <a:ext cx="4267440" cy="7617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so comm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3581280"/>
            <a:ext cx="4267080" cy="243864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s an </a:t>
            </a:r>
            <a:r>
              <a:rPr b="0" lang="en-US" sz="3600" spc="-1" strike="noStrike">
                <a:solidFill>
                  <a:srgbClr val="ffffff"/>
                </a:solidFill>
                <a:latin typeface="Bwgrkl"/>
              </a:rPr>
              <a:t>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t the beginning and a </a:t>
            </a:r>
            <a:r>
              <a:rPr b="0" lang="en-US" sz="3600" spc="-1" strike="noStrike">
                <a:solidFill>
                  <a:srgbClr val="ffffff"/>
                </a:solidFill>
                <a:latin typeface="Bwgrkl"/>
              </a:rPr>
              <a:t>s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t the end of the wo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495680" y="3581280"/>
            <a:ext cx="4267440" cy="243864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s an </a:t>
            </a:r>
            <a:r>
              <a:rPr b="0" lang="en-US" sz="3600" spc="-1" strike="noStrike">
                <a:solidFill>
                  <a:srgbClr val="ffffff"/>
                </a:solidFill>
                <a:latin typeface="Bwgrkl"/>
              </a:rPr>
              <a:t>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t the beginning and then changes the actual stem of the word, usually shortening 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981080" y="766800"/>
            <a:ext cx="2514600" cy="82512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wgrkl"/>
              </a:rPr>
              <a:t>lu,w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981080" y="1604880"/>
            <a:ext cx="2514600" cy="82512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wgrkl"/>
              </a:rPr>
              <a:t>lu,eij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81080" y="2443320"/>
            <a:ext cx="2514600" cy="82512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wgrkl"/>
              </a:rPr>
              <a:t>lu,ei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04920" y="762120"/>
            <a:ext cx="1676160" cy="251460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ngul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81080" y="3433680"/>
            <a:ext cx="2514600" cy="155628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wgrkl"/>
              </a:rPr>
              <a:t>lu,ome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981080" y="4272120"/>
            <a:ext cx="2514600" cy="82512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wgrkl"/>
              </a:rPr>
              <a:t>lu,et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981080" y="5110200"/>
            <a:ext cx="2514600" cy="155628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wgrkl"/>
              </a:rPr>
              <a:t>lu,ousi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4800" spc="-1" strike="noStrike">
                <a:solidFill>
                  <a:srgbClr val="ffffff"/>
                </a:solidFill>
                <a:latin typeface="Bwgrkl"/>
              </a:rPr>
              <a:t>n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04920" y="3429000"/>
            <a:ext cx="1676160" cy="251460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ur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724280" y="762120"/>
            <a:ext cx="2438640" cy="82512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wgrkl"/>
              </a:rPr>
              <a:t>e;lusa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724280" y="1600200"/>
            <a:ext cx="2438640" cy="82512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wgrkl"/>
              </a:rPr>
              <a:t>e;lusaj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2438280"/>
            <a:ext cx="2438640" cy="155628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wgrkl"/>
              </a:rPr>
              <a:t>e;luse 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4800" spc="-1" strike="noStrike">
                <a:solidFill>
                  <a:srgbClr val="ffffff"/>
                </a:solidFill>
                <a:latin typeface="Bwgrkl"/>
              </a:rPr>
              <a:t>n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429000"/>
            <a:ext cx="2438640" cy="155628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wgrkl"/>
              </a:rPr>
              <a:t>e;lusame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24280" y="4267080"/>
            <a:ext cx="2438640" cy="82512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wgrkl"/>
              </a:rPr>
              <a:t>e;lusat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724280" y="5105520"/>
            <a:ext cx="2438640" cy="82512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wgrkl"/>
              </a:rPr>
              <a:t>e;lusa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438280" y="2286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Pres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24280" y="22860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1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 Black"/>
              </a:rPr>
              <a:t>st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 Aori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762120" y="228600"/>
            <a:ext cx="1981080" cy="1630440"/>
          </a:xfrm>
          <a:prstGeom prst="rect">
            <a:avLst/>
          </a:prstGeom>
          <a:gradFill rotWithShape="0">
            <a:gsLst>
              <a:gs pos="0">
                <a:srgbClr val="000e00"/>
              </a:gs>
              <a:gs pos="50000">
                <a:srgbClr val="004c00"/>
              </a:gs>
              <a:gs pos="100000">
                <a:srgbClr val="000e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es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62120" y="1817640"/>
            <a:ext cx="1981080" cy="76428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lu,w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575080"/>
            <a:ext cx="1981080" cy="76428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lu,eij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62120" y="3341520"/>
            <a:ext cx="1981080" cy="76428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lu,e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1812960"/>
            <a:ext cx="762120" cy="228600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2120" y="4175280"/>
            <a:ext cx="1981080" cy="143460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lu,ome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62120" y="4946760"/>
            <a:ext cx="1981080" cy="76428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lu,et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62120" y="5708520"/>
            <a:ext cx="1981080" cy="143460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lu,ousi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4184640"/>
            <a:ext cx="762120" cy="228600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915120" y="1128600"/>
            <a:ext cx="140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743200" y="1814400"/>
            <a:ext cx="2209680" cy="76428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lu,sw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743200" y="2571840"/>
            <a:ext cx="2209680" cy="76428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lu,seij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743200" y="3338640"/>
            <a:ext cx="2209680" cy="76428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lu,se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43200" y="4172040"/>
            <a:ext cx="2209680" cy="143460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lu,some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743200" y="4943520"/>
            <a:ext cx="2209680" cy="76428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luset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743200" y="5705640"/>
            <a:ext cx="2209680" cy="143460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lu,sousi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743200" y="228600"/>
            <a:ext cx="2209680" cy="1609200"/>
          </a:xfrm>
          <a:prstGeom prst="rect">
            <a:avLst/>
          </a:prstGeom>
          <a:gradFill rotWithShape="0">
            <a:gsLst>
              <a:gs pos="0">
                <a:srgbClr val="000e00"/>
              </a:gs>
              <a:gs pos="50000">
                <a:srgbClr val="004c00"/>
              </a:gs>
              <a:gs pos="100000">
                <a:srgbClr val="000e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uture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00400" y="1143000"/>
            <a:ext cx="131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952880" y="1814400"/>
            <a:ext cx="1981440" cy="76428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e;lu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952880" y="2571840"/>
            <a:ext cx="1981440" cy="76428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e;luej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952880" y="3338640"/>
            <a:ext cx="1981440" cy="143460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e;lue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n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952880" y="4172040"/>
            <a:ext cx="1981440" cy="143460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e;luome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52880" y="4943520"/>
            <a:ext cx="1981440" cy="76428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e;luet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52880" y="5705640"/>
            <a:ext cx="1981440" cy="76428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e;lu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952880" y="228600"/>
            <a:ext cx="1981440" cy="1609200"/>
          </a:xfrm>
          <a:prstGeom prst="rect">
            <a:avLst/>
          </a:prstGeom>
          <a:gradFill rotWithShape="0">
            <a:gsLst>
              <a:gs pos="0">
                <a:srgbClr val="000e00"/>
              </a:gs>
              <a:gs pos="50000">
                <a:srgbClr val="004c00"/>
              </a:gs>
              <a:gs pos="100000">
                <a:srgbClr val="000e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mperf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410080" y="1143000"/>
            <a:ext cx="131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858000" y="228600"/>
            <a:ext cx="2286000" cy="1609200"/>
          </a:xfrm>
          <a:prstGeom prst="rect">
            <a:avLst/>
          </a:prstGeom>
          <a:gradFill rotWithShape="0">
            <a:gsLst>
              <a:gs pos="0">
                <a:srgbClr val="000e00"/>
              </a:gs>
              <a:gs pos="50000">
                <a:srgbClr val="004c00"/>
              </a:gs>
              <a:gs pos="100000">
                <a:srgbClr val="000e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oris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467480" y="1143000"/>
            <a:ext cx="131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858000" y="1828800"/>
            <a:ext cx="2286000" cy="76428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e;lus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0" y="2590920"/>
            <a:ext cx="2286000" cy="76428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e;lusaj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0" y="3352680"/>
            <a:ext cx="2286000" cy="76428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e;lu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858000" y="4191120"/>
            <a:ext cx="2286000" cy="143460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e;lusame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0" y="4952880"/>
            <a:ext cx="2286000" cy="76428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e;lusat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858000" y="5715000"/>
            <a:ext cx="2286000" cy="76428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e;lusa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133200"/>
            <a:ext cx="80769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Bwgrkl"/>
              </a:rPr>
              <a:t>Tau,thn evpoi,hsen avrch.n tw/n shmei,wn o` VIhsou/j evn Kana. th/j Galilai,aj kai. evfane,rwsen th.n do,xan auvtou/( kai. evpi,steusan eivj auvto.n oi` maqhtai. auvtou/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beginning of signs Jesus did in Cana of Galilee and he manifested his glory, and his disciples believed in him (John 2:11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tems ending in a stop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057040" y="1599840"/>
            <a:ext cx="6629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Bwgrk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wgrkl"/>
              </a:rPr>
              <a:t>Ble,pw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becomes </a:t>
            </a:r>
            <a:r>
              <a:rPr b="0" lang="en-US" sz="4000" spc="-1" strike="noStrike">
                <a:solidFill>
                  <a:srgbClr val="ffffff"/>
                </a:solidFill>
                <a:latin typeface="Bwgrkl"/>
              </a:rPr>
              <a:t>e;bley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Bwgrk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wgrkl"/>
              </a:rPr>
              <a:t>Gra,fw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becomes </a:t>
            </a:r>
            <a:r>
              <a:rPr b="0" lang="en-US" sz="4000" spc="-1" strike="noStrike">
                <a:solidFill>
                  <a:srgbClr val="ffffff"/>
                </a:solidFill>
                <a:latin typeface="Bwgrkl"/>
              </a:rPr>
              <a:t>e;grax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30T03:38:49Z</dcterms:created>
  <dc:creator>John Stevenson</dc:creator>
  <dc:description/>
  <dc:language>en-US</dc:language>
  <cp:lastModifiedBy>JohnStevenson</cp:lastModifiedBy>
  <dcterms:modified xsi:type="dcterms:W3CDTF">2011-02-14T20:44:27Z</dcterms:modified>
  <cp:revision>246</cp:revision>
  <dc:subject/>
  <dc:title>Slide 1</dc:title>
</cp:coreProperties>
</file>