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ew Vocabul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2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rose,rc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me to, g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1055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prosh/lq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 came to/went t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roseuc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;t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, yet, e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u`ri,sk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u-r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 fou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lamba,n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ake, rece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ab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 took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;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not, neither, 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u/r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209680" y="4952880"/>
            <a:ext cx="5105520" cy="1470240"/>
            <a:chOff x="2209680" y="4952880"/>
            <a:chExt cx="5105520" cy="1470240"/>
          </a:xfrm>
        </p:grpSpPr>
        <p:sp>
          <p:nvSpPr>
            <p:cNvPr id="79" name=""/>
            <p:cNvSpPr/>
            <p:nvPr/>
          </p:nvSpPr>
          <p:spPr>
            <a:xfrm>
              <a:off x="2209680" y="4952880"/>
              <a:ext cx="304812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puro,j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6200" y="541008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:  Genitiv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poqnh,|sk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pe,qanon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 di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;rt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ba,ll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bal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 thre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h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,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i,n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e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geno,mh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 bec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;rc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me, 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lq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 came/w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ivse,rc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me in, go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ivsh/lq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 came/went 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xe,rc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me out, go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xh/lq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 came/went ou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4-14T02:29:38Z</dcterms:modified>
  <cp:revision>218</cp:revision>
  <dc:subject/>
  <dc:title>Slide 1</dc:title>
</cp:coreProperties>
</file>