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Second Aorist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ctive &amp; Middle Indictative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Use of the Aorist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tenses in the Greek that are used for the past t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orist tense describes  eith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 (usually in the pas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ctiliar action (point a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re are two ways the Aorist can be form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orist (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Aorist (Ir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se forms do not affect the meaning; a first aorist means the same thing as a second ao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re are two ways the Aorist can be form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orist (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Aorist (Ir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657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gular English formation:  Put “ed” on the end of a wor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0292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rregular English formation:  “Swam” instead of “swimmed.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istinguishes a 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orist is that the stem actually chang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79520"/>
            <a:ext cx="3048120" cy="131292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 A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85960"/>
            <a:ext cx="30481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amban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43040"/>
            <a:ext cx="30481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amban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309840"/>
            <a:ext cx="30481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amban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81280"/>
            <a:ext cx="45720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43240"/>
            <a:ext cx="3048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amban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915080"/>
            <a:ext cx="30481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amban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676840"/>
            <a:ext cx="3048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amban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152960"/>
            <a:ext cx="45720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782720"/>
            <a:ext cx="297180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a,mban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540160"/>
            <a:ext cx="297180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a,mbane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306600"/>
            <a:ext cx="297180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a,mba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140360"/>
            <a:ext cx="297180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mban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911840"/>
            <a:ext cx="297180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amba,n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5673600"/>
            <a:ext cx="297180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amba,n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73040"/>
            <a:ext cx="2971800" cy="131292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erfect A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177948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b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253692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be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3303720"/>
            <a:ext cx="236196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b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137120"/>
            <a:ext cx="236196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90860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b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567072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b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69800"/>
            <a:ext cx="2361960" cy="131292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orist Ac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280" y="228600"/>
            <a:ext cx="274320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28600"/>
            <a:ext cx="1981080" cy="223992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7859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ivm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5430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i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3098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sti,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781280"/>
            <a:ext cx="45720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sme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91508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ste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6768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ivsi,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152960"/>
            <a:ext cx="45720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1798560"/>
            <a:ext cx="27432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;m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2556000"/>
            <a:ext cx="27432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322800"/>
            <a:ext cx="27432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156200"/>
            <a:ext cx="27432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4927680"/>
            <a:ext cx="27432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689440"/>
            <a:ext cx="27432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s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8600"/>
            <a:ext cx="2454120" cy="26316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orist Tense 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eiv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ginoma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785960"/>
            <a:ext cx="2454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eno,m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2543040"/>
            <a:ext cx="2454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e,n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3309840"/>
            <a:ext cx="2454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e,ne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143240"/>
            <a:ext cx="2454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en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4915080"/>
            <a:ext cx="2454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e,n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676840"/>
            <a:ext cx="24541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e,no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Stevenson</cp:lastModifiedBy>
  <dcterms:modified xsi:type="dcterms:W3CDTF">2011-02-28T21:03:02Z</dcterms:modified>
  <cp:revision>235</cp:revision>
  <dc:subject/>
  <dc:title>Slide 1</dc:title>
</cp:coreProperties>
</file>