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New Vocabul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hapter 2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cron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avkolouq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ollow, ac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dida,sk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rwt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sk, request, en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evperwta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sk for, question, demand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t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qe,l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sh,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peripate,w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sunagwgh,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ago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wgrkl"/>
              </a:rPr>
              <a:t>Farisai/oj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3:38:49Z</dcterms:created>
  <dc:creator>John Stevenson</dc:creator>
  <dc:description/>
  <dc:language>en-US</dc:language>
  <cp:lastModifiedBy>John Stevenson</cp:lastModifiedBy>
  <dcterms:modified xsi:type="dcterms:W3CDTF">2008-03-17T11:34:45Z</dcterms:modified>
  <cp:revision>216</cp:revision>
  <dc:subject/>
  <dc:title>Slide 1</dc:title>
</cp:coreProperties>
</file>