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19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he Imperfect T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Use of the Imperfect Ten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tenses in the Greek that are used for the past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erfect tense describes continuing action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wells on the course of an event instead of merely stating its occurrence” (Goodw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lso refer to a customary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396216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78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430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309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8128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143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91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676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5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80036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5574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3242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1576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9291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691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51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1177920"/>
            <a:ext cx="21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/M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814400"/>
            <a:ext cx="22100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571840"/>
            <a:ext cx="22100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38640"/>
            <a:ext cx="22100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172040"/>
            <a:ext cx="22100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943520"/>
            <a:ext cx="22100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s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705640"/>
            <a:ext cx="22100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s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28600"/>
            <a:ext cx="221004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81440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571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3386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41720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49435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57056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228600"/>
            <a:ext cx="220968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143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396216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78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5430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309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8128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143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491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676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15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80036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25574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3242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1576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9291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5691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51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177920"/>
            <a:ext cx="21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/M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79856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55600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332280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4156200"/>
            <a:ext cx="236232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92768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689440"/>
            <a:ext cx="236232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28600"/>
            <a:ext cx="236232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0800" y="11271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2375 0.00139 E">
                                      <p:cBhvr>
                                        <p:cTn id="8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4509E-006 L -0.2375 0.00208 E">
                                      <p:cBhvr>
                                        <p:cTn id="8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5434E-006 L -0.2375 0.00139 E">
                                      <p:cBhvr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4.9711E-006 L -0.2375 -0.00902 E">
                                      <p:cBhvr>
                                        <p:cTn id="9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711E-006 L -0.2375 0.0007 E">
                                      <p:cBhvr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36994E-006 L -0.2375 0.00069 E">
                                      <p:cBhvr>
                                        <p:cTn id="9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L -0.22916 -0.00624 E">
                                      <p:cBhvr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91329E-006 L -0.24184 0.00232 E">
                                      <p:cBhvr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24280" y="228600"/>
            <a:ext cx="4419720" cy="160920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28600"/>
            <a:ext cx="396216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78596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5430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3098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78128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43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91508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6768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5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80036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5574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324240"/>
            <a:ext cx="19810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1576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92912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691240"/>
            <a:ext cx="19810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lu,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5120" y="11286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1177920"/>
            <a:ext cx="21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/M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79856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55600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22800"/>
            <a:ext cx="19814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156200"/>
            <a:ext cx="198144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92768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e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5689440"/>
            <a:ext cx="198144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lu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1271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1798560"/>
            <a:ext cx="24382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o,m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2556000"/>
            <a:ext cx="24382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,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3322800"/>
            <a:ext cx="24382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,e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4156200"/>
            <a:ext cx="24382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4927680"/>
            <a:ext cx="24382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,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89440"/>
            <a:ext cx="24382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lu,o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7760" y="1173240"/>
            <a:ext cx="21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/M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if the verb begins with a vowe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wel length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if the verb begins with a vowe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owel length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6483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becomes 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1055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becomes 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6386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becomes  </a:t>
            </a: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76320"/>
            <a:ext cx="426708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50760"/>
            <a:ext cx="4191120" cy="1630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36640"/>
            <a:ext cx="685800" cy="20732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917880"/>
            <a:ext cx="685800" cy="20574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1739880"/>
            <a:ext cx="221004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w/m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454120"/>
            <a:ext cx="2210040" cy="642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174840"/>
            <a:ext cx="221004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t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9840" y="3902040"/>
            <a:ext cx="22096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w,meq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616280"/>
            <a:ext cx="221004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sq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318280"/>
            <a:ext cx="221004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w/nt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73664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w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45412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|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17196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|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90204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w/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0368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a/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32116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avgapw/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1440" y="10429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5320" y="104292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/M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73664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,p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45412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,pa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171960"/>
            <a:ext cx="1981080" cy="642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,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90204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w/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460368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a/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321160"/>
            <a:ext cx="198108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,p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58440" y="104292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86440" y="1744560"/>
            <a:ext cx="225756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w,mh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6440" y="2462040"/>
            <a:ext cx="2257560" cy="642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w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86440" y="3179880"/>
            <a:ext cx="225756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a/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86440" y="3909960"/>
            <a:ext cx="225756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w,meq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4611600"/>
            <a:ext cx="225756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a/sq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86440" y="5329080"/>
            <a:ext cx="2257560" cy="119124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wgrkl"/>
              </a:rPr>
              <a:t>hvgapw/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7960" y="105084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/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041480"/>
            <a:ext cx="2209680" cy="703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8128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152960"/>
            <a:ext cx="762120" cy="2286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81440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v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71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3386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t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1720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9435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57056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ivsi,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181296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som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25700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sh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36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s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1702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vso,meq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9417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sesq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5703840"/>
            <a:ext cx="2209680" cy="143460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e;sont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041480"/>
            <a:ext cx="2209680" cy="703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81296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;mh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5700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j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336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41702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494172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703840"/>
            <a:ext cx="2209680" cy="7642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wgrkl"/>
              </a:rPr>
              <a:t>h=s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50840"/>
            <a:ext cx="2209680" cy="703440"/>
          </a:xfrm>
          <a:prstGeom prst="rect">
            <a:avLst/>
          </a:prstGeom>
          <a:gradFill rotWithShape="0">
            <a:gsLst>
              <a:gs pos="0">
                <a:srgbClr val="000e00"/>
              </a:gs>
              <a:gs pos="50000">
                <a:srgbClr val="004c00"/>
              </a:gs>
              <a:gs pos="100000">
                <a:srgbClr val="000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763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I AM” fo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3-17T23:50:36Z</dcterms:modified>
  <cp:revision>247</cp:revision>
  <dc:subject/>
  <dc:title>Slide 1</dc:title>
</cp:coreProperties>
</file>