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8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New Vocabulary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hapter 2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evkei/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, in that 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e;rcomai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57360" y="4952880"/>
            <a:ext cx="8943840" cy="1470240"/>
            <a:chOff x="657360" y="4952880"/>
            <a:chExt cx="8943840" cy="1470240"/>
          </a:xfrm>
        </p:grpSpPr>
        <p:sp>
          <p:nvSpPr>
            <p:cNvPr id="87" name=""/>
            <p:cNvSpPr/>
            <p:nvPr/>
          </p:nvSpPr>
          <p:spPr>
            <a:xfrm>
              <a:off x="3429000" y="4952880"/>
              <a:ext cx="2590920" cy="14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ccecff"/>
                  </a:solidFill>
                  <a:latin typeface="Bwgrkl"/>
                </a:rPr>
                <a:t>evleu,somai</a:t>
              </a:r>
              <a:r>
                <a:rPr b="0" lang="en-US" sz="6000" spc="-1" strike="noStrike">
                  <a:solidFill>
                    <a:srgbClr val="ccecff"/>
                  </a:solidFill>
                  <a:latin typeface="Bwgrkl"/>
                </a:rPr>
                <a:t> 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43600" y="5486400"/>
              <a:ext cx="3657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= “I will come”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57360" y="5425920"/>
              <a:ext cx="320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Future Form: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kri,n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ju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33520" y="4952880"/>
            <a:ext cx="8610480" cy="1470240"/>
            <a:chOff x="533520" y="4952880"/>
            <a:chExt cx="8610480" cy="1470240"/>
          </a:xfrm>
        </p:grpSpPr>
        <p:sp>
          <p:nvSpPr>
            <p:cNvPr id="93" name=""/>
            <p:cNvSpPr/>
            <p:nvPr/>
          </p:nvSpPr>
          <p:spPr>
            <a:xfrm>
              <a:off x="3200400" y="4952880"/>
              <a:ext cx="2590920" cy="14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ccecff"/>
                  </a:solidFill>
                  <a:latin typeface="Bwgrkl"/>
                </a:rPr>
                <a:t>krinw/</a:t>
              </a:r>
              <a:r>
                <a:rPr b="0" lang="en-US" sz="6000" spc="-1" strike="noStrike">
                  <a:solidFill>
                    <a:srgbClr val="ccecff"/>
                  </a:solidFill>
                  <a:latin typeface="Bwgrkl"/>
                </a:rPr>
                <a:t> 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91320" y="548640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= “I will judge”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3520" y="5454720"/>
              <a:ext cx="320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Future Form: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le,g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s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33520" y="4952880"/>
            <a:ext cx="8610480" cy="1470240"/>
            <a:chOff x="533520" y="4952880"/>
            <a:chExt cx="8610480" cy="1470240"/>
          </a:xfrm>
        </p:grpSpPr>
        <p:sp>
          <p:nvSpPr>
            <p:cNvPr id="99" name=""/>
            <p:cNvSpPr/>
            <p:nvPr/>
          </p:nvSpPr>
          <p:spPr>
            <a:xfrm>
              <a:off x="3200400" y="4952880"/>
              <a:ext cx="2590920" cy="14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ccecff"/>
                  </a:solidFill>
                  <a:latin typeface="Bwgrkl"/>
                </a:rPr>
                <a:t>evrw/</a:t>
              </a:r>
              <a:r>
                <a:rPr b="0" lang="en-US" sz="6000" spc="-1" strike="noStrike">
                  <a:solidFill>
                    <a:srgbClr val="ccecff"/>
                  </a:solidFill>
                  <a:latin typeface="Bwgrkl"/>
                </a:rPr>
                <a:t> 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91320" y="548640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= “I will say”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3520" y="5454720"/>
              <a:ext cx="320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Future Form: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lao,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men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re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33520" y="4952880"/>
            <a:ext cx="8610480" cy="1470240"/>
            <a:chOff x="533520" y="4952880"/>
            <a:chExt cx="8610480" cy="1470240"/>
          </a:xfrm>
        </p:grpSpPr>
        <p:sp>
          <p:nvSpPr>
            <p:cNvPr id="107" name=""/>
            <p:cNvSpPr/>
            <p:nvPr/>
          </p:nvSpPr>
          <p:spPr>
            <a:xfrm>
              <a:off x="3200400" y="4952880"/>
              <a:ext cx="2590920" cy="14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ccecff"/>
                  </a:solidFill>
                  <a:latin typeface="Bwgrkl"/>
                </a:rPr>
                <a:t>menw/</a:t>
              </a:r>
              <a:r>
                <a:rPr b="0" lang="en-US" sz="6000" spc="-1" strike="noStrike">
                  <a:solidFill>
                    <a:srgbClr val="ccecff"/>
                  </a:solidFill>
                  <a:latin typeface="Bwgrkl"/>
                </a:rPr>
                <a:t> 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91320" y="548640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= “I will remain”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3520" y="5454720"/>
              <a:ext cx="320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Future Form: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oi=da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k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33520" y="4952880"/>
            <a:ext cx="8610480" cy="1470240"/>
            <a:chOff x="533520" y="4952880"/>
            <a:chExt cx="8610480" cy="1470240"/>
          </a:xfrm>
        </p:grpSpPr>
        <p:sp>
          <p:nvSpPr>
            <p:cNvPr id="113" name=""/>
            <p:cNvSpPr/>
            <p:nvPr/>
          </p:nvSpPr>
          <p:spPr>
            <a:xfrm>
              <a:off x="3200400" y="4952880"/>
              <a:ext cx="2590920" cy="14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ccecff"/>
                  </a:solidFill>
                  <a:latin typeface="Bwgrkl"/>
                </a:rPr>
                <a:t>eivdh,sw</a:t>
              </a:r>
              <a:r>
                <a:rPr b="0" lang="en-US" sz="6000" spc="-1" strike="noStrike">
                  <a:solidFill>
                    <a:srgbClr val="ccecff"/>
                  </a:solidFill>
                  <a:latin typeface="Bwgrkl"/>
                </a:rPr>
                <a:t> 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91320" y="548640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= “I will know”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3520" y="5454720"/>
              <a:ext cx="320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Future Form: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o`ra,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s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33520" y="4952880"/>
            <a:ext cx="8610480" cy="1470240"/>
            <a:chOff x="533520" y="4952880"/>
            <a:chExt cx="8610480" cy="1470240"/>
          </a:xfrm>
        </p:grpSpPr>
        <p:sp>
          <p:nvSpPr>
            <p:cNvPr id="119" name=""/>
            <p:cNvSpPr/>
            <p:nvPr/>
          </p:nvSpPr>
          <p:spPr>
            <a:xfrm>
              <a:off x="3200400" y="4952880"/>
              <a:ext cx="2590920" cy="14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ccecff"/>
                  </a:solidFill>
                  <a:latin typeface="Bwgrkl"/>
                </a:rPr>
                <a:t>o[yomai</a:t>
              </a:r>
              <a:r>
                <a:rPr b="0" lang="en-US" sz="6000" spc="-1" strike="noStrike">
                  <a:solidFill>
                    <a:srgbClr val="ccecff"/>
                  </a:solidFill>
                  <a:latin typeface="Bwgrkl"/>
                </a:rPr>
                <a:t> 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91320" y="548640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= “I will see”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3520" y="5454720"/>
              <a:ext cx="320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Future Form: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sofi,a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s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sto,ma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ai;r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raise up, take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33520" y="5029200"/>
            <a:ext cx="8610480" cy="1469880"/>
            <a:chOff x="533520" y="5029200"/>
            <a:chExt cx="8610480" cy="1469880"/>
          </a:xfrm>
        </p:grpSpPr>
        <p:sp>
          <p:nvSpPr>
            <p:cNvPr id="42" name=""/>
            <p:cNvSpPr/>
            <p:nvPr/>
          </p:nvSpPr>
          <p:spPr>
            <a:xfrm>
              <a:off x="3048120" y="5029200"/>
              <a:ext cx="259056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cecff"/>
                  </a:solidFill>
                  <a:latin typeface="Bwgrkl"/>
                </a:rPr>
                <a:t>avrw/ 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257800" y="5486400"/>
              <a:ext cx="3886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= “I will take up”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33520" y="5454720"/>
              <a:ext cx="320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Future Form: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sw|,z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s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33520" y="4952880"/>
            <a:ext cx="8610480" cy="1470240"/>
            <a:chOff x="533520" y="4952880"/>
            <a:chExt cx="8610480" cy="1470240"/>
          </a:xfrm>
        </p:grpSpPr>
        <p:sp>
          <p:nvSpPr>
            <p:cNvPr id="129" name=""/>
            <p:cNvSpPr/>
            <p:nvPr/>
          </p:nvSpPr>
          <p:spPr>
            <a:xfrm>
              <a:off x="3200400" y="4952880"/>
              <a:ext cx="2590920" cy="14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ccecff"/>
                  </a:solidFill>
                  <a:latin typeface="Bwgrkl"/>
                </a:rPr>
                <a:t>sw,sw</a:t>
              </a:r>
              <a:r>
                <a:rPr b="0" lang="en-US" sz="6000" spc="-1" strike="noStrike">
                  <a:solidFill>
                    <a:srgbClr val="ccecff"/>
                  </a:solidFill>
                  <a:latin typeface="Bwgrkl"/>
                </a:rPr>
                <a:t> 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91320" y="548640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= “I will save”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3520" y="5454720"/>
              <a:ext cx="320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Future Form: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avpoktei,n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k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33520" y="5029200"/>
            <a:ext cx="8610480" cy="1469880"/>
            <a:chOff x="533520" y="5029200"/>
            <a:chExt cx="8610480" cy="1469880"/>
          </a:xfrm>
        </p:grpSpPr>
        <p:sp>
          <p:nvSpPr>
            <p:cNvPr id="48" name=""/>
            <p:cNvSpPr/>
            <p:nvPr/>
          </p:nvSpPr>
          <p:spPr>
            <a:xfrm>
              <a:off x="3276720" y="5029200"/>
              <a:ext cx="259056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ccecff"/>
                  </a:solidFill>
                  <a:latin typeface="Bwgrkl"/>
                </a:rPr>
                <a:t>avpoktenw/ 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172200" y="5486400"/>
              <a:ext cx="29718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= “I will kill”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5454720"/>
              <a:ext cx="320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Future Form: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avposte,ll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send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3520" y="5029200"/>
            <a:ext cx="8610480" cy="1469880"/>
            <a:chOff x="533520" y="5029200"/>
            <a:chExt cx="8610480" cy="1469880"/>
          </a:xfrm>
        </p:grpSpPr>
        <p:sp>
          <p:nvSpPr>
            <p:cNvPr id="54" name=""/>
            <p:cNvSpPr/>
            <p:nvPr/>
          </p:nvSpPr>
          <p:spPr>
            <a:xfrm>
              <a:off x="3276720" y="5029200"/>
              <a:ext cx="259056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ccecff"/>
                  </a:solidFill>
                  <a:latin typeface="Bwgrkl"/>
                </a:rPr>
                <a:t>avpostelw/ 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943600" y="5486400"/>
              <a:ext cx="3200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= “I will send”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33520" y="5454720"/>
              <a:ext cx="320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Future Form: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bapti,z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bapt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33520" y="4952880"/>
            <a:ext cx="8610480" cy="1470240"/>
            <a:chOff x="533520" y="4952880"/>
            <a:chExt cx="8610480" cy="1470240"/>
          </a:xfrm>
        </p:grpSpPr>
        <p:sp>
          <p:nvSpPr>
            <p:cNvPr id="60" name=""/>
            <p:cNvSpPr/>
            <p:nvPr/>
          </p:nvSpPr>
          <p:spPr>
            <a:xfrm>
              <a:off x="3200400" y="4952880"/>
              <a:ext cx="2590920" cy="14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ccecff"/>
                  </a:solidFill>
                  <a:latin typeface="Bwgrkl"/>
                </a:rPr>
                <a:t>bapti,sw</a:t>
              </a:r>
              <a:r>
                <a:rPr b="0" lang="en-US" sz="6000" spc="-1" strike="noStrike">
                  <a:solidFill>
                    <a:srgbClr val="ccecff"/>
                  </a:solidFill>
                  <a:latin typeface="Bwgrkl"/>
                </a:rPr>
                <a:t> 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91320" y="548640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= “I will baptize”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3520" y="5454720"/>
              <a:ext cx="320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Future Form: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ginw,sk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k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4952880"/>
            <a:ext cx="25905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Bwgrkl"/>
              </a:rPr>
              <a:t>gnw,somai</a:t>
            </a: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5486400"/>
            <a:ext cx="3352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“I will know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54547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uture Form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glwssa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guage, tong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evgei,r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raise up, w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33520" y="4930920"/>
            <a:ext cx="8610480" cy="1469880"/>
            <a:chOff x="533520" y="4930920"/>
            <a:chExt cx="8610480" cy="1469880"/>
          </a:xfrm>
        </p:grpSpPr>
        <p:sp>
          <p:nvSpPr>
            <p:cNvPr id="73" name=""/>
            <p:cNvSpPr/>
            <p:nvPr/>
          </p:nvSpPr>
          <p:spPr>
            <a:xfrm>
              <a:off x="3124080" y="4930920"/>
              <a:ext cx="259092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ccecff"/>
                  </a:solidFill>
                  <a:latin typeface="Bwgrkl"/>
                </a:rPr>
                <a:t>evgerw/</a:t>
              </a:r>
              <a:r>
                <a:rPr b="0" lang="en-US" sz="6000" spc="-1" strike="noStrike">
                  <a:solidFill>
                    <a:srgbClr val="ccecff"/>
                  </a:solidFill>
                  <a:latin typeface="Bwgrkl"/>
                </a:rPr>
                <a:t> 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91320" y="548640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= “I will raise up”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3520" y="5454720"/>
              <a:ext cx="320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Future Form: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evkba,ll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throw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33520" y="4952880"/>
            <a:ext cx="8915400" cy="1470240"/>
            <a:chOff x="533520" y="4952880"/>
            <a:chExt cx="8915400" cy="1470240"/>
          </a:xfrm>
        </p:grpSpPr>
        <p:sp>
          <p:nvSpPr>
            <p:cNvPr id="79" name=""/>
            <p:cNvSpPr/>
            <p:nvPr/>
          </p:nvSpPr>
          <p:spPr>
            <a:xfrm>
              <a:off x="3124080" y="4952880"/>
              <a:ext cx="2590920" cy="14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ccecff"/>
                  </a:solidFill>
                  <a:latin typeface="Bwgrkl"/>
                </a:rPr>
                <a:t>evkbalw/</a:t>
              </a:r>
              <a:r>
                <a:rPr b="0" lang="en-US" sz="6000" spc="-1" strike="noStrike">
                  <a:solidFill>
                    <a:srgbClr val="ccecff"/>
                  </a:solidFill>
                  <a:latin typeface="Bwgrkl"/>
                </a:rPr>
                <a:t> 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91320" y="5486400"/>
              <a:ext cx="3657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= “I will throw out”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33520" y="5454720"/>
              <a:ext cx="320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Future Form: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8-03-11T01:25:02Z</dcterms:modified>
  <cp:revision>215</cp:revision>
  <dc:subject/>
  <dc:title>Slide 1</dc:title>
</cp:coreProperties>
</file>