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ew Vocabul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ei,zwn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[loj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ir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olis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roskune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lly:  “I kiss towar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basileu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47920" y="5029200"/>
            <a:ext cx="3886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basilei,a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4864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Kingd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enna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give bi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ene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5181480"/>
            <a:ext cx="28191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enea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56386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Generation, 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za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762120"/>
            <a:ext cx="2819520" cy="933480"/>
          </a:xfrm>
          <a:prstGeom prst="rect">
            <a:avLst/>
          </a:prstGeom>
          <a:gradFill rotWithShape="0">
            <a:gsLst>
              <a:gs pos="0">
                <a:srgbClr val="29000d"/>
              </a:gs>
              <a:gs pos="50000">
                <a:srgbClr val="990033"/>
              </a:gs>
              <a:gs pos="100000">
                <a:srgbClr val="29000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yu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762120"/>
            <a:ext cx="2819520" cy="933480"/>
          </a:xfrm>
          <a:prstGeom prst="rect">
            <a:avLst/>
          </a:prstGeom>
          <a:gradFill rotWithShape="0">
            <a:gsLst>
              <a:gs pos="0">
                <a:srgbClr val="29000d"/>
              </a:gs>
              <a:gs pos="50000">
                <a:srgbClr val="990033"/>
              </a:gs>
              <a:gs pos="100000">
                <a:srgbClr val="29000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zw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762120"/>
            <a:ext cx="2819520" cy="933480"/>
          </a:xfrm>
          <a:prstGeom prst="rect">
            <a:avLst/>
          </a:prstGeom>
          <a:gradFill rotWithShape="0">
            <a:gsLst>
              <a:gs pos="0">
                <a:srgbClr val="29000d"/>
              </a:gs>
              <a:gs pos="50000">
                <a:srgbClr val="990033"/>
              </a:gs>
              <a:gs pos="100000">
                <a:srgbClr val="29000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bioj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0574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828800"/>
            <a:ext cx="2819520" cy="2226960"/>
          </a:xfrm>
          <a:prstGeom prst="rect">
            <a:avLst/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, soul.  Used in the natural sense of the w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1828800"/>
            <a:ext cx="2819520" cy="2226960"/>
          </a:xfrm>
          <a:prstGeom prst="rect">
            <a:avLst/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of eternal life as well as of quality (“This is the life!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1828800"/>
            <a:ext cx="2819520" cy="2226960"/>
          </a:xfrm>
          <a:prstGeom prst="rect">
            <a:avLst/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al life as well as that which sustains it (“making a livin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7242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ohn 12:2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 who loves his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yu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loses it; and he who hates his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yu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in this world shall keep it to lif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z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eter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vIoudai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vIoudai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vIsrah,l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arp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uit, c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2-25T20:34:49Z</dcterms:modified>
  <cp:revision>212</cp:revision>
  <dc:subject/>
  <dc:title>Slide 1</dc:title>
</cp:coreProperties>
</file>