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9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Future Te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Use of the Future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English and Greek use the future tense to predict or describe an action that will take place in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Greek also uses the future tense to form commands – particularly when the NT is quoting the 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wgrk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wgrkl"/>
              </a:rPr>
              <a:t>o` de. e;fh auvtw/|( VAgaph,seij ku,rion to.n qeo,n sou evn o[lh| th/| kardi,a| sou kai. evn o[lh| th/| yuch/| sou kai. evn o[lh| th/| dianoi,a| sou\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att 22:3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 said to him, “You shall love the LORD your God with all your heart, and with all your soul, and with all your mind.” (Matthew 22:3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Use of the Future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is formed by adding a sigma to the end of the future tense stem (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lu,s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228600"/>
            <a:ext cx="441936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7859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5430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3098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81280"/>
            <a:ext cx="106704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143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491508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6768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152960"/>
            <a:ext cx="106704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80036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55744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32424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157640"/>
            <a:ext cx="236196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92912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69124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2320" y="11286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6240" y="1177920"/>
            <a:ext cx="25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/Mi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81440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57184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33864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4172040"/>
            <a:ext cx="236196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943520"/>
            <a:ext cx="236196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s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705640"/>
            <a:ext cx="236196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228600"/>
            <a:ext cx="236196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9240" y="11430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8120" y="21333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bleps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7240" y="1371600"/>
            <a:ext cx="2412000" cy="703440"/>
          </a:xfrm>
          <a:prstGeom prst="rect">
            <a:avLst/>
          </a:prstGeom>
          <a:gradFill rotWithShape="0">
            <a:gsLst>
              <a:gs pos="0">
                <a:srgbClr val="25000c"/>
              </a:gs>
              <a:gs pos="50000">
                <a:srgbClr val="990033"/>
              </a:gs>
              <a:gs pos="100000">
                <a:srgbClr val="25000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ead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2133720"/>
            <a:ext cx="2743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bley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9760" y="1371600"/>
            <a:ext cx="2664720" cy="703440"/>
          </a:xfrm>
          <a:prstGeom prst="rect">
            <a:avLst/>
          </a:prstGeom>
          <a:gradFill rotWithShape="0">
            <a:gsLst>
              <a:gs pos="0">
                <a:srgbClr val="25000c"/>
              </a:gs>
              <a:gs pos="50000">
                <a:srgbClr val="990033"/>
              </a:gs>
              <a:gs pos="100000">
                <a:srgbClr val="25000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beco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2133720"/>
            <a:ext cx="2743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blep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7240" y="1371600"/>
            <a:ext cx="2492640" cy="703440"/>
          </a:xfrm>
          <a:prstGeom prst="rect">
            <a:avLst/>
          </a:prstGeom>
          <a:gradFill rotWithShape="0">
            <a:gsLst>
              <a:gs pos="0">
                <a:srgbClr val="25000c"/>
              </a:gs>
              <a:gs pos="50000">
                <a:srgbClr val="990033"/>
              </a:gs>
              <a:gs pos="100000">
                <a:srgbClr val="25000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ot w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12408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e;c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12408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e;x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312408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e;c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1522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Funny Fut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1148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suna,g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1148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suna,x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41148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suna,g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8120" y="21333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avgapa,s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7240" y="1371600"/>
            <a:ext cx="2412000" cy="703440"/>
          </a:xfrm>
          <a:prstGeom prst="rect">
            <a:avLst/>
          </a:prstGeom>
          <a:gradFill rotWithShape="0">
            <a:gsLst>
              <a:gs pos="0">
                <a:srgbClr val="25000c"/>
              </a:gs>
              <a:gs pos="50000">
                <a:srgbClr val="990033"/>
              </a:gs>
              <a:gs pos="100000">
                <a:srgbClr val="25000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ead 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133720"/>
            <a:ext cx="2743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avgaph,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9760" y="1371600"/>
            <a:ext cx="2664720" cy="703440"/>
          </a:xfrm>
          <a:prstGeom prst="rect">
            <a:avLst/>
          </a:prstGeom>
          <a:gradFill rotWithShape="0">
            <a:gsLst>
              <a:gs pos="0">
                <a:srgbClr val="25000c"/>
              </a:gs>
              <a:gs pos="50000">
                <a:srgbClr val="990033"/>
              </a:gs>
              <a:gs pos="100000">
                <a:srgbClr val="25000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beco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2133720"/>
            <a:ext cx="2743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avgapa,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240" y="1371600"/>
            <a:ext cx="2492640" cy="703440"/>
          </a:xfrm>
          <a:prstGeom prst="rect">
            <a:avLst/>
          </a:prstGeom>
          <a:gradFill rotWithShape="0">
            <a:gsLst>
              <a:gs pos="0">
                <a:srgbClr val="25000c"/>
              </a:gs>
              <a:gs pos="50000">
                <a:srgbClr val="990033"/>
              </a:gs>
              <a:gs pos="100000">
                <a:srgbClr val="25000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ot w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12408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lale,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312408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lalh,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12408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lale,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522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Funny Fut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1148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plhro,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114800"/>
            <a:ext cx="2895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plhrw,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41148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plhro,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5105520"/>
            <a:ext cx="2743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poie,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5105520"/>
            <a:ext cx="2895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poih,s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5105520"/>
            <a:ext cx="2743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Bwgrkl"/>
              </a:rPr>
              <a:t>poie,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3-03T16:36:01Z</dcterms:modified>
  <cp:revision>238</cp:revision>
  <dc:subject/>
  <dc:title>Slide 1</dc:title>
</cp:coreProperties>
</file>