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to,poj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w`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, like, when, approxim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okri,n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ei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3238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u,na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2666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power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91040" y="2130480"/>
            <a:ext cx="3238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u,nami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9640" y="3886200"/>
            <a:ext cx="266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;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; I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wgrkl"/>
              </a:rPr>
              <a:t>Kai. e;rcontai pa,lin eivj ~Ieroso,luma/( kai e;rcontai pro.j auvto.n oi` avrcierei/j kai. oi` grammatei/j kai. oi` presbu,tero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y came again into Jerusalem, and the chief priests, and scribes, and elders came to Him (Mark 11: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pri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nux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083200"/>
            <a:ext cx="655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nukt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55627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itive Fo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2057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sti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40381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, wh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600200"/>
            <a:ext cx="2057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h[ti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600200"/>
            <a:ext cx="2057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t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40384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30481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30481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175248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oreu,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25T15:32:07Z</dcterms:modified>
  <cp:revision>213</cp:revision>
  <dc:subject/>
  <dc:title>Slide 1</dc:title>
</cp:coreProperties>
</file>