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resent Middle &amp; Passive Indicative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Vo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oic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– the relationship of the subject to the action of the verb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ctiv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The subject performs the action, e.g. “I hit the ball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ssive:  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subject receives the action of the verb, e.g., “I was hit by the ball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ddle:  The subject participates in the action of the verb, e.g., “I hit the ball for myself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resent tense, the middle and passive are identical in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2668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02392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79072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262160"/>
            <a:ext cx="106704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62412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39596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515772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633840"/>
            <a:ext cx="106704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26684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I Lo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202896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 Lo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9072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He Loo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364320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 Lo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39596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a’ll Lo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516744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y Lo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128124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203832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280512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3638520"/>
            <a:ext cx="236196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o,meq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441000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sq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517212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n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16960" y="214200"/>
            <a:ext cx="140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06320" y="214200"/>
            <a:ext cx="291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/Mid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19320" y="12668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02392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79072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262160"/>
            <a:ext cx="106704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362412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39596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515772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33840"/>
            <a:ext cx="106704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126684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I am lo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02896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 ar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279072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He i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364320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 ar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439596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a’ll ar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5167440"/>
            <a:ext cx="312408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y ar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1281240"/>
            <a:ext cx="23623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038320"/>
            <a:ext cx="23623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2805120"/>
            <a:ext cx="23623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638520"/>
            <a:ext cx="236232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o,meq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4410000"/>
            <a:ext cx="23623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sq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5172120"/>
            <a:ext cx="23623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n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16960" y="214200"/>
            <a:ext cx="140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05720" y="228600"/>
            <a:ext cx="291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/Mid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566720"/>
            <a:ext cx="106668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938760"/>
            <a:ext cx="106668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1571760"/>
            <a:ext cx="419076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I am lo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333520"/>
            <a:ext cx="419076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 are lo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095640"/>
            <a:ext cx="419076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He is lo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3948120"/>
            <a:ext cx="419076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 are lo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4700520"/>
            <a:ext cx="419076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a’ll are lo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5472000"/>
            <a:ext cx="4190760" cy="7642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y are lo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585800"/>
            <a:ext cx="28954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gapw/m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343240"/>
            <a:ext cx="28954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gapa/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110040"/>
            <a:ext cx="28954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gapa/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3943440"/>
            <a:ext cx="28954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gapw,meq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714920"/>
            <a:ext cx="28954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gapa/sq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477040"/>
            <a:ext cx="28954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avgapw/n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89120" y="81000"/>
            <a:ext cx="394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ssive/Midd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 Verb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ponent Ver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verbs that are always and only middle or passive in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active in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e;rcoma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“I co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y given tense, a verb will be either regular or deponent, not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2-25T20:34:46Z</dcterms:modified>
  <cp:revision>195</cp:revision>
  <dc:subject/>
  <dc:title>Slide 1</dc:title>
</cp:coreProperties>
</file>