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28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Review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hapter 18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lale,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spe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lalou/men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spe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auvtoi. evk tou/ ko,smou eivsi,n( dia. tou/to evk tou/ ko,smou lalou/sin kai. o` ko,smoj auvtw/n avkou,eiÅ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of the world; therefore they speak of the world, and the world hears them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 John 4: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Bwgrkl"/>
              </a:rPr>
              <a:t>avmh.n avmh.n le,gw soi o[ti o] oi;damen lalou/men kai. o] e`wra,kamen marturou/men( kai. th.n marturi,an h`mw/n ouv lamba,neteÅ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6095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John 3:1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3352680"/>
            <a:ext cx="1981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se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oi=da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k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avkou,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 he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ble,p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 s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;c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 ha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lu,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 loose or des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no,mo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avgapa,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l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o[pou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pisteu,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 belie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proswpon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e, appear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o[tan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plei,wn 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/</a:t>
            </a: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 plei/on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plhro,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f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poie,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do, ma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thre,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keep; I gu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to,te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tuflo,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li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daimo,nion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cara,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o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cai,r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 rejo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;comen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 ha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e;cete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u ha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cai,rousin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y rejo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8077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pisteu,ei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belie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avkou,ousin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wgrkl"/>
              </a:rPr>
              <a:t>cai,romen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 rejo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avkou,ete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a’ll h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avpekri,qh o` o;cloj( Daimo,nion e;ceij\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rowd answered, “you have a demon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zhte,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s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avlla. dia. th/j ca,ritoj tou/ kuri,ou VIhsou/ pisteu,omen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rough the grace of the Lord Jesus we belie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evxousi,an e;cei o` ui`o.j tou/ avnqrw,pou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on of man has author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Pisteu,eij toi/j profh,taijÈ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believe in the prophe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ble,pete kai. avkou,ete to.n no,m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see and you hear the la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pisteu,omen eivj to. o;noma tou/ ui`ou/ tou/ qeou/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believe in the name of the Son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kai. avnqrwpoi evpi. th/j gh/j cai,rousi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men upon the earth rej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2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evcomen to.n no,mon tou/ Cristou/Å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law of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ouv pisteu,ete, moi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do not believe 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8077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su. pisteu,eij o[ti ei-j evstin o` qeo,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believe that there is one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James 2:1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Ouvk e;cw a;ndr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 do not have a man (husban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kale,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ti, de. ble,peij to. ka,rfoj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splinter)</a:t>
            </a:r>
            <a:r>
              <a:rPr b="0" lang="en-US" sz="5400" spc="-1" strike="noStrike">
                <a:solidFill>
                  <a:srgbClr val="ffffff"/>
                </a:solidFill>
                <a:latin typeface="Bwgrkl"/>
              </a:rPr>
              <a:t> to. evn tw/| ovfqalmw/| tou/ avdelfou/ sou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y do you see the splinter in the eye of your broth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pisteu,w ga.r tw/| qew/|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I believe in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koinwni,an e;comen metV avllh,lw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fellowship with one another (1 John 1: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grkl"/>
              </a:rPr>
              <a:t>su. pisteu,eij eivj to.n ui`o.n tou/ avnqrw,pouÈ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 you believe in the son of 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Nu/n cai,rw evn tai/j evkklhsiaij u`pe.r u`mw/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I rejoice in the churches for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~H avga,ph</a:t>
            </a: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 </a:t>
            </a: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ouv cai,rei evpi. th/| avdiki,a|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ve does not rejoice in unrighteous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Paraphrase of 1 Cor 13: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pisteu,omen eivj Cristw/|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believe in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e,gw ga.r u`mi/n o[ti oi` a;ggeloi auvtw/n evn ouvranoi/j dia. panto.j ble,pousi to. pro,swpon tou/ patro,j mou tou/ evn ouvranoi/jÅ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I am telling you that their angels in heaven always see the face of my father in heav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eiv de. pneu,mati a;gesqe( 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ouvk evste. u`po. no,monÅ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if you are led by the Spirit, you are not under the La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alatians 5:18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86400" y="19191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re 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Bwgrkl"/>
              </a:rPr>
              <a:t>kai. evn tou,tw| cai,rw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n this I rejoice (Phil 1:1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wgrkl"/>
              </a:rPr>
              <a:t>ti, u`mi/n dokei/ peri. tou/ cristou/È ti,noj ui`o,j evstinÈ le,gousin auvtw/|\ tou/ Daui,dÅ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What do you think about the Christ, whose son is He?" They said to Him, "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so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David.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Matthew 22:4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1447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Think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pisteu,eij tou/toÈ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believe thi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Pau/loj kai. Silouano.j kai. Timo,qeoj( th/| evkklhsi,a| Qessalonike,wn evn qew/| patri,( kai. kuri,w| VIhsou/ cristw/|\ ca,rij u`mi/n kai. eivrh,nh avpo. qeou/ patro.j h`mw/n kai. kuri,ou VIhsou/ cristou/Å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eva.n ei;pwmen o[ti a`marti,an ouvk e;comen( e`autou.j planw/men kai. h` avlh,qeia ouvk e;stin evn h`mi/nÅ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we say that we have no sin, we are deceiving ourselves and the truth is not in us. (1 John 1: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38280" y="3200400"/>
            <a:ext cx="20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dece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93440" y="914400"/>
            <a:ext cx="13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s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o,te le,gei auvtw/| o` Pila/toj\ ouvk avkou,eij po,sa sou katamarturou/sin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;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Pilate said to Him, “Do You not hear how many things they witness against You?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Matthew 27:1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22240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u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le,gei auvtoi/j\ pw/j ou=n Daui.d evn pneu,mati kalei/ auvto.n ku,rion le,gwn\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said to them, "Then how does David in the Spirit call Him 'Lord,' saying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Matthew 22:4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Bwgrkl"/>
              </a:rPr>
              <a:t>i=pen ku,rioj tw/| kuri,w| mou\ ka,qou evk dexiw/n mou( e[wj a'n qw/ tou.j evcqrou,j sou u`poka,tw tw/n podw/n souÈ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95280" y="6095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Matthew 22:4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438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si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24526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 han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38862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pu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38862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mi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248520" y="38862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wgrkl"/>
              </a:rPr>
              <a:t>eiv ou=n Daui.d kalei/ auvto.n ku,rion( pw/j ui`o.j auvtou/ evstin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;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David then calls him 'Lord,' how can he be his s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Matthew 22:45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8-02-11T13:09:17Z</dcterms:modified>
  <cp:revision>207</cp:revision>
  <dc:subject/>
  <dc:title>Slide 1</dc:title>
</cp:coreProperties>
</file>