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lei,wn 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 plei/on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lhro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i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, 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thr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eep; I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ap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aimo,n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zht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l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al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p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i=d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7760" y="1219320"/>
            <a:ext cx="2361960" cy="1164960"/>
          </a:xfrm>
          <a:prstGeom prst="rect">
            <a:avLst/>
          </a:prstGeom>
          <a:gradFill rotWithShape="0">
            <a:gsLst>
              <a:gs pos="0">
                <a:srgbClr val="21000b"/>
              </a:gs>
              <a:gs pos="50000">
                <a:srgbClr val="990033"/>
              </a:gs>
              <a:gs pos="100000">
                <a:srgbClr val="21000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oi=d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220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219320"/>
            <a:ext cx="2743200" cy="1164960"/>
          </a:xfrm>
          <a:prstGeom prst="rect">
            <a:avLst/>
          </a:prstGeom>
          <a:gradFill rotWithShape="0">
            <a:gsLst>
              <a:gs pos="0">
                <a:srgbClr val="21000b"/>
              </a:gs>
              <a:gs pos="50000">
                <a:srgbClr val="990033"/>
              </a:gs>
              <a:gs pos="100000">
                <a:srgbClr val="21000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ginwsk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219320"/>
            <a:ext cx="3352680" cy="1164960"/>
          </a:xfrm>
          <a:prstGeom prst="rect">
            <a:avLst/>
          </a:prstGeom>
          <a:gradFill rotWithShape="0">
            <a:gsLst>
              <a:gs pos="0">
                <a:srgbClr val="21000b"/>
              </a:gs>
              <a:gs pos="50000">
                <a:srgbClr val="990033"/>
              </a:gs>
              <a:gs pos="100000">
                <a:srgbClr val="21000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evpiginwsk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743200"/>
            <a:ext cx="2895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2743200"/>
            <a:ext cx="2895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 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ta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04T20:26:18Z</dcterms:modified>
  <cp:revision>207</cp:revision>
  <dc:subject/>
  <dc:title>Slide 1</dc:title>
</cp:coreProperties>
</file>