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eview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,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uflo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i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cara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cai,r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rejo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come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ce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cai,rousi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y rejo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isteu,ei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bel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kou,ousi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cai,rome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rejo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kou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h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kou,e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’ll h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avpekri,qh o` o;cloj( Daimo,nion e;ceij\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owd answered, “you have a demon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lla. dia. th/j ca,ritoj tou/ kuri,ou VIhsou/ pisteu,ome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rough the grace of the Lord Jesus we bel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xousi,an e;cei o` ui`o.j tou/ avnqrw,pou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on of man has autho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isteu,eij toi/j profh,taijÈ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believe in the prophe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ble,pete kai. avkou,ete to.n no,m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ee and you hear the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isteu,omen eivj to. o;noma tou/ ui`ou/ tou/ qe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elieve in the name of the Son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avnqrwpoi evpi. th/j gh/j cai,rousi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en upon the earth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comen to.n no,mon tou/ Cristou/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law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uv pisteu,ete, mo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do not believe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ble,p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su. pisteu,eij o[ti ei-j evstin o` qeo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believe that there is on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ames 2: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uvk e;cw a;ndr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do not have a man (husban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ti, de. ble,peij to. ka,rfoj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plinter)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 to. evn tw/| ovfqalmw/| tou/ avdelfou/ sou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you see the splinter in the eye of your broth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isteu,w ga.r tw/| qew/|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believe in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oinwni,an e;comen metV avllh,lw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fellowship with one another (1 John 1: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su. pisteu,eij eivj to.n ui`o.n tou/ avnqrw,pou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you believe in the son of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Nu/n cai,rw evn tai/j evkklhsiaij u`pe.r u`mw/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I rejoice in the churche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~H avga,ph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 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v cai,rei evpi. th/| avdiki,a|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does not rejoice in unrighteou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araphrase of 1 Cor 13: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isteu,omen eivj Cristw/|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elieve in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e,gw ga.r u`mi/n o[ti oi` a;ggeloi auvtw/n evn ouvranoi/j dia. panto.j ble,pousi to. pro,swpon tou/ patro,j mou tou/ evn ouvranoi/j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am telling you that their angels in heaven always see the face of my father in hea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c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 de. pneu,mati a;gesqe(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vk evste. u`po. no,mon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f you are led by the Spirit, you are not under the L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alatians 5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19191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kai. evn tou,tw| cai,rw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this I rejoice (Phil 1: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isteu,eij tou/toÈ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believe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au/loj kai. Silouano.j kai. Timo,qeoj( th/| evkklhsi,a| Qessalonike,wn evn qew/| patri,( kai. kuri,w| VIhsou/ cristw/|\ ca,rij u`mi/n kai. eivrh,nh avpo. qeou/ patro.j h`mw/n kai. kuri,ou VIhsou/ cristou/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a.n ei;pwmen o[ti a`marti,an ouvk e;comen( e`autou.j planw/men kai. h` avlh,qeia ouvk e;stin evn h`mi/n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say that we have no sin, we are deceiving ourselves and the truth is not in us. (1 John 1: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38280" y="32004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ece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3440" y="91440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,te le,gei auvtw/| o` Pila/toj\ ouvk avkou,eij po,sa sou katamarturou/sin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Pilate said to Him, “Do You not hear how many things they witness against You?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tthew 27: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2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loose or de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no,m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[pou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isteu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belie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roswp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e, appear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2-05T01:05:17Z</dcterms:modified>
  <cp:revision>201</cp:revision>
  <dc:subject/>
  <dc:title>Slide 1</dc:title>
</cp:coreProperties>
</file>