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ufl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ra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ko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loose or de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no,m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[pou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iste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belie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roswp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, appear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1-28T20:46:00Z</dcterms:modified>
  <cp:revision>189</cp:revision>
  <dc:subject/>
  <dc:title>Slide 1</dc:title>
</cp:coreProperties>
</file>