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Present Active Indicative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376800" y="2438280"/>
            <a:ext cx="254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ble,p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77640" y="2438280"/>
            <a:ext cx="402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ble,pom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453840" y="2438280"/>
            <a:ext cx="277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ble,pei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356640" y="2438280"/>
            <a:ext cx="344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ble,pous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11720" y="2438280"/>
            <a:ext cx="25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ble,pe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315240" y="2438280"/>
            <a:ext cx="308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ble,pe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ble,pomen VIhsou/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85280" y="2362320"/>
            <a:ext cx="82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ble,peij ton a;nqrwp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69760" y="2666880"/>
            <a:ext cx="816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ble,pomen ton doul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55160" y="2057400"/>
            <a:ext cx="70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ble,pousi oi[ doulo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66360" y="3108240"/>
            <a:ext cx="616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u.j avpostolou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981080" y="76680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981080" y="160488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ei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981080" y="244332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1676160" cy="2514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3433680"/>
            <a:ext cx="251460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om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272120"/>
            <a:ext cx="2514600" cy="8251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et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5110200"/>
            <a:ext cx="2514600" cy="1556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lu,ousi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429000"/>
            <a:ext cx="1676160" cy="2514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762120"/>
            <a:ext cx="3962520" cy="8251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I Loo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1604880"/>
            <a:ext cx="3962520" cy="8251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You Loo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438280"/>
            <a:ext cx="3962520" cy="8251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He Loo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3433680"/>
            <a:ext cx="3962520" cy="8251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We Loo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4272120"/>
            <a:ext cx="3962520" cy="8251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Ya’ll Loo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5110200"/>
            <a:ext cx="3962520" cy="8251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hey Loo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13716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30592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ble,peij o[ti h` pi,stij sunh,rgei toi/j e;rgoij auvtou/ kai. evk tw/n e;rgwn h` pi,stij evteleiw,q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895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working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6019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Per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5486400"/>
            <a:ext cx="1447920" cy="106884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2: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Ta. kata. pro,swpon ble,pet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19810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lly: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You look according to the fa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971800"/>
            <a:ext cx="7620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looking at things as they are outwardly… (2 Corinthians 10:7 NA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looking only on the surface of things... (2 Corinthians 10:7 NI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53352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ble,pomen ga.r a;rti diV evso,ptrou evn aivni,gmati( to,te de. pro,swpon pro.j pro,swp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019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Corinthians 13: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1752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3276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10720" y="2438280"/>
            <a:ext cx="165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11200" y="2438280"/>
            <a:ext cx="312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lu,om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7760" y="2438280"/>
            <a:ext cx="187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lu,ei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90560" y="2438280"/>
            <a:ext cx="254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lu,ous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45280" y="2438280"/>
            <a:ext cx="167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lu,e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448800" y="2438280"/>
            <a:ext cx="218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lu,e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10720" y="2438280"/>
            <a:ext cx="165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1-28T15:17:01Z</dcterms:modified>
  <cp:revision>187</cp:revision>
  <dc:subject/>
  <dc:title>Slide 1</dc:title>
</cp:coreProperties>
</file>