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5447-95BD-4272-84FD-65E837C3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c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of fact, and is used with all Greek tenses. Example: they will go, she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rely used, it usually expresses a wish or des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a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command to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un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s an assertion about which there is some doubt, uncertainty, or indefinit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ipl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adjective, such as "having gone, receiving the gift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initive*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verbal noun, examples = to see, to go, to th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on was completed by the subject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receives the action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acts in some way upon itself or to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on was completed by the subject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receives the action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acts in some way upon itself or to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on was completed by the subject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receives the action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acts in some way upon itself or to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on was completed by the subject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iv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receives the action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ubject acts in some way upon itself or to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m + Connecting Vowel + personal e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+ o + men = luvo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the part of the verb that carries the basic mea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ng vow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k verbs sometimes need a vowel after the stem to aid in the pronunciation of the 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ending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are the suffixes that are added to the end of the verb and indicate person and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r first set of endings and the primary active endings are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-w2s-eiV3s-ei1p-omen2p-ete3p-ousi(n)Pa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sing is the breaking down of the verb and denoting of: person, number, tense, voice, mood, lexical form, and definition of inflected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 that this order may be different in some text books but is the convention that we will use in this stud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xical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verbs, this will be the 1st person singular, present indicat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consistent with all modern lexic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m + Connecting Vowel + personal e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+ o + men = luvo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the part of the verb that carries the basic mea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ng vow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k verbs sometimes need a vowel after the stem to aid in the pronunciation of the 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ending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are the suffixes that are added to the end of the verb and indicate person and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r first set of endings and the primary active endings are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-w2s-eiV3s-ei1p-omen2p-ete3p-ousi(n)Pa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sing is the breaking down of the verb and denoting of: person, number, tense, voice, mood, lexical form, and definition of inflected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 that this order may be different in some text books but is the convention that we will use in this stud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xical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verbs, this will be the 1st person singular, present indicat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consistent with all modern lexic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m + Connecting Vowel + personal e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+ o + men = luvo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the part of the verb that carries the basic mea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ng vow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k verbs sometimes need a vowel after the stem to aid in the pronunciation of the wo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ending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are the suffixes that are added to the end of the verb and indicate person and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r first set of endings and the primary active endings are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-w2s-eiV3s-ei1p-omen2p-ete3p-ousi(n)Pa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sing is the breaking down of the verb and denoting of: person, number, tense, voice, mood, lexical form, and definition of inflected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 that this order may be different in some text books but is the convention that we will use in this stud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xical for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verbs, this will be the 1st person singular, present indicati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consistent with all modern lexic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can be either continuous or undefi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 ALWAYS takes precedenc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 tense generally indicates an action occurring in the present tense from the viewpoint of the wr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bs and personal pronou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is not usually necessary to provide the personal pronoun as the subject of a verb because the verb ending indicates the personal pronoun subject of the ver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sons for including the personal pronoun are twofo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ha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could be as a means of contrast and emph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cause the personal ending does not indicate gender, a personal pronoun may be supplied to indicate s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k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t necessarily time, may also be asp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in present time. When used with Active Voice, and Indicative Mood, often shows linear or continuing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ri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ple, undefined action. The time of the action is undefined, except in the indicative m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ws action of the verb as defined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d only in the indicative mood, and refers to continuous or linear action in past time. As in "I was having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perf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Introduction to Verb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r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mple, undefined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tinuous or linear a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ast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ction was completed in the past, but has lasting and continuing results into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u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ction was completed in the past, with continuing results in the pa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un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le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akes an assertion of f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command to do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jun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akes an assertion about which there is some doubt, uncertainty, or indefinit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sually expresses a wish or des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le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verbal ad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xegetical Insight </a:t>
            </a:r>
            <a:br>
              <a:rPr sz="32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John 2:1 and 3: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hn 2:1 </a:t>
            </a:r>
            <a:r>
              <a:rPr b="0" lang="en-US" sz="3100" spc="-1" strike="noStrike">
                <a:solidFill>
                  <a:srgbClr val="ffffff"/>
                </a:solidFill>
                <a:latin typeface="Bwgrkl"/>
              </a:rPr>
              <a:t>Tekni,a mou( tau/ta gra,fw u`mi/n i[na mh. </a:t>
            </a:r>
            <a:r>
              <a:rPr b="1" lang="en-US" sz="3100" spc="-1" strike="noStrike">
                <a:solidFill>
                  <a:srgbClr val="ffffff"/>
                </a:solidFill>
                <a:latin typeface="Bwgrkl"/>
              </a:rPr>
              <a:t>a`ma,rthte</a:t>
            </a:r>
            <a:r>
              <a:rPr b="0" lang="en-US" sz="3100" spc="-1" strike="noStrike">
                <a:solidFill>
                  <a:srgbClr val="ffffff"/>
                </a:solidFill>
                <a:latin typeface="Bwgrkl"/>
              </a:rPr>
              <a:t>Å kai. eva,n tij </a:t>
            </a:r>
            <a:r>
              <a:rPr b="1" lang="en-US" sz="3100" spc="-1" strike="noStrike">
                <a:solidFill>
                  <a:srgbClr val="ffffff"/>
                </a:solidFill>
                <a:latin typeface="Bwgrkl"/>
              </a:rPr>
              <a:t>a`ma,rth</a:t>
            </a:r>
            <a:r>
              <a:rPr b="0" lang="en-US" sz="3100" spc="-1" strike="noStrike">
                <a:solidFill>
                  <a:srgbClr val="ffffff"/>
                </a:solidFill>
                <a:latin typeface="Bwgrkl"/>
              </a:rPr>
              <a:t>|( para,klhton e;comen pro.j to.n pate,ra VIhsou/n Cristo.n di,kaion\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 John 3:6</a:t>
            </a:r>
            <a:r>
              <a:rPr b="0" lang="en-US" sz="3100" spc="-1" strike="noStrike">
                <a:solidFill>
                  <a:srgbClr val="ffffff"/>
                </a:solidFill>
                <a:latin typeface="Bwgrkl"/>
              </a:rPr>
              <a:t> pa/j o` evn auvtw/| me,nwn ouvc </a:t>
            </a:r>
            <a:r>
              <a:rPr b="1" lang="en-US" sz="3100" spc="-1" strike="noStrike">
                <a:solidFill>
                  <a:srgbClr val="ffffff"/>
                </a:solidFill>
                <a:latin typeface="Bwgrkl"/>
              </a:rPr>
              <a:t>a`marta,nei</a:t>
            </a:r>
            <a:r>
              <a:rPr b="0" lang="en-US" sz="3100" spc="-1" strike="noStrike">
                <a:solidFill>
                  <a:srgbClr val="ffffff"/>
                </a:solidFill>
                <a:latin typeface="Bwgrkl"/>
              </a:rPr>
              <a:t>\ pa/j o` </a:t>
            </a:r>
            <a:r>
              <a:rPr b="1" lang="en-US" sz="3100" spc="-1" strike="noStrike">
                <a:solidFill>
                  <a:srgbClr val="ffffff"/>
                </a:solidFill>
                <a:latin typeface="Bwgrkl"/>
              </a:rPr>
              <a:t>a`marta,nwn</a:t>
            </a:r>
            <a:r>
              <a:rPr b="0" lang="en-US" sz="3100" spc="-1" strike="noStrike">
                <a:solidFill>
                  <a:srgbClr val="ffffff"/>
                </a:solidFill>
                <a:latin typeface="Bwgrkl"/>
              </a:rPr>
              <a:t> ouvc e`w,raken auvto.n ouvde. e;gnwken auvto,nÅ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Mo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initive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verbal 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Vo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Vo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ction was completed by the subject of the ve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Vo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subject receives the action of the ve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Vo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subject acts in some way upon itself or to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 Active Indica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tense stem + Connecting Vowel + Primary active personal e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niaGreek"/>
              </a:rPr>
              <a:t>l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TekniaGreek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TekniaGreek"/>
              </a:rPr>
              <a:t>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TekniaGreek"/>
              </a:rPr>
              <a:t> luv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Ch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m: This is the part of the verb that carries the basic mea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ing vowel: Greek verbs sometimes need a vowel after the stem to aid in the pronunciation of the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 endings: Suffixes added to the end of the verb indicating person and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eep Parsing of Nouns and Verbs Straigh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 do not have case or gender; nouns do not hav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, gender,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se, voice, mood, person and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Ch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r first set of endings and the primary active endings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s-</a:t>
            </a:r>
            <a:r>
              <a:rPr b="1" lang="en-US" sz="2400" spc="-1" strike="noStrike">
                <a:solidFill>
                  <a:srgbClr val="ffffff"/>
                </a:solidFill>
                <a:latin typeface="TekniaGreek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s-</a:t>
            </a:r>
            <a:r>
              <a:rPr b="1" lang="en-US" sz="2400" spc="-1" strike="noStrike">
                <a:solidFill>
                  <a:srgbClr val="ffffff"/>
                </a:solidFill>
                <a:latin typeface="TekniaGreek"/>
              </a:rPr>
              <a:t>e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s-</a:t>
            </a:r>
            <a:r>
              <a:rPr b="1" lang="en-US" sz="2400" spc="-1" strike="noStrike">
                <a:solidFill>
                  <a:srgbClr val="ffffff"/>
                </a:solidFill>
                <a:latin typeface="TekniaGreek"/>
              </a:rPr>
              <a:t>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-</a:t>
            </a:r>
            <a:r>
              <a:rPr b="1" lang="en-US" sz="2400" spc="-1" strike="noStrike">
                <a:solidFill>
                  <a:srgbClr val="ffffff"/>
                </a:solidFill>
                <a:latin typeface="TekniaGreek"/>
              </a:rPr>
              <a:t>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-</a:t>
            </a:r>
            <a:r>
              <a:rPr b="1" lang="en-US" sz="2400" spc="-1" strike="noStrike">
                <a:solidFill>
                  <a:srgbClr val="ffffff"/>
                </a:solidFill>
                <a:latin typeface="TekniaGreek"/>
              </a:rPr>
              <a:t>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p-</a:t>
            </a:r>
            <a:r>
              <a:rPr b="1" lang="en-US" sz="2400" spc="-1" strike="noStrike">
                <a:solidFill>
                  <a:srgbClr val="ffffff"/>
                </a:solidFill>
                <a:latin typeface="TekniaGreek"/>
              </a:rPr>
              <a:t>ousi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Ch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sing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eaking down of the verb and denoting of: person, number, tense, voice, mood, lexical form, and definition of inflected for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xical form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verbs, this will be the 1st person singular, present indicative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Gramm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erb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a word that describes action or state of be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nguage of the New Testa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(I, w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(yo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(he, she, it, the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mb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either singular or plur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the teac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the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ree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A verb must agree with its subject in person and numb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when the action takes place (past, present, futu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radigm: Present Active Indicative- </a:t>
            </a:r>
            <a:r>
              <a:rPr b="0" lang="en-US" sz="4400" spc="-1" strike="noStrike">
                <a:solidFill>
                  <a:srgbClr val="ccecff"/>
                </a:solidFill>
                <a:latin typeface="TekniaGreek"/>
              </a:rPr>
              <a:t>luvv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56272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n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g/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n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sona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st S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d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we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ing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ekniaGreek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400" spc="-1" strike="noStrike">
                <a:solidFill>
                  <a:srgbClr val="ffffff"/>
                </a:solidFill>
                <a:latin typeface="TekniaGreek"/>
              </a:rPr>
              <a:t>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 ac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ekniaGreek"/>
              </a:rPr>
              <a:t>luv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397160"/>
          <a:ext cx="8229600" cy="3705120"/>
        </p:xfrm>
        <a:graphic>
          <a:graphicData uri="http://schemas.openxmlformats.org/drawingml/2006/table">
            <a:tbl>
              <a:tblPr/>
              <a:tblGrid>
                <a:gridCol w="1028880"/>
                <a:gridCol w="1942920"/>
                <a:gridCol w="1965240"/>
                <a:gridCol w="1648080"/>
                <a:gridCol w="164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luv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o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luve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o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s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luve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/she/it is loo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luv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o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luve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’ll are loo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p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luvousi(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o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ekniaGreek"/>
                        </a:rPr>
                        <a:t>n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mary Active e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90920" y="1219320"/>
          <a:ext cx="3771720" cy="4200480"/>
        </p:xfrm>
        <a:graphic>
          <a:graphicData uri="http://schemas.openxmlformats.org/drawingml/2006/table">
            <a:tbl>
              <a:tblPr/>
              <a:tblGrid>
                <a:gridCol w="877680"/>
                <a:gridCol w="28940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TekniaGreek"/>
                        </a:rPr>
                        <a:t>-w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TekniaGreek"/>
                        </a:rPr>
                        <a:t>-eiV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TekniaGreek"/>
                        </a:rPr>
                        <a:t>-ei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TekniaGreek"/>
                        </a:rPr>
                        <a:t>-ome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TekniaGreek"/>
                        </a:rPr>
                        <a:t>-et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TekniaGreek"/>
                        </a:rPr>
                        <a:t>-ousi(n)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80880" y="5562720"/>
            <a:ext cx="8458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can be either continuous or undefined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pect ALWAYS takes precedence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Present tense generally indicates an action occurring in the present t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bs &amp; Personal Pronou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not usually necessary to provide the personal pronoun as the subject of a verb because the verb ending indicates the personal pronoun subject of the ve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sons for including the personal pronoun are twofo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ha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h.n fwnh.n auvtou/ avkou,eij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You hear its so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xousi,an e;cei o` ui`o.j tou/ avnqrw,pou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n of man has autho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o. fw/j tou/ ko,smou tou,tou ble,pous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see the light of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Gramm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n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In English, tense refers to both th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the action and the form of th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tud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present ten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stud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future ten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tudi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– past ten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the time of the verb is from the standpoint of the speaker/writer, not the read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hat is the difference betwe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udie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last nigh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s studyi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last nigh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difference is in the kind of action: completed versus continuo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Gramm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pect an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743200"/>
          <a:ext cx="8610480" cy="2255760"/>
        </p:xfrm>
        <a:graphic>
          <a:graphicData uri="http://schemas.openxmlformats.org/drawingml/2006/table">
            <a:tbl>
              <a:tblPr/>
              <a:tblGrid>
                <a:gridCol w="2152800"/>
                <a:gridCol w="2266920"/>
                <a:gridCol w="2038320"/>
                <a:gridCol w="21524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u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udi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tu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stud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tud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study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Gramm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refers to the relationship between the subject and the ve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 subjec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ion of the ver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hit the b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 subject receives the action of the ver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was hit by the b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ns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u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ows action in pres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k Verbs- te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hows action of the verb as defined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1-14T20:19:27Z</dcterms:modified>
  <cp:revision>180</cp:revision>
  <dc:subject/>
  <dc:title>Slide 1</dc:title>
</cp:coreProperties>
</file>