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103.xml.rels" ContentType="application/vnd.openxmlformats-package.relationships+xml"/>
  <Override PartName="/ppt/slides/_rels/slide81.xml.rels" ContentType="application/vnd.openxmlformats-package.relationships+xml"/>
  <Override PartName="/ppt/slides/_rels/slide111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1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58.xml" ContentType="application/vnd.openxmlformats-officedocument.presentationml.slide+xml"/>
  <Override PartName="/ppt/slides/slide111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122.xml" ContentType="application/vnd.openxmlformats-officedocument.presentationml.slide+xml"/>
  <Override PartName="/ppt/slides/slide69.xml" ContentType="application/vnd.openxmlformats-officedocument.presentationml.slide+xml"/>
  <Override PartName="/ppt/slides/slide121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772400" cy="28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REVIEW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hapter 15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220968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o`  `Ihsou/j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457200" y="0"/>
            <a:ext cx="8001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h` avsqe,neia ouvk e;stin pro.j qa,naton avllV u`pe.r th/j do,xhj tou/ qeou/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42280" y="1752480"/>
            <a:ext cx="207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cknes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356280" y="5948280"/>
            <a:ext cx="254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John 11: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2280" y="-76680"/>
            <a:ext cx="8686800" cy="67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eva.n ei;ph| o` pou,j\ o[ti ouvk eivmi. cei,r( ouvk eivmi. evk tou/ sw,matoj( ouv para. tou/to ouvk e;stin evk tou/ sw,matoj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129040" y="3036960"/>
            <a:ext cx="106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950400" y="1371600"/>
            <a:ext cx="43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f            says   the     fo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820120" y="1386000"/>
            <a:ext cx="160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ca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14920" y="3027240"/>
            <a:ext cx="184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 am not 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265280" y="3062160"/>
            <a:ext cx="41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 am not          of        t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443240" y="4572000"/>
            <a:ext cx="106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38760" y="4545000"/>
            <a:ext cx="429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  (less)          t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58160" y="6060960"/>
            <a:ext cx="702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        it is        out of  the              bo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1000"/>
                            </p:stCondLst>
                            <p:childTnLst>
                              <p:par>
                                <p:cTn id="6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2209680" y="1371600"/>
            <a:ext cx="4572000" cy="29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su ei= ton dou/lon kuri,ou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1981080" y="1676520"/>
            <a:ext cx="51818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evn th/| evsca,th| h`me,ra|Å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295280" y="0"/>
            <a:ext cx="655344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evn auvtw/| zwh. h=n( kai. h` zwh. h=n to. fw/j tw/n avnqrw,pw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431880" y="4343400"/>
            <a:ext cx="226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John 1: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143000" y="2209680"/>
            <a:ext cx="6477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e;stin ga.r sa,bbata tw/| kuri,w|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048120" y="1752480"/>
            <a:ext cx="495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wgrkl"/>
              </a:rPr>
              <a:t>do,xa qew/|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380880" y="220968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evk ton oivko,n 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80880" y="220968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evn tw/| euvaggeli,w|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o` de. qeo.j th/j eivrh,nhj suntri,yei to.n satana/n u`po. tou.j po,daj u`mw/n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976320" y="3473280"/>
            <a:ext cx="182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ll cru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981080" y="583560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(Romans 16:20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220968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mh,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52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…</a:t>
            </a: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eivj th.n aivw,nion basilei,an tou/ kuri,ou h`mw/n kai. swth/roj VIhsou/ Cristou/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990720" y="4419720"/>
            <a:ext cx="68580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to the eternal kingdom of our Lord and Saviour Jesus Christ (2 Peter 2:1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Timo,qeon evsti,n mou te,knon avgaphto.n kai. pisto.n evn kuri,w|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ta. te,kna tou/ qeou/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avgaphtoi,( nu/n te,kna qeou/ evsmen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o` ui`o.j tou/ avnqrw,pou evn th/| do,xh| auvtou/ kai. pa,ntej oi` a;ggeloi metV auvtou/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743920" y="4419720"/>
            <a:ext cx="348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(Matthew 25:3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Kai. ivdou. avnh.r ovno,mati VIwsh.f</a:t>
            </a: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,</a:t>
            </a: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 avnh.r avgaqo.j kai. di,kaioj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h` ga.r sa.rx evpiqumei/ kata. tou/ pneu,matoj( to. de. pneu/ma kata. th/j sarko,j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727160" y="1690560"/>
            <a:ext cx="148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ust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200760" y="5562720"/>
            <a:ext cx="312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alatians 5:1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oi` a[gioi tou/ qeou/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To. musth,rion tou/to me,ga evsti,n\ evgw. de. le,gw eivj cristo,n kai. eivj th.n evkklhsi,an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Pau/loj avpo,stoloj VIhsou/ cristou/ katV evpitagh.n qeou/ swth/roj h`mw/n( kai. kurio,u VIhsou/ cristou/ th/j evlpi,doj h`mw/n…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728600" y="2376360"/>
            <a:ext cx="20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and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80880" y="220968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ou-toj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05320" y="41148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5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Timoqe,w| gnhsi,w| te,knw| evn pi,stei( ca,rij e;leoj eivrh,nh avpo. qeou/ patro.j kai. Cristou/ VIhsou/ tou/ kuri,ou h`mw/nÅ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422160" y="1690560"/>
            <a:ext cx="206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gitimat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705920" y="3124080"/>
            <a:ext cx="138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rcy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20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tou/to ga.r qe,lhma qeou/ evn Cristw/| VIhsou/ eivj u`ma/jÅ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his is God's will for you in Christ Jesu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Thessalonians 5:18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500"/>
                            </p:stCondLst>
                            <p:childTnLst>
                              <p:par>
                                <p:cTn id="7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1" dur="50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80880" y="220968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w[st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5320" y="41148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for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eiv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71800" y="388620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f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eiv mh,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971800" y="388620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xcept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ei-j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971800" y="388620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e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mi,a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71800" y="388620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e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h[dh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971800" y="3886200"/>
            <a:ext cx="3124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ow, already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o[noma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388620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ame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380880" y="220968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h` zw/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ou`dei,j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971800" y="3886200"/>
            <a:ext cx="3124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o one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one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pa/j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388620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l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peri,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209680" y="4876920"/>
            <a:ext cx="487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cerning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09680" y="3352680"/>
            <a:ext cx="487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ith the Genitiv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peri,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209680" y="4876920"/>
            <a:ext cx="487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round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09680" y="3352680"/>
            <a:ext cx="487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ith the Accusativ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sa,rx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971800" y="388620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lesh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su,n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71800" y="388620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ith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sw/ma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971800" y="388620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ody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teknon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71800" y="388620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ild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ti,j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971800" y="3124080"/>
            <a:ext cx="312408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?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?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y?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tij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971800" y="3886200"/>
            <a:ext cx="3124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meone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mething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yone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80880" y="220968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to.n qeo,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447920" y="2133720"/>
            <a:ext cx="6324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Petroj hvn evn th/| Galilai,a|\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aivw,n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e, eternity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aivw,nioj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ternal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dida,skaloj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cher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euvqu,j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mediately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e[wj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til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far as (with the Genitiv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e;sesqe, mou ma,rturej e;n te VIerousalh.m kai. evn pa,sh| th/| VIoudai,a| kai. Samarei,a| kai. e[wj evsca,tou th/j gh/jÅ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2320" y="1360440"/>
            <a:ext cx="23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a’ll shall b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maqhth,j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ipl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371600" y="1905120"/>
            <a:ext cx="60958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w[ste diV avnqrw,pou qa,natoj hv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me,n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06632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the one hand” (followed by </a:t>
            </a: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d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e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220968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kardi,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-609840"/>
            <a:ext cx="8686800" cy="746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Bwgrkl"/>
              </a:rPr>
              <a:t>o` me.n ui`o.j tou/ avnqrw,pou u`pa,gei kaqw.j ge,graptai peri. auvtou/( ouvai. de. tw/| avnqrw,pw| evkei,nw| diV ou- o` ui`o.j tou/ avnqrw,pou paradi,dotai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61240" y="762120"/>
            <a:ext cx="189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es up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83960" y="2147760"/>
            <a:ext cx="365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t has been written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46760" y="3505320"/>
            <a:ext cx="122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o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16920" y="4800600"/>
            <a:ext cx="156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m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26240" y="6172200"/>
            <a:ext cx="27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s given over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64640" y="5592600"/>
            <a:ext cx="236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Matt 26:24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mhdei,j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on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mhde,n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on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mo,noj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one, only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o[pwj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, that, in order that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762120"/>
            <a:ext cx="9144000" cy="822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e;dwken e`auto.n u`pe.r tw/n a`martiw/n h`mw/n( o[pwj evxe,lhtai h`ma/j evk tou/ aivw/noj tou/ evnestw/toj ponhrou/ kata. to. qe,lhma tou/ qeou/ kai. patro.j h`mw/n 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(Galatians 1:4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45520" y="533520"/>
            <a:ext cx="190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gav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946120" y="1828800"/>
            <a:ext cx="326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might deliver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45520" y="4267080"/>
            <a:ext cx="182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o[soj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great as, as many a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716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o[soi de. e;labon auvto,n( e;dwken auvtoi/j evxousi,an te,kna qeou/ gene,sqai( toi/j pisteu,ousin eivj to. o;noma auvtou 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(John 1:12)</a:t>
            </a: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/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16400" y="1386000"/>
            <a:ext cx="198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ceived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03200" y="1371600"/>
            <a:ext cx="186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gav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8160" y="4495680"/>
            <a:ext cx="231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becom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803120" y="4433760"/>
            <a:ext cx="207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liev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ou=n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fore, then, accordingly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ovfqalmo,j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ye, sight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80880" y="220968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su,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pa,lin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ain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pou,j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ot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podo,j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et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u`pe,r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Genitive:  “In behalf of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Accusative:  “Abov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80880" y="2209680"/>
            <a:ext cx="8458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pneu/ma zwh/j evk tou/ qeou/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90720" y="39625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 spirit of life from God”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80880" y="2209680"/>
            <a:ext cx="8458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eivj ta.j kardi,aj auvtw/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80880" y="220968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su,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04920" y="0"/>
            <a:ext cx="8458200" cy="81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9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wgrkl"/>
              </a:rPr>
              <a:t>kai. ei=pen auvtoi/j o` VIhsou/j\ oi` ui`oi. tou/ aivw/noj tou,tou gamou/sin kai. gami,skontai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598040" y="4495680"/>
            <a:ext cx="620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ry and are given in marriag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52080" y="5638680"/>
            <a:ext cx="303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Luke 20:34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80880" y="220968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mh,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80880" y="220968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ou-toj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220968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ui`oj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gunh,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man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dikh,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ght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di,kaioj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ghteou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dikaiosu,nh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ghteousnes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dw,deka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elv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e`autou/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mself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evkei/noj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h;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, than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kavgw,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I, but I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maka,rioj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ppy, Bless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09680" y="2819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eivp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me,gaj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rge, great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po,lij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ity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poluj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ch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pw/j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?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o[pwj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shmei/on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gn, miracl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304920" y="228600"/>
            <a:ext cx="8458200" cy="74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wgrkl"/>
              </a:rPr>
              <a:t>nu/n kri,sij evsti.n tou/ ko,smou tou,tou( nu/n o` a;rcwn tou/ ko,smou tou,tou evkblhqh,setai e;xw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124440" y="6216480"/>
            <a:ext cx="274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(John 12:3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63960" y="4408560"/>
            <a:ext cx="336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all be cast out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419840" y="1447920"/>
            <a:ext cx="22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udgment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le,gei auvtw/| o` Pila/toj\ </a:t>
            </a:r>
            <a:br>
              <a:rPr sz="5400"/>
            </a:b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ti, evstin avlh,qeiaÈ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971800" y="388620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John 18:38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eiv mh,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971800" y="388620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xcept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mi,a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971800" y="388620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e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09680" y="2819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euv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560" y="894960"/>
            <a:ext cx="8458200" cy="32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u`mei/j de. mh. klhqh/te r`abbi,\ ei-j ga,r evstin u`mw/n o` dida,skaloj( pa,ntej de. u`mei/j avdelfoi, evsteÅ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do not be called Rabbi; for One is your Teacher, and you are all brothers (Matthew 23:8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177080" y="903240"/>
            <a:ext cx="209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 called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kai. nu/n o` avnticri,stoj evn tw/| ko,smw| evsti.n h;dh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219320" y="4098960"/>
            <a:ext cx="6705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d now the antichrist is already in the worl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ccecff"/>
                </a:solidFill>
                <a:latin typeface="Bwgrkl"/>
              </a:rPr>
              <a:t>Parakalw/ de. u`ma/j( avdelfoi,( dia. tou/ ovno,matoj tou/ kuri,ou h`mw/n VIhsou/ Cristou/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147780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exhort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362320" y="556272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I Corinthians 1:1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ou`dei,j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971800" y="3886200"/>
            <a:ext cx="3124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o one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one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le,gei auvtw/| o` VIhsou/j\ evgw, eivmi h` o`do.j kai. h` avlh,qeia kai. h` zwh,\ ouvdei.j e;rcetai pro.j to.n pate,ra eiv mh. diV evmou/Å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307800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y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267080" y="452592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Come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kai. basileu,sei eivj tou.j aivw/naj tw/n aivw,nwn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37160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he shall reign for ever and ever (Rev 11:1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500920" y="1893960"/>
            <a:ext cx="286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shall reign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990720" y="1600200"/>
            <a:ext cx="70102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ffffff"/>
                </a:solidFill>
                <a:latin typeface="Bwgrkl"/>
              </a:rPr>
              <a:t>o` logoj avpo. qeou/ patro.j h`mw/n kai. kuri,ou VIhsou/ Cristou/Å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peri,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209680" y="4876920"/>
            <a:ext cx="487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cern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209680" y="3352680"/>
            <a:ext cx="487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ith the Genitiv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peri,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209680" y="4876920"/>
            <a:ext cx="487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209680" y="3352680"/>
            <a:ext cx="487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ith the Accusativ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24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Louka/j evsti.n mo,noj metV evmou/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y Luke is with m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905120" y="2819520"/>
            <a:ext cx="53337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to, euvagge,li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ccecff"/>
                </a:solidFill>
                <a:latin typeface="Bwgrkl"/>
              </a:rPr>
              <a:t>Kai. o` lo,goj sa.rx evge,neto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562720" y="289548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m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160" y="590040"/>
            <a:ext cx="8001000" cy="32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Ouvk e;stin maqhth.j u`pe.r to.n dida,skalon ouvde. dou/loj u`pe.r to.n ku,rion auvtou/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disciple is not above his teacher, nor a slave above his master (Matthew10:24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ccecff"/>
                </a:solidFill>
                <a:latin typeface="Bwgrkl"/>
              </a:rPr>
              <a:t>ca,riti de. qeou/ eivmi o[ eivmi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33720" y="3429000"/>
            <a:ext cx="4495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ut by the Grace of God I am what I am” (1 Cor 15:10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kai. ei=pen o` VIhsou/j\ tou/to, mou, evstin to. sw/ma to. u`pe.r u`mw/n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0" y="3962520"/>
            <a:ext cx="4419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d Jesus said, ‘This is my body that is for you’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29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Kai. euvqu.j h=n evn th/| sunagwgh/| auvtw/n a;nqrwpoj evn pneu,mati avkaqa,rtw|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immediately there was in their synagogue a man with an unclean spirit (Mark 1:23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488920" y="3201840"/>
            <a:ext cx="179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Unclean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Le,gei auvtoi/j o` VIhsou/j( Eiv te,kna tou/ VAbraa.m h=te( ta. e;rga tou/ VAbraa.m evpoiei/teÅ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257800" y="327672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 wer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562720" y="481500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 would do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895480" y="586728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(John 8:39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auvtw/| h` do,xa kai. nu/n kai. eivj h`me,ran aivw/noj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29528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Him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b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glory, both now and to the day of etern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2 Peter 3:18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500"/>
                            </p:stCondLst>
                            <p:childTnLst>
                              <p:par>
                                <p:cTn id="6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2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kai. Mwu?sh/j me.n pisto.j evn tw/| oi;kw| auvtou/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Moses indeed was faithful in His ho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2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447920" y="2133720"/>
            <a:ext cx="6324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Petroj hvn evn th/| Galilai,a|\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990720" y="1600200"/>
            <a:ext cx="70102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ffffff"/>
                </a:solidFill>
                <a:latin typeface="Bwgrkl"/>
              </a:rPr>
              <a:t>o` logoj avpo. qeou/ patro.j h`mw/n kai. kuri,ou VIhsou/ Cristou/Å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03:38:49Z</dcterms:created>
  <dc:creator>John Stevenson</dc:creator>
  <dc:description/>
  <dc:language>en-US</dc:language>
  <cp:lastModifiedBy>John Stevenson</cp:lastModifiedBy>
  <dcterms:modified xsi:type="dcterms:W3CDTF">2008-02-05T00:12:18Z</dcterms:modified>
  <cp:revision>176</cp:revision>
  <dc:subject/>
  <dc:title>Slide 1</dc:title>
</cp:coreProperties>
</file>