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Relative Pronou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[toj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 evkei/no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272040" y="487692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, Th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nw,pi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pta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qro,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vIerousalhm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t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itive:  “Down from, Agains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sative:  “According to, throughout, dur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efalh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[t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s, so, in this mann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loi/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p, bo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r`h/m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, say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nstra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ve Pronoun:  “This / these” or “that / thos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Pronoun:  “Who, that, whi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dependent clauses can cannot contain the main subject or 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cei,r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, arm, fing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yuch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l, lif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[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290520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[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i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3733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449568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-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13716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21337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1337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|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i-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52578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019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[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[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i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-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-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1337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-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i-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[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09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76320"/>
            <a:ext cx="23619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2895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37339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44863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-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36224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21337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-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52578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i-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60102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74160" y="-3168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m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609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o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290520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895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-to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3733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449568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13716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36224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1337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1337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w|/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o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52578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019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tou,tou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609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89548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37339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44863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36224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h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13372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525780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a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010200"/>
            <a:ext cx="236232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a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60948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76320"/>
            <a:ext cx="23619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89548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373392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448632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136224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13372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w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25780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,no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010200"/>
            <a:ext cx="2361960" cy="143460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kei/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080" y="-3168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2880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[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290520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[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i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3733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449568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-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13716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1337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1337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|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i-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52578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60199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0033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 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[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609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76320"/>
            <a:ext cx="236232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289548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[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37339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i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44863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-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36224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-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13372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-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52578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i-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6010200"/>
            <a:ext cx="236232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[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09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76320"/>
            <a:ext cx="23619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66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289548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7339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44863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-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36224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u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213372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w-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52578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oi-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6010200"/>
            <a:ext cx="2361960" cy="764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[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74160" y="-3168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m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]j dV a'n pi,h| evk tou/ u[datoj ou- evgw. dw,sw auvtw/|( ouv mh. diyh,sei eivj to.n aivw/na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2200" y="2133720"/>
            <a:ext cx="14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in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20960" y="3733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giv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9520" y="54244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thir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lh,qei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ivrh,nh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7-11-26T19:24:27Z</dcterms:modified>
  <cp:revision>150</cp:revision>
  <dc:subject/>
  <dc:title>Slide 1</dc:title>
</cp:coreProperties>
</file>