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EVIEW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609840"/>
            <a:ext cx="868680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o` me.n ui`o.j tou/ avnqrw,pou u`pa,gei kaqw.j ge,graptai peri. auvtou/( ouvai. de. tw/| avnqrw,pw| evkei,nw| diV ou- o` ui`o.j tou/ avnqrw,pou paradi,dotai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61240" y="76212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es u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3960" y="2147760"/>
            <a:ext cx="36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has been writte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6760" y="350532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6920" y="480060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6240" y="6172200"/>
            <a:ext cx="27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given ov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64640" y="559260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tt 26:2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hdei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hde,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o,n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ne, on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pw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, that, in order tha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9144000" cy="82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;dwken e`auto.n u`pe.r tw/n a`martiw/n h`mw/n( o[pwj evxe,lhtai h`ma/j evk tou/ aivw/noj tou/ evnestw/toj ponhrou/ kata. to. qe,lhma tou/ qeou/ kai. patro.j h`mw/n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Galatians 1:4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5520" y="53352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gav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6120" y="182880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might deliv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5520" y="426708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s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great as, as many 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[soi de. e;labon auvto,n( e;dwken auvtoi/j evxousi,an te,kna qeou/ gene,sqai( toi/j pisteu,ousin eivj to. o;noma auvtou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(John 1:12)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6400" y="138600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03200" y="13716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gav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8160" y="4495680"/>
            <a:ext cx="23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co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3120" y="4433760"/>
            <a:ext cx="20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liev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u=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then, according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vfqalmo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, sigh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ivw,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, etern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a,li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u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do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u`pe,r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Genitive:  “In behalf o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ccusative:  “Abo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neu/ma zwh/j evk tou/ qeou/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3962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pirit of life from God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j ta.j kardi,aj auvtw/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0"/>
            <a:ext cx="8458200" cy="81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kai. ei=pen auvtoi/j o` VIhsou/j\ oi` ui`oi. tou/ aivw/noj tou,tou gamou/sin kai. gami,skonta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98040" y="4495680"/>
            <a:ext cx="62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y and are given in marriag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2080" y="5638680"/>
            <a:ext cx="30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uke 20:3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mh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-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ivw,ni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ern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gunh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a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kh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,kai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kaiosu,nh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w,dek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el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`autou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m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kei/n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h;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, tha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avgw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, but I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aka,ri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ppy, Bles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da,skal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e,ga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, grea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,li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lu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w/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shmei/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, mirac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228600"/>
            <a:ext cx="8458200" cy="74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nu/n kri,sij evsti.n tou/ ko,smou tou,tou( nu/n o` a;rcwn tou/ ko,smou tou,tou evkblhqh,setai e;x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440" y="621648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John 12:3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3960" y="440856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be cast ou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19840" y="14479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dgm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le,gei auvtw/| o` Pila/toj\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, evstin avlh,qeiaÈ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18:38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 mh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pt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mi,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894960"/>
            <a:ext cx="845820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u`mei/j de. mh. klhqh/te r`abbi,\ ei-j ga,r evstin u`mw/n o` dida,skaloj( pa,ntej de. u`mei/j avdelfoi, evste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do not be called Rabbi; for One is your Teacher, and you are all brothers (Matthew 23: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77080" y="90324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call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uvqu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ediate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nu/n o` avnticri,stoj evn tw/| ko,smw| evsti.n h;d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409896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the antichrist is already in the wor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Bwgrkl"/>
              </a:rPr>
              <a:t>Parakalw/ de. u`ma/j( avdelfoi,( dia. tou/ ovno,matoj tou/ kuri,ou h`mw/n VIhsou/ Cris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4778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exhor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 Corinthians 1: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`de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886200"/>
            <a:ext cx="3124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on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le,gei auvtw/| o` VIhsou/j\ evgw, eivmi h` o`do.j kai. h` avlh,qeia kai. h` zwh,\ ouvdei.j e;rcetai pro.j to.n pate,ra eiv mh. diV evmou/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30780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525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om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basileu,sei eivj tou.j aivw/naj tw/n aivw,nw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shall reign for ever and ever (Rev 11: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0920" y="1893960"/>
            <a:ext cx="28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shall reig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Geni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Accus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Louka/j evsti.n mo,noj metV evmou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Luke is with 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Bwgrkl"/>
              </a:rPr>
              <a:t>Kai. o` lo,goj sa.rx evge,net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2895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590040"/>
            <a:ext cx="8001000" cy="32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uvk e;stin maqhth.j u`pe.r to.n dida,skalon ouvde. dou/loj u`pe.r to.n ku,rion auvtou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sciple is not above his teacher, nor a slave above his master (Matthew10:2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[w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far as (with the Geni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Bwgrkl"/>
              </a:rPr>
              <a:t>ca,riti de. qeou/ eivmi o[ eivm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3429000"/>
            <a:ext cx="449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t by the Grace of God I am what I am” (1 Cor 15:10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ei=pen o` VIhsou/j\ tou/to, mou, evstin to. sw/ma to. u`pe.r u`mw/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3962520"/>
            <a:ext cx="4419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Jesus said, ‘This is my body that is for you’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euvqu.j h=n evn th/| sunagwgh/| auvtw/n a;nqrwpoj evn pneu,mati avkaqa,rtw|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mmediately there was in their synagogue a man with an unclean spirit (Mark 1:2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8920" y="3201840"/>
            <a:ext cx="17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ncle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Le,gei auvtoi/j o` VIhsou/j( Eiv te,kna tou/ VAbraa.m h=te( ta. e;rga tou/ VAbraa.m evpoiei/te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3276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e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4815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ould 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5867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John 8:3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uvtw/| h` do,xa kai. nu/n kai. eivj h`me,ran aivw/n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lory, both now and to the day of eter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 Peter 3: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ai. Mwu?sh/j me.n pisto.j evn tw/| oi;kw| auvtou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oses indeed was faithful in His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3048120"/>
            <a:ext cx="3124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3886200"/>
            <a:ext cx="3124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hing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213372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etroj hvn evn th/| Galilai,a|\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676520" y="220968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fwnh, evk tou/ ouvranou/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;sesqe, mou ma,rturej e;n te VIerousalh.m kai. evn pa,sh| th/| VIoudai,a| kai. Samarei,a| kai. e[wj evsca,tou th/j gh/j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2320" y="136044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a’ll shall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90720" y="1600200"/>
            <a:ext cx="7010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Bwgrkl"/>
              </a:rPr>
              <a:t>o` logoj avpo. qeou/ patro.j h`mw/n kai. kuri,ou VIhsou/ Cristou/Å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0"/>
            <a:ext cx="8001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avsqe,neia ouvk e;stin pro.j qa,naton avllV u`pe.r th/j do,xhj tou/ qe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42280" y="1752480"/>
            <a:ext cx="20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ckn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6280" y="594828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68680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a.n ei;ph| o` pou,j\ o[ti ouvk eivmi. cei,r( ouvk eivmi. evk tou/ sw,matoj( ouv para. tou/to ouvk e;stin evk tou/ sw,mat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9040" y="303696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50400" y="1371600"/>
            <a:ext cx="43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           says   the     f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20120" y="13860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4920" y="302724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am no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5280" y="306216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am not          of       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3240" y="457200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38760" y="4545000"/>
            <a:ext cx="42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  (less)         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8160" y="6060960"/>
            <a:ext cx="70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        it is        out of  the             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09680" y="1371600"/>
            <a:ext cx="457200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 ei= ton dou/lon kuri,ou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167652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evsca,th| h`me,ra|Å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95280" y="0"/>
            <a:ext cx="6553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auvtw/| zwh. h=n( kai. h` zwh. h=n to. fw/j tw/n avnqrw,pw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31880" y="4343400"/>
            <a:ext cx="22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09680" y="762120"/>
            <a:ext cx="4724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kardi,a| Paul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stin ga.r sa,bbata tw/| kuri,w|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8120" y="175248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do,xa qew/|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k ton oivko,n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aqhth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w/| euvaggeli,w|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` de. qeo.j th/j eivrh,nhj suntri,yei to.n satana/n u`po. tou.j po,daj u`mw/n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6320" y="3473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cr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58356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Romans 16:2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…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j th.n aivw,nion basilei,an tou/ kuri,ou h`mw/n kai. swth/roj VIhsou/ Cris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4419720"/>
            <a:ext cx="685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e eternal kingdom of our Lord and Saviour Jesus Christ (2 Peter 2: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mo,qeon evsti,n mou te,knon avgaphto.n kai. pisto.n evn kuri,w|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a. te,kna tou/ qe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avgaphtoi,( nu/n te,kna qeou/ evsm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` ui`o.j tou/ avnqrw,pou evn th/| do,xh| auvtou/ kai. pa,ntej oi` a;ggeloi metV auv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43920" y="441972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tthew 25:3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ivdou. avnh.r ovno,mati VIwsh.f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 avnh.r avgaqo.j kai. di,kai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h` ga.r sa.rx evpiqumei/ kata. tou/ pneu,matoj( to. de. pneu/ma kata. th/j sarko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7160" y="1690560"/>
            <a:ext cx="14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s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0760" y="5562720"/>
            <a:ext cx="31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latians 5: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i` a[gioi tou/ qe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e,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one hand” (followed by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dikaiw,qhte evn tw/| ovno,mati tou/ kuri,ou VIhsou/ Cristou/ kai. evn tw/| pneu,mati tou/ qeou/ h`mw/n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120" y="1039680"/>
            <a:ext cx="357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ere justifi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99800" y="601992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 Corinthians 6: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o. musth,rion tou/to me,ga evsti,n\ evgw. de. le,gw eivj cristo,n kai. eivj th.n evkklhsi,a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au/loj avpo,stoloj VIhsou/ cristou/ katV evpitagh.n qeou/ swth/roj h`mw/n( kai. kurio,u VIhsou/ cristou/ th/j evlpi,doj h`mw/n…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28600" y="237636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moqe,w| gnhsi,w| te,knw| evn pi,stei( ca,rij e;leoj eivrh,nh avpo. qeou/ patro.j kai. Cristou/ VIhsou/ tou/ kuri,ou h`mw/n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22160" y="169056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tim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05920" y="31240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5240" y="31240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c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ou/to ga.r qe,lhma qeou/ evn Cristw/| VIhsou/ eivj u`ma/j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is God's will for you in Christ Jesu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Thessalonians 5: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32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a.n ei;ph| o` pou,j\ o[ti ouvk eivmi. cei,r( ouvk eivmi. evk tou/ sw,matoj( ouv para. tou/to ouvk e;stin evk tou/ sw,mat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294920" y="48006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the foot should say, "Because I am not a hand, I am no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par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body," it is not for this reason any the les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par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body. (1 Corinthians 12:1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12560" y="205740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11-26T18:24:39Z</dcterms:modified>
  <cp:revision>168</cp:revision>
  <dc:subject/>
  <dc:title>Slide 1</dc:title>
</cp:coreProperties>
</file>