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Demonstrative Pronouns / Adjectiv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ou[toj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 evkei/noj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272040" y="487692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, Th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gunh,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a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ikh,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i,kai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eou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ikaiosu,nh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eousnes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w,deka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el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`autou/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msel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vkei/n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h;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, tha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kavgw,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, but I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aka,ri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ppy, Bles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1143000"/>
            <a:ext cx="56386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e,ga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, grea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o,li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olu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w/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shmei/o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, mirac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onstra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99840" y="15998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/ these” or “that / thos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word can be eith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noun:  “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Th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min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djective:  “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Th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r is min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28800" y="60948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u-to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76320"/>
            <a:ext cx="236232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290520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9548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/t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7339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u-toi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37339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449568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44863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,t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13716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36224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t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21337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,tw|/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52578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,to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52578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60199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60102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,tou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60948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[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76320"/>
            <a:ext cx="236232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289548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au,th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37339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u-t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44863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,t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136224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au,th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21337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au,th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52578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,ta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60102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,ta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60948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/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76320"/>
            <a:ext cx="236196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289548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/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373392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/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448632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,t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136224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,t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213372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,tw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525780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,to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601020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au/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440" y="-3168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28800" y="60948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/no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76320"/>
            <a:ext cx="236232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290520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289548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/n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37339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u-toi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37339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320" y="449568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44863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,t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13716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36224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21337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213372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w|/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2578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,to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52578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60199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60102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,tou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60948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76320"/>
            <a:ext cx="236232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289548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h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373392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/n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448632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136224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h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213372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h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525780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a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601020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a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609480"/>
            <a:ext cx="236196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/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76320"/>
            <a:ext cx="236196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2895480"/>
            <a:ext cx="236196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/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3733920"/>
            <a:ext cx="236196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/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4486320"/>
            <a:ext cx="236196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1362240"/>
            <a:ext cx="236196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2133720"/>
            <a:ext cx="236196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w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5257800"/>
            <a:ext cx="236196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o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6010200"/>
            <a:ext cx="236196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/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4080" y="-3168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t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asis is when two words have a horrible traffic accident and are impossible to separate. </a:t>
            </a:r>
            <a:br>
              <a:rPr sz="4400"/>
            </a:br>
            <a:r>
              <a:rPr b="0" lang="en-US" sz="6600" spc="-1" strike="noStrike">
                <a:solidFill>
                  <a:srgbClr val="ccecff"/>
                </a:solidFill>
                <a:latin typeface="Bwgrkl"/>
              </a:rPr>
              <a:t>ka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and </a:t>
            </a:r>
            <a:r>
              <a:rPr b="0" lang="en-US" sz="6600" spc="-1" strike="noStrike">
                <a:solidFill>
                  <a:srgbClr val="ccecff"/>
                </a:solidFill>
                <a:latin typeface="Bwgrkl"/>
              </a:rPr>
              <a:t>egw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become </a:t>
            </a:r>
            <a:r>
              <a:rPr b="0" lang="en-US" sz="6600" spc="-1" strike="noStrike">
                <a:solidFill>
                  <a:srgbClr val="ccecff"/>
                </a:solidFill>
                <a:latin typeface="Bwgrkl"/>
              </a:rPr>
              <a:t>kagw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ree Degrees of An Adject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: Uncompared “l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ative: Greater of the two “larg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lative: Greatest of all “larges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t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od of comm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plural, identical to nomin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clension, vocative looks like nomin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clension Singular, has 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end of wo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xt is the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w Vocabul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11-26T18:46:57Z</dcterms:modified>
  <cp:revision>146</cp:revision>
  <dc:subject/>
  <dc:title>Slide 1</dc:title>
</cp:coreProperties>
</file>