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REVIEW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hapter 1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mhdemi,a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n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mhde,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n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mo,n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one, onl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[pw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, that, in order tha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[s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great as, as many a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u=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, then, accordingl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vfqalmo,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ye, sigh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a,li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ou,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odo,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e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ivw,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, eternit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u`pe,r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Genitive:  “In behalf of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Accusative:  “Abov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22096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pneu/ma zwh/j evk tou/ qeou/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3962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spirit of life from God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22096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ivj ta.j kardi,aj auvtw/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su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0"/>
            <a:ext cx="8458200" cy="81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kai. ei=pen auvtoi/j o` VIhsou/j\ oi` ui`oi. tou/ aivw/noj tou,tou gamou/sin kai. gami,skonta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98040" y="4495680"/>
            <a:ext cx="62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ry and are given in marriag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52080" y="5638680"/>
            <a:ext cx="303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uke 20:3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mh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u-t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228600"/>
            <a:ext cx="8458200" cy="74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nu/n kri,sij evsti.n tou/ ko,smou tou,tou( nu/n o` a;rcwn tou/ ko,smou tou,tou evkblhqh,setai e;x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440" y="6216480"/>
            <a:ext cx="27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John 12:3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63960" y="4408560"/>
            <a:ext cx="33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be cast ou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19840" y="144792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dgmen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le,gei auvtw/| o` Pila/toj\ ti, evstin avlh,qeiaÈ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18:38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iv mh,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cept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ivw,ni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erna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mi,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894960"/>
            <a:ext cx="8458200" cy="32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u`mei/j de. mh. klhqh/te r`abbi,\ ei-j ga,r evstin u`mw/n o` dida,skaloj( pa,ntej de. u`mei/j avdelfoi, evste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do not be called Rabbi; for One is your Teacher, and you are all brothers (Matthew 23: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77080" y="903240"/>
            <a:ext cx="20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 calle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kai. nu/n o` avnticri,stoj evn tw/| ko,smw| evsti.n h;dh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409896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the antichrist is already in the wor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ccecff"/>
                </a:solidFill>
                <a:latin typeface="Bwgrkl"/>
              </a:rPr>
              <a:t>Parakalw/ de. u`ma/j( avdelfoi,( dia. tou/ ovno,matoj tou/ kuri,ou h`mw/n VIhsou/ Cristou/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4778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exhor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55627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 Corinthians 1: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u`dei,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3886200"/>
            <a:ext cx="3124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 one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n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le,gei auvtw/| o` VIhsou/j\ evgw, eivmi h` o`do.j kai. h` avlh,qeia kai. h` zwh,\ ouvdei.j e;rcetai pro.j to.n pate,ra eiv mh. diV evmou/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30780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45259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Com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kai. basileu,sei eivj tou.j aivw/naj tw/n aivw,nw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shall reign for ever and ever (Rev 11: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0920" y="1893960"/>
            <a:ext cx="28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shall reig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eri,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48769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er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33526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th the Geni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eri,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48769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33526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th the Accusa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Louka/j evsti.n mo,noj metV evmou/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Luke is with m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dida,skal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ccecff"/>
                </a:solidFill>
                <a:latin typeface="Bwgrkl"/>
              </a:rPr>
              <a:t>Kai. o` lo,goj sa.rx evge,neto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28954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m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590040"/>
            <a:ext cx="8001000" cy="32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uvk e;stin maqhth.j u`pe.r to.n dida,skalon ouvde. dou/loj u`pe.r to.n ku,rion auvtou/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isciple is not above his teacher, nor a slave above his master (Matthew10:2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ccecff"/>
                </a:solidFill>
                <a:latin typeface="Bwgrkl"/>
              </a:rPr>
              <a:t>ca,riti de. qeou/ eivmi o[ eivm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3429000"/>
            <a:ext cx="4495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t by the Grace of God I am what I am” (1 Cor 15:10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kai. ei=pen o` VIhsou/j\ tou/to, mou, evstin to. sw/ma to. u`pe.r u`mw/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3962520"/>
            <a:ext cx="4419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Jesus said, ‘This is my body that is for you’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Kai. euvqu.j h=n evn th/| sunagwgh/| auvtw/n a;nqrwpoj evn pneu,mati avkaqa,rtw|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mmediately there was in their synagogue a man with an unclean spirit (Mark 1:2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88920" y="3201840"/>
            <a:ext cx="179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nclea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Le,gei auvtoi/j o` VIhsou/j( Eiv te,kna tou/ VAbraa.m h=te( ta. e;rga tou/ VAbraa.m evpoiei/te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32767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wer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48150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would do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95480" y="58672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John 8:39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uvtw/| h` do,xa kai. nu/n kai. eivj h`me,ran aivw/n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2952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i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lory, both now and to the day of eter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2 Peter 3:1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2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kai. Mwu?sh/j me.n pisto.j evn tw/| oi;kw| auvtou/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oses indeed was faithful in His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i,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3048120"/>
            <a:ext cx="3124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?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?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?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i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3886200"/>
            <a:ext cx="3124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on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thing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on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uvqu,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ediatel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2133720"/>
            <a:ext cx="632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Petroj hvn evn th/| Galilai,a|\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76520" y="2209680"/>
            <a:ext cx="632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h` fwnh, evk tou/ ouvranou/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90720" y="1600200"/>
            <a:ext cx="7010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Bwgrkl"/>
              </a:rPr>
              <a:t>o` logoj avpo. qeou/ patro.j h`mw/n kai. kuri,ou VIhsou/ Cristou/Å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0"/>
            <a:ext cx="8001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h` avsqe,neia ouvk e;stin pro.j qa,naton avllV u`pe.r th/j do,xhj tou/ qeou/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42280" y="1752480"/>
            <a:ext cx="20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cknes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56280" y="5948280"/>
            <a:ext cx="254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ohn 11: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09680" y="1371600"/>
            <a:ext cx="457200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su ei= ton dou/lon kuri,ou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981080" y="1676520"/>
            <a:ext cx="5181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n th/| evsca,th| h`me,ra|Å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95280" y="0"/>
            <a:ext cx="6553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n auvtw/| zwh. h=n( kai. h` zwh. h=n to. fw/j tw/n avnqrw,pw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31880" y="4343400"/>
            <a:ext cx="226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ohn 1: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09680" y="762120"/>
            <a:ext cx="4724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n th/| kardi,a| Paulou/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220968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;stin ga.r sa,bbata tw/| kuri,w|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048120" y="175248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do,xa qew/|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[w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i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far as (with the Geniti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k ton oivko,n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n tw/| euvaggeli,w|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…</a:t>
            </a: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ivj th.n aivw,nion basilei,an tou/ kuri,ou h`mw/n kai. swth/roj VIhsou/ Cristou/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4419720"/>
            <a:ext cx="6858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o the eternal kingdom of our Lord and Saviour Jesus Christ (2 Peter 2:1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imo,qeon evsti,n mou te,knon avgaphto.n kai. pisto.n evn kuri,w|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avgaphtoi,( nu/n te,kna qeou/ evsme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a. te,kna tou/ qeou/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` ui`o.j tou/ avnqrw,pou evn th/| do,xh| auvtou/ kai. pa,ntej oi` a;ggeloi metV auvtou/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43920" y="4419720"/>
            <a:ext cx="34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Matthew 25:3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Kai. ivdou. avnh.r ovno,mati VIwsh.f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,</a:t>
            </a: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 avnh.r avgaqo.j kai. di,kaio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h` ga.r sa.rx evpiqumei/ kata. tou/ pneu,matoj( to. de. pneu/ma kata. th/j sarko,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27160" y="1690560"/>
            <a:ext cx="14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st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0760" y="5562720"/>
            <a:ext cx="312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latians 5: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i` a[gioi tou/ qeou/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maqhth,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53352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vdikaiw,qhte evn tw/| ovno,mati tou/ kuri,ou VIhsou/ Cristou/ kai. evn tw/| pneu,mati tou/ qeou/ h`mw/n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120" y="1039680"/>
            <a:ext cx="357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were justifie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99800" y="6019920"/>
            <a:ext cx="350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1 Corinthians 6: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kataba.j de. Pe,troj pro.j tou.j a;ndraj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2697120"/>
            <a:ext cx="32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nt down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o. musth,rion tou/to me,ga evsti,n\ evgw. de. le,gw eivj cristo,n kai. eivj th.n evkklhsi,a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au/loj avpo,stoloj VIhsou/ cristou/ katV evpitagh.n qeou/ swth/roj h`mw/n( kai. kurio,u VIhsou/ cristou/ th/j evlpi,doj h`mw/n…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8600" y="237636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an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imoqe,w| gnhsi,w| te,knw| evn pi,stei( ca,rij e;leoj eivrh,nh avpo. qeou/ patro.j kai. Cristou/ VIhsou/ tou/ kuri,ou h`mw/n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2160" y="169056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itimat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05920" y="312408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c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55240" y="312408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c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ou/to ga.r qe,lhma qeou/ evn Cristw/| VIhsou/ eivj u`ma/j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is is God's will for you in Christ Jesu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Thessalonians 5:1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32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va.n ei;ph| o` pou,j\ o[ti ouvk eivmi. cei,r( ouvk eivmi. evk tou/ sw,matoj( ouv para. tou/to ouvk e;stin evk tou/ sw,mato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294920" y="48006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the foot should say, "Because I am not a hand, I am not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 par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the body," it is not for this reason any the les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 par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the body. (1 Corinthians 12:1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12560" y="2057400"/>
            <a:ext cx="14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n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me,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one han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mhdei,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n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11-25T04:49:42Z</dcterms:modified>
  <cp:revision>159</cp:revision>
  <dc:subject/>
  <dc:title>Slide 1</dc:title>
</cp:coreProperties>
</file>