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Bwgrkl"/>
              </a:rPr>
              <a:t>Auvtoj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ivdou. avnh.r ovno,mati VIwsh.f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 avnh.r avgaqo.j kai. di,kai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vw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, etern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vw,n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da,skal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uvqu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[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far as (with the Geni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aqhth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e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one ha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i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Pronoun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nou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s a noun, a personal pronoun replaces a personal no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pronoun infl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, Him, His / She, Her, 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, Ya’ll (Thou, thee, y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reek, Pronouns have a gender, a pronoun can be either masculine, feminine or ne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noun endings look like the 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mi,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o,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e, on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p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, that, in order th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s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great as, as many 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=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then, according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vfqalm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, s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a,li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u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d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gw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76320"/>
            <a:ext cx="380988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76320"/>
            <a:ext cx="320040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609480"/>
            <a:ext cx="144756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609480"/>
            <a:ext cx="14479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s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90520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95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m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evme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895480"/>
            <a:ext cx="144756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me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3733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3733920"/>
            <a:ext cx="144756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3733920"/>
            <a:ext cx="14479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`me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449568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m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4486320"/>
            <a:ext cx="144756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895480"/>
            <a:ext cx="14479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486320"/>
            <a:ext cx="14479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`m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13716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136224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mou/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mou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362240"/>
            <a:ext cx="144756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1362240"/>
            <a:ext cx="14479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s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21337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1337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mo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 evmo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133720"/>
            <a:ext cx="144756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2133720"/>
            <a:ext cx="14479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s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mi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52578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257800"/>
            <a:ext cx="144756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5257800"/>
            <a:ext cx="14479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`mi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6019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`ma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6010200"/>
            <a:ext cx="144756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6010200"/>
            <a:ext cx="14479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u`ma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609480"/>
            <a:ext cx="175248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895480"/>
            <a:ext cx="175248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3733920"/>
            <a:ext cx="175248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’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4486320"/>
            <a:ext cx="175248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1362240"/>
            <a:ext cx="175248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2133720"/>
            <a:ext cx="1752480" cy="7664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8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5257800"/>
            <a:ext cx="175248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ya’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010200"/>
            <a:ext cx="1752480" cy="7761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601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’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u`pe,r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Genitive:  “In behalf o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ccusative:  “Abo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880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90520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449568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13716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u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21337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21337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019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u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h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F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h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h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1337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h/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09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76320"/>
            <a:ext cx="23619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M.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895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7339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4863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136224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u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1337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52578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60102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219320"/>
          <a:ext cx="8229600" cy="5181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 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h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 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hj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 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w|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h|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w|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hn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 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a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 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i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ai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i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ou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a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dings with Nouns in Pl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95280"/>
          <a:ext cx="8229600" cy="4662720"/>
        </p:xfrm>
        <a:graphic>
          <a:graphicData uri="http://schemas.openxmlformats.org/drawingml/2006/table">
            <a:tbl>
              <a:tblPr/>
              <a:tblGrid>
                <a:gridCol w="2057400"/>
                <a:gridCol w="1219320"/>
                <a:gridCol w="358128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M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F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Ne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 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lo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graf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h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er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 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lo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graf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hj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er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u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 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lo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w|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graf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h|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er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w|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lo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graf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hn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er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 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lo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graf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ai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w[r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a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er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 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lo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graf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wn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w[r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er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w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lo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i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graf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aij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w[r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ai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er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i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lo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ou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graf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aj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w[r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a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wgrkl"/>
                        </a:rPr>
                        <a:t>erg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Bwgrk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2880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290520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3733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449568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13716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u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1337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21337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52578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6019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u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h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F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h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h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21337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h/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,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609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76320"/>
            <a:ext cx="23619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2895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7339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44863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/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136224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u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21337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w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52578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oi/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60102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vta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te the slight Dif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er Nominative Singular (along with Accusa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wgrk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u;to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ways has a smooth brea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es of 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u;t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Pronoun-by far the most common, a simple he, sh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al Intensive - in this case the word usually modifies another word and is found without the article word (usually in the nomina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1-01T20:00:43Z</dcterms:modified>
  <cp:revision>134</cp:revision>
  <dc:subject/>
  <dc:title>Slide 1</dc:title>
</cp:coreProperties>
</file>