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REVIEW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90920" y="2438280"/>
            <a:ext cx="3581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/ e;r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14600" y="2895480"/>
            <a:ext cx="37051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e;r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6880" y="2666880"/>
            <a:ext cx="37054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i/j e;rgo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14600" y="2895480"/>
            <a:ext cx="40165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aij grafa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38280" y="281952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95480" y="2895480"/>
            <a:ext cx="37864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graf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89548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i/j logo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66880" y="2819520"/>
            <a:ext cx="36720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ai` grafa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90920" y="274320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lo,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38280" y="274320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|/ logw|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819520" y="259092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o` logo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362320" y="259092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/u lo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90920" y="2743200"/>
            <a:ext cx="37051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e;r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neu/ma zwh/j evk tou/ qeou/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3962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spirit of life from God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ivj ta.j kardi,aj auvtw/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su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0"/>
            <a:ext cx="8458200" cy="81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kai. ei=pen auvtoi/j o` VIhsou/j\ oi` ui`oi. tou/ aivw/noj tou,tou gamou/sin kai. gami,skonta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98040" y="4495680"/>
            <a:ext cx="62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y and are given in marriag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2080" y="5638680"/>
            <a:ext cx="30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uke 20:3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mh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u-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28600"/>
            <a:ext cx="8458200" cy="74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nu/n kri,sij evsti.n tou/ ko,smou tou,tou( nu/n o` a;rcwn tou/ ko,smou tou,tou evkblhqh,setai e;x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440" y="621648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John 12:3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63960" y="440856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be cast ou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19840" y="144792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dgmen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le,gei auvtw/| o` Pila/toj\ ti, evstin avlh,qeiaÈ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18:38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2666880"/>
            <a:ext cx="379404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h/j grafh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v mh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cept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mi,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nu/n o` avnticri,stoj evn tw/| ko,smw| evsti.n h;d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09896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the antichrist is already in the wor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ecff"/>
                </a:solidFill>
                <a:latin typeface="Bwgrkl"/>
              </a:rPr>
              <a:t>Parakalw/ de. u`ma/j( avdelfoi,( dia. tou/ ovno,matoj tou/ kuri,ou h`mw/n VIhsou/ Crist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4778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exhor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 Corinthians 1: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u`dei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3886200"/>
            <a:ext cx="3124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one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le,gei auvtw/| o` VIhsou/j\ evgw, eivmi h` o`do.j kai. h` avlh,qeia kai. h` zwh,\ ouvdei.j e;rcetai pro.j to.n pate,ra eiv mh. diV evmou/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0780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525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Com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eri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48769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352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 the Geni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eri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8769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3352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 the Accusa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ecff"/>
                </a:solidFill>
                <a:latin typeface="Bwgrkl"/>
              </a:rPr>
              <a:t>Kai. o` lo,goj sa.rx evge,net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28954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ecff"/>
                </a:solidFill>
                <a:latin typeface="Bwgrkl"/>
              </a:rPr>
              <a:t>ca,riti de. qeou/ eivmi o[ eivm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3429000"/>
            <a:ext cx="4495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t by the Grace of God I am what I am” (1 Cor 15:10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90920" y="281952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/u lo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ei=pen o` VIhsou/j\ tou/to, mou, evstin to. sw/ma to. u`pe.r u`mw/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3962520"/>
            <a:ext cx="4419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Jesus said, ‘This is my body that is for you’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Le,gei auvtoi/j o` VIhsou/j( Eiv te,kna tou/ VAbraa.m h=te( ta. e;rga tou/ VAbraa.m evpoiei/te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32767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wer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8150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would 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5867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John 8:39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3048120"/>
            <a:ext cx="3124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?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?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?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3886200"/>
            <a:ext cx="3124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thing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47920" y="213372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etroj hvn evn th/| Galilai,a|\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76520" y="220968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fwnh, evk tou/ ouvranou/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90720" y="1600200"/>
            <a:ext cx="7010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Bwgrkl"/>
              </a:rPr>
              <a:t>o` logoj avpo. qeou/ patro.j h`mw/n kai. kuri,ou VIhsou/ Cristou/Å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0"/>
            <a:ext cx="8001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avsqe,neia ouvk e;stin pro.j qa,naton avllV u`pe.r th/j do,xhj tou/ qeou/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2280" y="1752480"/>
            <a:ext cx="20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cknes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56280" y="5948280"/>
            <a:ext cx="254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hn 11: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09680" y="1371600"/>
            <a:ext cx="457200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su ei= ton dou/lon kuri,ou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09680" y="609480"/>
            <a:ext cx="4343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uvk eivmi. evgw. o` cristo,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41148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3:2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19520" y="2514600"/>
            <a:ext cx="401292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/n lo,g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81080" y="167652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h/| evsca,th| h`me,ra|Å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95280" y="0"/>
            <a:ext cx="6553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auvtw/| zwh. h=n( kai. h` zwh. h=n to. fw/j tw/n avnqrw,pw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31880" y="4343400"/>
            <a:ext cx="22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hn 1: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09680" y="762120"/>
            <a:ext cx="4724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h/| kardi,a| Paulou/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22096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;stin ga.r sa,bbata tw/| kuri,w|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62120" y="0"/>
            <a:ext cx="7467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i=da, sou ta. e;rga kai. th.n avga,phn kai. th.n pi,st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91880" y="131616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4520" y="5632560"/>
            <a:ext cx="37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elation 2: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52480" y="228600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e;sca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8120" y="175248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do,xa qew/|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ivj ton oivko,n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w/| euvaggeli,w|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…</a:t>
            </a: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vj th.n aivw,nion basilei,an tou/ kuri,ou h`mw/n kai. swth/roj VIhsou/ Crist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4419720"/>
            <a:ext cx="6858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the eternal kingdom of our Lord and Saviour Jesus Christ (2 Peter 2:1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19520" y="2666880"/>
            <a:ext cx="3581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/ e;rg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mo,qeon evsti,n mou te,knon avgaphto.n kai. pisto.n evn kuri,w|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avgaphtoi,( nu/n te,kna qeou/ evsm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1066680"/>
            <a:ext cx="7619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kai. tw/n a`martiw/n auvtw/n ouv mh. mnhsqw/ e;ti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5360" y="266688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Remember furth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33600" y="205740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ebrews 8: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a. te,kna tou/ qe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` ui`o.j tou/ avnqrw,pou evn th/| do,xh| auvtou/ kai. pa,ntej oi` a;ggeloi metV auvt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43920" y="441972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Matthew 25:3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h` ga.r sa.rx evpiqumei/ kata. tou/ pneu,matoj( to. de. pneu/ma kata. th/j sarko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27160" y="1690560"/>
            <a:ext cx="14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st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760" y="5562720"/>
            <a:ext cx="31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latians 5: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` pisteu,wn eivj to.n ui`o.n e;cei zwh.n aivw,n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99960" y="213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ne believin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2880" y="373392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4572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hn 3:3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` a[gioj tou/ qe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90720" y="12193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kai. meta. h`me,raj trei/j evn tw/| oivkw/| hvn o` avpostoloj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53352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vdikaiw,qhte evn tw/| ovno,mati tou/ kuri,ou VIhsou/ Cristou/ kai. evn tw/| pneu,mati tou/ qeou/ h`mw/n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120" y="1039680"/>
            <a:ext cx="357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were justifi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9800" y="6019920"/>
            <a:ext cx="35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 Corinthians 6: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6880" y="251460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w|/ logw|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taba.j de. Pe,troj pro.j tou.j a;ndraj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697120"/>
            <a:ext cx="32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nt down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o. musth,rion tou/to me,ga evsti,n\ evgw. de. le,gw eivj cristo,n kai. eivj th.n evkklhsi,a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au/loj avpo,stoloj VIhsou/ cristou/ katV evpitagh.n qeou/ swth/roj h`mw/n( kai. kurio,u VIhsou/ cristou/ th/j evlpi,doj h`mw/n…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28600" y="237636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moqe,w| gnhsi,w| te,knw| evn pi,stei( ca,rij e;leoj eivrh,nh avpo. qeou/ patro.j kai. Cristou/ VIhsou/ tou/ kuri,ou h`mw/n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2160" y="169056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tim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05920" y="312408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5240" y="312408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c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ou/to ga.r qe,lhma qeou/ evn Cristw/| VIhsou/ eivj u`ma/j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is is God's will for you in Christ Jesu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Thessalonians 5: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14600" y="2743200"/>
            <a:ext cx="401328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u.j logou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90920" y="3048120"/>
            <a:ext cx="3884400" cy="82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toi/j logo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&amp; Numb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10-30T14:25:18Z</dcterms:modified>
  <cp:revision>151</cp:revision>
  <dc:subject/>
  <dc:title>Slide 1</dc:title>
</cp:coreProperties>
</file>