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Person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avdelfo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th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a;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Untranslateable Partic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a definite statement contin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avnh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, husba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vkklhsi,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, assemb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vlpi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vxw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side, withou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vpi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itive:  On, over, 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ive:  On the basis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sative:  On, to, again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h`mei/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qe,lh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or desi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ivde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! See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sonal Pronouns-Chapter 1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.1 Pronou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s a noun, a personal pronoun replaces a personal nou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.2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ouns can be either the first, second, or third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 how highly inflected English pronouns 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ivdou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! See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lo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mhth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u`de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, and no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ath,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isti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u[dw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u[dat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eni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u`mei/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’l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fw/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.3 Case, Number and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determined by function in sen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and Person determined by the antecede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2nd Person, it is difficult in English to distinguish between sg. and p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gender in the first and second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ca,ri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w-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28800" y="609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gw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76320"/>
            <a:ext cx="38098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76320"/>
            <a:ext cx="32004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609480"/>
            <a:ext cx="1447560" cy="766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8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609480"/>
            <a:ext cx="14479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s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290520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89548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m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 evme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2895480"/>
            <a:ext cx="1447560" cy="766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8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7339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`mei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3733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733920"/>
            <a:ext cx="1447560" cy="77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3733920"/>
            <a:ext cx="14479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u`mei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449568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4863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`mw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4486320"/>
            <a:ext cx="1447560" cy="77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2895480"/>
            <a:ext cx="14479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486320"/>
            <a:ext cx="14479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u`mw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13716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36224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mou/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mou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1362240"/>
            <a:ext cx="1447560" cy="766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8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1362240"/>
            <a:ext cx="14479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s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1337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213372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mo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 evmoi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2133720"/>
            <a:ext cx="1447560" cy="766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8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2133720"/>
            <a:ext cx="14479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so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2578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`mi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52578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5257800"/>
            <a:ext cx="1447560" cy="77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5257800"/>
            <a:ext cx="14479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u`mi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019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60102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`ma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6010200"/>
            <a:ext cx="1447560" cy="77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6010200"/>
            <a:ext cx="14479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u`ma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609480"/>
            <a:ext cx="1752480" cy="766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8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2920" y="2895480"/>
            <a:ext cx="1752480" cy="766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8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3733920"/>
            <a:ext cx="1752480" cy="77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’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4486320"/>
            <a:ext cx="1752480" cy="77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1362240"/>
            <a:ext cx="1752480" cy="766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8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2133720"/>
            <a:ext cx="1752480" cy="766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8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5257800"/>
            <a:ext cx="1752480" cy="77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ya’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6010200"/>
            <a:ext cx="1752480" cy="77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’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.7-Form- Notice the many similarities between each other and to words that you already kno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.8 Accents are used for emphasis which is difficult to bring into Eng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sing- list the case number and person for any 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on the 3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Declen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ms ending in a Tau or delta behave in the same way as words that we have already learned since both letters are den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y find the true stem of the word and add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clension meanings to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1.12-13 Consonantal Io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nother letter of the Greek alphabet that dropped out long before koine Greek, but that still cases some changes in the way that the word beha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simple recognition is your  goal 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1.15 Two Final Patter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final two patterns are exactly what you would expect, once you know the true 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 (and not for the last time) simple recognition is the key.  Work on being able to recognize the noun, not on being able to write it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 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10-22T18:59:51Z</dcterms:modified>
  <cp:revision>124</cp:revision>
  <dc:subject/>
  <dc:title>Slide 1</dc:title>
</cp:coreProperties>
</file>