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-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[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388620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, alrea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[no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a,rx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es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u,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w/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ekn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12408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i` grafai kai oi` log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905120"/>
            <a:ext cx="6095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 diV avnqrw,pou qa,natoj hv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609480"/>
            <a:ext cx="6095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avgge,loj evstin, u`po, th/j qala,sshj kai. u`po th/j gh/j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6094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vk eivmi. evgw. o` crist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14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3: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09680" y="1828800"/>
            <a:ext cx="49532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` avggeloi ou;k eivsin qeoi,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etr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0"/>
            <a:ext cx="7467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=da, sou ta. e;rga kai. th.n avga,phn kai. th.n pi,st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1880" y="13161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4520" y="563256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elation 2: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22096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ko,sm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ga,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,qeon evsti,n mou te,knon avgaphto.n kai. pisto.n evn kuri,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gaphtoi,( nu/n te,kna qeou/ evsm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10666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tw/n a`martiw/n auvtw/n ouv mh. mnhsqw/ e;t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5360" y="26668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member furt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33600" y="20574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brews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38080"/>
            <a:ext cx="7696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 mh. eivse,lqhte eivj th.n basilei,an tw/n ouvranw/n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all en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648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5: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990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ou/to, mou, evstin to. sw/ma to. u`pe.r u`mw/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Corinthians 11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175248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;ggeloi evn toi/j ouvranoi/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te,kna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219320"/>
            <a:ext cx="7543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VArch. tou/ euvaggeli,ou VIhsou/ cristou/( ui`ou/ tou/ qeou/\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9920" y="201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rk 1: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3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. gegennhme,non evk th/j sarko.j sa,rx evstin( kai. to. gegennhme,non evk tou/ pneu,matoj pneu/ma, evsti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9120" y="1600200"/>
            <a:ext cx="43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aving been bor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9120" y="4572000"/>
            <a:ext cx="43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aving been bor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ui`o.j tou/ avnqrw,pou evn th/| do,xh| auvtou/ kai. pa,ntej oi` a;ggeloi metV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920" y="441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25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 ga.r sa.rx evpiqumei/ kata. tou/ pneu,matoj( to. de. pneu/ma kata. th/j sark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7160" y="169056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760" y="55627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atians 5: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pisteu,wn eivj to.n ui`o.n e;cei zwh.n aivw,n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9960" y="213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e believ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2880" y="37339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hn 3: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a[gioj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meta. h`me,raj trei/j evn tw/| oivkw/| hvn o` avpostoloj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-to,j evstin o` avlhqino.j qeo.j kai. zwh. aivw,n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19112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true God and eternal 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 John 5: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dikaiw,qhte evn tw/| ovno,mati tou/ kuri,ou VIhsou/ Cristou/ kai. evn tw/| pneu,mati tou/ qeou/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0200" y="1523880"/>
            <a:ext cx="41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ere baptiz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16002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h` basilei,a tw/n ouvranw/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22T21:03:40Z</dcterms:modified>
  <cp:revision>138</cp:revision>
  <dc:subject/>
  <dc:title>Slide 1</dc:title>
</cp:coreProperties>
</file>