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0" y="1981080"/>
            <a:ext cx="4572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Third Declens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Vocabul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a/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eri,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48769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er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3352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th the Geni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eri,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48769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3352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th the Accusa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sa,rx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lesh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su,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th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sw/m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dy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ekn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ild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i,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3124080"/>
            <a:ext cx="3124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?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?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?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i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3886200"/>
            <a:ext cx="3124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thing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a[gio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ly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iv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iv mh,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cept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i-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mi,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h[dh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3886200"/>
            <a:ext cx="312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w, already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[nom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u`dei,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3886200"/>
            <a:ext cx="3124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 one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10-15T21:08:47Z</dcterms:modified>
  <cp:revision>142</cp:revision>
  <dc:subject/>
  <dc:title>Slide 1</dc:title>
</cp:coreProperties>
</file>