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8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REVIEW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hapter 1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90920" y="3048120"/>
            <a:ext cx="388440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i/j logoi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90920" y="2438280"/>
            <a:ext cx="35812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u/ e;rgo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514600" y="2895480"/>
            <a:ext cx="370512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w/n e;rgw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666880" y="2666880"/>
            <a:ext cx="37054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i/j e;rgoi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14600" y="2895480"/>
            <a:ext cx="401652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aij grafai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438280" y="2819520"/>
            <a:ext cx="40132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u.j logou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895480" y="2895480"/>
            <a:ext cx="37864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w/n grafw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90920" y="2895480"/>
            <a:ext cx="388440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i/j logoi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666880" y="2819520"/>
            <a:ext cx="367200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ai` grafa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90920" y="2743200"/>
            <a:ext cx="401292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w/n lo,gw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4398840" y="3746520"/>
            <a:ext cx="243864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ai` gra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2058840" y="3746520"/>
            <a:ext cx="234000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oi` logo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057400" y="4346640"/>
            <a:ext cx="241776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w/n lo,g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98840" y="4346640"/>
            <a:ext cx="251460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w/n graf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4921200"/>
            <a:ext cx="266688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aij grafai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1079640"/>
            <a:ext cx="241776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o` logo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546120"/>
            <a:ext cx="241776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scu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98840" y="546120"/>
            <a:ext cx="251964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emin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0" y="546120"/>
            <a:ext cx="220968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e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98840" y="1079640"/>
            <a:ext cx="243864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h` graf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0" y="1079640"/>
            <a:ext cx="220968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o, e;rg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440" y="1633680"/>
            <a:ext cx="2001960" cy="685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 S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8840" y="1689120"/>
            <a:ext cx="234000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o/u log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98840" y="1689120"/>
            <a:ext cx="251964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h/j grafh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440" y="3746520"/>
            <a:ext cx="2001960" cy="685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3746520"/>
            <a:ext cx="228600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a. e;rg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440" y="4335480"/>
            <a:ext cx="2001960" cy="609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0" y="1689120"/>
            <a:ext cx="220968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ou/ e;rg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4346640"/>
            <a:ext cx="228600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w/n e;rg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5080" y="1079280"/>
            <a:ext cx="2001960" cy="609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 S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2298600"/>
            <a:ext cx="241776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w|/ logw|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98840" y="2298600"/>
            <a:ext cx="243864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h/ grafh|/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2298600"/>
            <a:ext cx="220968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w|/ e;rgw|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440" y="2852640"/>
            <a:ext cx="2001960" cy="685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 S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8840" y="2908440"/>
            <a:ext cx="234000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o.n log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98840" y="2908440"/>
            <a:ext cx="251964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h.n grafh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0" y="2908440"/>
            <a:ext cx="220968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o, e;rg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440" y="2298600"/>
            <a:ext cx="2001960" cy="609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 S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58840" y="4921200"/>
            <a:ext cx="234000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oi/j logoi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440" y="4921200"/>
            <a:ext cx="2001960" cy="685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0" y="4921200"/>
            <a:ext cx="228600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oi/j e;rgoi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440" y="5530680"/>
            <a:ext cx="2001960" cy="609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5521320"/>
            <a:ext cx="2417760" cy="11912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ou.j logou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98840" y="5521320"/>
            <a:ext cx="243864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a.j grafa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5521320"/>
            <a:ext cx="2286000" cy="642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ta. e;rg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438280" y="2743200"/>
            <a:ext cx="40132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w|/ logw|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362320" y="2590920"/>
            <a:ext cx="388440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/u logo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590920" y="2743200"/>
            <a:ext cx="370512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w/n e;rgw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h` zw/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to.n qeo,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kardi,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su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ui`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ivp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uv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819520" y="2590920"/>
            <a:ext cx="401292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o` logo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05120" y="2819520"/>
            <a:ext cx="5333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to, euvagge,l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`  `Ihsou/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mh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u-t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w[st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2133720"/>
            <a:ext cx="632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Petroj hvn evn th/| Galilai,a|\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76520" y="2209680"/>
            <a:ext cx="632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h` fwnh, evk tou/ ouvranou/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90720" y="1600200"/>
            <a:ext cx="70102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Bwgrkl"/>
              </a:rPr>
              <a:t>o` logoj avpo. qeou/ patro.j h`mw/n kai. kuri,ou VIhsou/ Cristou/Å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676520" y="2209680"/>
            <a:ext cx="632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ai` grafai kai oi` logoi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71600" y="1905120"/>
            <a:ext cx="6095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w[ste diV avnqrw,pou qa,natoj hv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90920" y="2666880"/>
            <a:ext cx="379404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h/j grafh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0"/>
            <a:ext cx="8001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h` avsqe,neia ouvk e;stin pro.j qa,naton avllV u`pe.r th/j do,xhj tou/ qeou/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42280" y="1752480"/>
            <a:ext cx="207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cknes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56280" y="5948280"/>
            <a:ext cx="254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ohn 11: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371600" y="609480"/>
            <a:ext cx="60958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` avgge,loj evstin, u`po, th/j qala,sshj kai. u`po th/j gh/jÅ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209680" y="1371600"/>
            <a:ext cx="457200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su ei= ton dou/lon kuri,ou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09680" y="609480"/>
            <a:ext cx="4343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uvk eivmi. evgw. o` cristo,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41148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n 3:2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81080" y="1676520"/>
            <a:ext cx="5181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vn th/| evsca,th| h`me,ra|Å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95280" y="0"/>
            <a:ext cx="6553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vn auvtw/| zwh. h=n( kai. h` zwh. h=n to. fw/j tw/n avnqrw,pw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9720" y="388620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gh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31880" y="4343400"/>
            <a:ext cx="226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ohn 1: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209680" y="1828800"/>
            <a:ext cx="4953240" cy="24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i` avggeloi ou;k eivsin qeoi,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09680" y="762120"/>
            <a:ext cx="47246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vn th/| kardi,a| Petrou/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43000" y="2209680"/>
            <a:ext cx="647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;stin ga.r sa,bbata tw/| kuri,w|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62120" y="0"/>
            <a:ext cx="7467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i=da, sou ta. e;rga kai. th.n avga,phn kai. th.n pi,st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91880" y="131616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K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94520" y="5632560"/>
            <a:ext cx="37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velation 2: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90920" y="2819520"/>
            <a:ext cx="388440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/u logo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752480" y="2286000"/>
            <a:ext cx="609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` e;scat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676520" y="220968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` ko,sm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ga,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048120" y="175248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do,xa qew/|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ivj ton oivko,n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vn tw/| euvaggeli,w|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52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…</a:t>
            </a: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eivj th.n aivw,nion basilei,an tou/ kuri,ou h`mw/n kai. swth/roj VIhsou/ Cristou/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4419720"/>
            <a:ext cx="6858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o the eternal kingdom of our Lord and Saviour Jesus Christ (2 Peter 2:1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2120" y="1066680"/>
            <a:ext cx="7619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kai. tw/n a`martiw/n auvtw/n ouv mh. mnhsqw/ e;tiÅ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5360" y="266688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Remember furth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33600" y="2057400"/>
            <a:ext cx="29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Hebrews 8:1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838080"/>
            <a:ext cx="7696080" cy="62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…</a:t>
            </a: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ouv mh. eivse,lqhte eivj th.n basilei,an tw/n ouvranw/nÅ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22096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shall ent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46483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Matthew 5:2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62120" y="9907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tou/to, mou, evstin to. sw/ma to. u`pe.r u`mw/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15000" y="169056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d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2438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31240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 Corinthians 11:2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819520" y="2514600"/>
            <a:ext cx="401292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w/n lo,gw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1752480"/>
            <a:ext cx="70866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a;ggeloi evn toi/j ouvranoi/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1219320"/>
            <a:ext cx="7543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VArch. tou/ euvaggeli,ou VIhsou/ cristou/( ui`ou/ tou/ qeou/\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649920" y="20160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Mark 1: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o` pisteu,wn eivj to.n ui`o.n e;cei zwh.n aivw,n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99960" y="213372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ne believing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82880" y="373392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81280" y="45720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ohn 3:3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990720" y="1219320"/>
            <a:ext cx="7315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kai. meta. h`me,raj trei/j evn tw/| oivkw/| hvn o` avpostoloj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ou-to,j evstin o` avlhqino.j qeo.j kai. zwh. aivw,nio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8077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is the true God and eternal lif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1 John 5:20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66680" y="160020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h` basilei,a tw/n ouvranw/n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1904760"/>
            <a:ext cx="838188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o` Avbraam ei=pen to. o;noma kuri,ou qeo.j aivw,nio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30320" y="274320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19520" y="2666880"/>
            <a:ext cx="35812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u/ e;rgo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666880" y="2514600"/>
            <a:ext cx="40132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w|/ logw|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14600" y="2743200"/>
            <a:ext cx="40132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u.j logou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7-10-22T14:24:15Z</dcterms:modified>
  <cp:revision>132</cp:revision>
  <dc:subject/>
  <dc:title>Slide 1</dc:title>
</cp:coreProperties>
</file>