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1981080"/>
            <a:ext cx="4572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d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280" y="1752480"/>
            <a:ext cx="190512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 is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28195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qo,j a;nqrwp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780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jectives without the Arti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352680"/>
            <a:ext cx="28195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;nqrwpoj avgaqo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752480"/>
            <a:ext cx="198108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209680"/>
            <a:ext cx="838440" cy="6858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352680"/>
            <a:ext cx="190512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 is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352680"/>
            <a:ext cx="198108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3809880"/>
            <a:ext cx="838440" cy="6858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144792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vgaqo,j a;nqrwp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0200" y="13716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gaqo,j o` a;nqrwp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9320" y="236232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;nqrwpoj avgaqo,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;nqrwpoj o` avgaqo,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17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Vocabulary W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gaqo,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gapht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ov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vw,nio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tern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llh,l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e anot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jective: A word that modifies a noun or a pronou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 is a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ose on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learning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Ko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dou/l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la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pekriq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 / she/  it answe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a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mo/j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evm/h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evm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, mine (“of me”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tol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and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qw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en 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k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nekro,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isto,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ithful, believ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types of Ad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dff"/>
                </a:solidFill>
                <a:latin typeface="Arial"/>
              </a:rPr>
              <a:t>Attributive Adjectiv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Gives an attribute to the noun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study 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Koin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Gree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dff"/>
                </a:solidFill>
                <a:latin typeface="Arial"/>
              </a:rPr>
              <a:t>Substantival Adjectiv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The adjective itself gives substance to the noun and acts in the place of the noun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goo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the 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ba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and the 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ugly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are studying Gree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dff"/>
                </a:solidFill>
                <a:latin typeface="Arial"/>
              </a:rPr>
              <a:t>Predicate Adjectiv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Makes a statement about the subject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1" i="1" lang="en-US" sz="3200" spc="-1" strike="noStrike">
                <a:solidFill>
                  <a:srgbClr val="ccffff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onhr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rw/to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r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2860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ri,toj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gh,gertai th/| h`me,ra| th/| tri,th| kata. ta.j grafa.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2720" y="22860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r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62440" y="4556160"/>
            <a:ext cx="49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1 Corinthians 15: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;stin ga.r w[ra tri,th th/j h`me,ra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13360" y="411480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Acts 2:1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ccecff"/>
                </a:solidFill>
                <a:latin typeface="Bwgrkl"/>
              </a:rPr>
              <a:t>evgw. to. a;lfa kai. to. w=( o` prw/toj kai. o` e;scatoj( h` avrch. kai. to. te,lojÅ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hvn Mwu?sh/j pisto.j evn tw/| oi;kw| auv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o.j evstin o` ku,r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o.j o` lo,g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faithful say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Timothy 1:15; 3:1; 4: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imothy 2: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us 3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2280" y="2666520"/>
            <a:ext cx="2819520" cy="11430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od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1143000"/>
            <a:ext cx="281916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dff"/>
                </a:solidFill>
                <a:latin typeface="Arial"/>
              </a:rPr>
              <a:t>Substantival Ad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281952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dff"/>
                </a:solidFill>
                <a:latin typeface="Arial"/>
              </a:rPr>
              <a:t>Attributive Ad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1143000"/>
            <a:ext cx="281952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dff"/>
                </a:solidFill>
                <a:latin typeface="Arial"/>
              </a:rPr>
              <a:t>Predicate Ad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281916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` avgaqo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666880"/>
            <a:ext cx="2819160" cy="11430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od (m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2666880"/>
            <a:ext cx="2819520" cy="11430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 is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886200"/>
            <a:ext cx="281952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` avgaqo,j a;nqrwp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4120"/>
            <a:ext cx="281952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` a;nqrwpoj o` avgaqo,j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3886200"/>
            <a:ext cx="281952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` a;nqrwpoj avgaqo,j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334120"/>
            <a:ext cx="2819520" cy="13716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qo,j o` a;nqrwp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jectives with the Artic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adjectives always agrees with the noun or pronoun it modif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gaq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gaqai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gaqo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i` avgaqoi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0-09T01:05:45Z</dcterms:modified>
  <cp:revision>140</cp:revision>
  <dc:subject/>
  <dc:title>Slide 1</dc:title>
</cp:coreProperties>
</file>