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REVIEW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9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90920" y="304812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i/j logo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90920" y="2438280"/>
            <a:ext cx="3581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/ e;r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14600" y="2895480"/>
            <a:ext cx="37051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e;r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666880" y="2666880"/>
            <a:ext cx="37054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i/j e;rgo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14600" y="2895480"/>
            <a:ext cx="40165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aij grafa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438280" y="281952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.j logou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95480" y="2895480"/>
            <a:ext cx="37864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graf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90920" y="289548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i/j logo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666880" y="2819520"/>
            <a:ext cx="36720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ai` grafa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90920" y="2743200"/>
            <a:ext cx="40129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lo,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398840" y="3746520"/>
            <a:ext cx="243864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i` gra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058840" y="3746520"/>
            <a:ext cx="234000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oi` logo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057400" y="4346640"/>
            <a:ext cx="241776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w/n lo,g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98840" y="4346640"/>
            <a:ext cx="251460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w/n graf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4921200"/>
            <a:ext cx="266688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aij grafai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1079640"/>
            <a:ext cx="241776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o` logo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546120"/>
            <a:ext cx="241776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scu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98840" y="546120"/>
            <a:ext cx="251964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emin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0" y="546120"/>
            <a:ext cx="220968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98840" y="1079640"/>
            <a:ext cx="243864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h` graf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0" y="1079640"/>
            <a:ext cx="220968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, e;rg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440" y="1633680"/>
            <a:ext cx="2001960" cy="685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8840" y="1689120"/>
            <a:ext cx="234000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/u log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98840" y="1689120"/>
            <a:ext cx="251964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h/j grafh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440" y="3746520"/>
            <a:ext cx="2001960" cy="685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3746520"/>
            <a:ext cx="228600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a. e;r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440" y="4335480"/>
            <a:ext cx="2001960" cy="609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0" y="1689120"/>
            <a:ext cx="220968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u/ e;rg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346640"/>
            <a:ext cx="228600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w/n e;rg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5080" y="1079280"/>
            <a:ext cx="2001960" cy="609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2298600"/>
            <a:ext cx="241776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w|/ logw|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98840" y="2298600"/>
            <a:ext cx="243864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h/ grafh|/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2298600"/>
            <a:ext cx="220968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w|/ e;rgw|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440" y="2852640"/>
            <a:ext cx="2001960" cy="685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8840" y="2908440"/>
            <a:ext cx="234000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.n log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98840" y="2908440"/>
            <a:ext cx="251964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h.n grafh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2908440"/>
            <a:ext cx="220968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, e;rg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440" y="2298600"/>
            <a:ext cx="2001960" cy="609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8840" y="4921200"/>
            <a:ext cx="234000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i/j logoi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440" y="4921200"/>
            <a:ext cx="2001960" cy="685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4921200"/>
            <a:ext cx="228600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i/j e;rgoi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440" y="5530680"/>
            <a:ext cx="2001960" cy="609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5521320"/>
            <a:ext cx="241776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u.j logou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98840" y="5521320"/>
            <a:ext cx="243864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a.j grafa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5521320"/>
            <a:ext cx="228600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a. e;r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438280" y="274320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|/ logw|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362320" y="259092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/u lo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90920" y="2743200"/>
            <a:ext cx="37051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e;r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h` zw/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ka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.n qeo,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kardi,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su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ui`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ivp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819520" y="2590920"/>
            <a:ext cx="40129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o` logo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uv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05120" y="2819520"/>
            <a:ext cx="5333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, euvagge,l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ui`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 `Ihsou/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mh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u-t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w[s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i` ui`o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1143000"/>
            <a:ext cx="792468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pt-BR" sz="6000" spc="-1" strike="noStrike">
                <a:solidFill>
                  <a:srgbClr val="ffffff"/>
                </a:solidFill>
                <a:latin typeface="Bwgrkl"/>
              </a:rPr>
              <a:t>evxousi,a| h=n o` lo,goj auvtou/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01560" y="3200400"/>
            <a:ext cx="24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uke 4:3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676520" y="220968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avggeloi evn toi/j ouvranoi/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90920" y="2666880"/>
            <a:ext cx="379404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h/j grafh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213372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Petroj hvn evn th/| Galilai,a|\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76520" y="220968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h` fwnh, evk tou/ ouvranou/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1600200"/>
            <a:ext cx="7010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Bwgrkl"/>
              </a:rPr>
              <a:t>o` logoj avpo. qeou/ patro.j h`mw/n kai. kuri,ou VIhsou/ Cristou/Å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76520" y="220968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i` grafai kai oi` logo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1905120"/>
            <a:ext cx="6095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w[ste diV avnqrw,pou qa,natoj hv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0"/>
            <a:ext cx="8001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h` avsqe,neia ouvk e;stin pro.j qa,naton avllV u`pe.r th/j do,xhj tou/ qeou/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42280" y="1752480"/>
            <a:ext cx="20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cknes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6280" y="5948280"/>
            <a:ext cx="254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hn 11: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19320" y="2819520"/>
            <a:ext cx="647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th/| h`me,ra|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609480"/>
            <a:ext cx="60958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avgge,loj evstin, u`po, th/j qala,sshj kai. u`po th/j gh/jÅ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09680" y="1371600"/>
            <a:ext cx="457200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su ei= ton dou/lon kuri,ou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09680" y="609480"/>
            <a:ext cx="4343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uvk eivmi. evgw. o` cristo,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1148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3:2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90920" y="281952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/u lo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981080" y="1676520"/>
            <a:ext cx="5181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th/| evsca,th| h`me,ra|Å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95280" y="0"/>
            <a:ext cx="6553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auvtw/| zwh. h=n( kai. h` zwh. h=n to. fw/j tw/n avnqrw,pw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9720" y="38862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31880" y="4343400"/>
            <a:ext cx="226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hn 1: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09680" y="1828800"/>
            <a:ext cx="495324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i` avggeloi ou;k eivsin qeoi,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09680" y="762120"/>
            <a:ext cx="4724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th/| kardi,a| Petrou/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3000" y="22096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;stin ga.r sa,bbata tw/| kuri,w|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0"/>
            <a:ext cx="7467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i=da, sou ta. e;rga kai. th.n avga,phn kai. th.n pi,st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1880" y="131616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94520" y="5632560"/>
            <a:ext cx="37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velation 2: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52480" y="2286000"/>
            <a:ext cx="60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e;scat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ko,sm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ga,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2209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i=pen o` avposteloj touj logou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895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He Sa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19520" y="2514600"/>
            <a:ext cx="40129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lo,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ivj ton oi`ko,n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tw/| euvaggeli,w|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2209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.n ko,smon avgapa/| o` qeo,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49040" y="304812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loves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2209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vgapa/| avpo,stoloj ton qe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0920" y="304812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loves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2120" y="1066680"/>
            <a:ext cx="7619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kai. tw/n a`martiw/n auvtw/n ouv mh. mnhsqw/ e;ti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45360" y="266688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Remember furth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33600" y="205740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Hebrews 8: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14400" y="838080"/>
            <a:ext cx="769608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…</a:t>
            </a: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ouv mh. eivse,lqhte eivj th.n basilei,an tw/n ouvranw/n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22096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shall ent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46483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atthew 5: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9907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tou/to, mou, evstin to. sw/ma to. u`pe.r u`mw/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169056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d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438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31240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 Corinthians 11:2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1143000"/>
            <a:ext cx="7696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VArch. tou/ euvaggeli,ou VIhsou/ Cristou/( ui`ou/ tou/ qeou/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97640" y="194616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Mark 1: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1752480"/>
            <a:ext cx="70866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a;ggeloi evn toi/j ouvranoi/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38080" y="914400"/>
            <a:ext cx="7467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:Wfqh de. auvtw/| a;ggeloj avpV ouvranou/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057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here was se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057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fro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2971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Luke 22:4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19520" y="2666880"/>
            <a:ext cx="3581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/ e;r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1219320"/>
            <a:ext cx="7543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VArch. tou/ euvaggeli,ou VIhsou/ cristou/( ui`ou/ tou/ qeou/\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49920" y="2016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Mark 1: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12193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kai. ga.r evgw. a;nqrwpo,j eivmi u`po. evxousi,a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un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00196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Luke 7: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048120" y="175248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do,xa qew/|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66680" y="16002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h` basilei,a tw/n ouvranw/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666880" y="251460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|/ logw|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14600" y="274320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.j logou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10-08T04:09:10Z</dcterms:modified>
  <cp:revision>121</cp:revision>
  <dc:subject/>
  <dc:title>Slide 1</dc:title>
</cp:coreProperties>
</file>