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1981080"/>
            <a:ext cx="4572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repositions &amp; </a:t>
            </a:r>
            <a:r>
              <a:rPr b="1" lang="en-US" sz="6000" spc="-1" strike="noStrike">
                <a:solidFill>
                  <a:srgbClr val="ccecff"/>
                </a:solidFill>
                <a:latin typeface="Bwgrkl"/>
              </a:rPr>
              <a:t>eivm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274320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ivm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19051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Qeon evsti, o` kurio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44792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ga.r evgw. a;nqrwpo,j eivmi u`po. evxousi,a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46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uke 7: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380880"/>
            <a:ext cx="7391160" cy="11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i=pen auvtoi/j o` VIhsou/j( VAmh.n avmh.n le,gw u`mi/n( pri.n VAbraa.m gene,sqai( evgw. eivmi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56960" y="14619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 sa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54440" y="28954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0280" y="426708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ef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00640" y="426708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ec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51055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8:5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19320" y="16002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295280"/>
            <a:ext cx="71629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-toi, eivsin ui`oi. qeou/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2286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omans 8:14 – Textus Recept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3962520"/>
            <a:ext cx="6934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-toi ui`oi. qeou/ eivs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4906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omans 8:14 – Older Manuscrip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457200"/>
            <a:ext cx="6858000" cy="63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Pa,ntej ga.r ui`oi. qeou/ evste dia. th/j pi,stewj evn Cristw/| VIhsou/\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7080" y="1600200"/>
            <a:ext cx="1564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Nomina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840" y="426708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Galati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4080" y="553068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:2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2952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u`mei/j evste oi` ui`oi. tw/n profhtw/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1240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cts 3:2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5606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m Plu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2280"/>
            <a:ext cx="7620120" cy="77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Naqanah,l kai. le,gei auvtw/|( ~Rabbi,( su. ei= o` ui`o.j tou/ qeou/( su. ei= o` basileu.j tou/ VIsrah,l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8720" y="44197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7640" y="13255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7680" y="5318280"/>
            <a:ext cx="27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1:49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1143000"/>
            <a:ext cx="723924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su. ei= o` cristo.j o` ui`o.j tou/ qeou/ tou/ zw/ntoj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962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tthew 16:1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19320" y="12952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` path,r mou evsti,n evn toi/j ouvranoi/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eposition: A word that indicates relationship between to wo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dwell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ll went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s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cam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wi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is dis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cam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avlla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, yet, exce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avpo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ia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40384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ative: 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usative:  On account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ivmi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 ev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h`me,r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hv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/she/it w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qalass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qanato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pos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aning of a preposition depends upon the case of its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ositions are not inflected – they always look the sam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i[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order t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`Iwa,nnh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le,g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meta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0384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itive: W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usative:  Af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ivki,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i=ko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;clo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tu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para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03848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: 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:  Beside, in the presence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us:  Alongside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parabolh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Pro,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ard, w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080" y="205092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ivm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289404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371808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sti,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050920"/>
            <a:ext cx="2743200" cy="173988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sme,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289404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ste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371808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ivsi,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050560"/>
            <a:ext cx="281916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Per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727440"/>
            <a:ext cx="2819160" cy="92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Per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89360"/>
            <a:ext cx="281916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Per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112760"/>
            <a:ext cx="2743200" cy="916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17000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ingul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112760"/>
            <a:ext cx="2743200" cy="916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170007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u`po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40384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:  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us:  U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14600" y="2438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h=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038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274320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ste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8120" y="281952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sti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95480" y="290052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2666880"/>
            <a:ext cx="2743200" cy="91692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ivsi,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8120" y="2895480"/>
            <a:ext cx="2743200" cy="1739880"/>
          </a:xfrm>
          <a:prstGeom prst="rect">
            <a:avLst/>
          </a:prstGeom>
          <a:gradFill rotWithShape="0">
            <a:gsLst>
              <a:gs pos="0">
                <a:srgbClr val="0000c4"/>
              </a:gs>
              <a:gs pos="50000">
                <a:srgbClr val="000029"/>
              </a:gs>
              <a:gs pos="100000">
                <a:srgbClr val="0000c4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sme,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09-29T21:55:09Z</dcterms:modified>
  <cp:revision>127</cp:revision>
  <dc:subject/>
  <dc:title>Slide 1</dc:title>
</cp:coreProperties>
</file>