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REVIEW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vmh,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n dou/l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g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;sca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zw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i</a:t>
            </a: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` 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Qeo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ardi,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. sa,bbat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a. e;rg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52480" y="228600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e;sca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logo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ko,sm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zw/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a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.n qeo,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ardi,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ga,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=pen o` avposteloj touj logou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895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He Sa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vj ton oi`ko,n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xousi,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u,ri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a.j grafa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ui`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vp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uv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05120" y="2819520"/>
            <a:ext cx="5333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, euvagge,l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ui`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 `Ihsou/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ku,ri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mh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, e;rg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u-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w[s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i` ui`o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.n ko,smon avgapa/| o` qeo,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9040" y="304812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love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vgapa/| avpo,stoloj ton qe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0920" y="304812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love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1066680"/>
            <a:ext cx="761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kai. tw/n a`martiw/n auvtw/n ouv mh. mnhsqw/ e;ti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5360" y="266688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Remember furth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33600" y="205740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ebrews 8: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838080"/>
            <a:ext cx="7696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…</a:t>
            </a: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ouv mh. eivse,lqhte eivj th.n basilei,an tw/n ouvranw/n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22096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shall ent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46483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atthew 5: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9907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tou/to, mou, evstin to. sw/ma to. u`pe.r u`mw/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169056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d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438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31240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 Corinthians 11:2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1143000"/>
            <a:ext cx="7696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VArch. tou/ euvaggeli,ou VIhsou/ Cristou/( ui`ou/ tou/ qeou/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97640" y="194616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Mark 1: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1752480"/>
            <a:ext cx="7086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a;ggeloi evn toi/j ouvranoi/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914400"/>
            <a:ext cx="746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:Wfqh de. auvtw/| a;ggeloj avpV ouvranou/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057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here was se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2057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fro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971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Luke 22:4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219320"/>
            <a:ext cx="7543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VArch. tou/ euvaggeli,ou VIhsou/ cristou/( ui`ou/ tou/ qeou/\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49920" y="2016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Mark 1: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12193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kai. ga.r evgw. a;nqrwpo,j eivmi u`po. evxousi,a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un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200196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Luke 7: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8120" y="175248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do,xa qew/|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398840" y="3746520"/>
            <a:ext cx="243864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i` gra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8840" y="3746520"/>
            <a:ext cx="2340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oi` logo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4346640"/>
            <a:ext cx="241776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98840" y="4346640"/>
            <a:ext cx="25146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/n graf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4921200"/>
            <a:ext cx="266688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ij grafai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1079640"/>
            <a:ext cx="241776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o` logo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546120"/>
            <a:ext cx="241776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u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98840" y="546120"/>
            <a:ext cx="251964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i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54612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98840" y="1079640"/>
            <a:ext cx="243864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` graf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107964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, e;rg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440" y="1633680"/>
            <a:ext cx="200196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8840" y="1689120"/>
            <a:ext cx="2340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98840" y="1689120"/>
            <a:ext cx="251964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h/j grafh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440" y="3746520"/>
            <a:ext cx="200196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3746520"/>
            <a:ext cx="2286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. e;r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440" y="4335480"/>
            <a:ext cx="2001960" cy="60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168912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u/ e;rg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4346640"/>
            <a:ext cx="2286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/n e;rg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5080" y="1079280"/>
            <a:ext cx="2001960" cy="60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2298600"/>
            <a:ext cx="241776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98840" y="2298600"/>
            <a:ext cx="243864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h/ grafh|/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29860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|/ e;rgw|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440" y="2852640"/>
            <a:ext cx="200196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8840" y="2908440"/>
            <a:ext cx="2340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.n log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98840" y="2908440"/>
            <a:ext cx="251964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h.n grafh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290844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, e;rg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440" y="2298600"/>
            <a:ext cx="2001960" cy="609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8840" y="4921200"/>
            <a:ext cx="2340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440" y="4921200"/>
            <a:ext cx="200196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4921200"/>
            <a:ext cx="2286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i/j e;rgoi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440" y="5530680"/>
            <a:ext cx="2001960" cy="609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5521320"/>
            <a:ext cx="241776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98840" y="5521320"/>
            <a:ext cx="243864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.j grafa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5521320"/>
            <a:ext cx="2286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. e;r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19520" y="259092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o` logo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90920" y="2666880"/>
            <a:ext cx="379404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h/j grafh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90920" y="28195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19520" y="251460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90920" y="30481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76520" y="220968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i` grafai kai oi` logo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90920" y="2438280"/>
            <a:ext cx="3581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/ e;r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14600" y="2895480"/>
            <a:ext cx="37051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e;r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666880" y="2666880"/>
            <a:ext cx="37054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e;r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14600" y="2895480"/>
            <a:ext cx="40165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aij grafa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38280" y="281952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95480" y="2895480"/>
            <a:ext cx="37864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graf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90920" y="289548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66880" y="2819520"/>
            <a:ext cx="36720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ai` grafa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90920" y="274320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38280" y="27432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;ggel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62320" y="25909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590920" y="2743200"/>
            <a:ext cx="37051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e;r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819520" y="2666880"/>
            <a:ext cx="3581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/ e;r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666880" y="25146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14600" y="27432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66680" y="16002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h` basilei,a tw/n ouvranw/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a;nqrwp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i` avpo,stolo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9-28T18:28:21Z</dcterms:modified>
  <cp:revision>114</cp:revision>
  <dc:subject/>
  <dc:title>Slide 1</dc:title>
</cp:coreProperties>
</file>