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Genative and D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320040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3276720"/>
            <a:ext cx="3786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64832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5720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45720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182880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 grafh|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82880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4876920"/>
            <a:ext cx="36716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8600" y="914400"/>
            <a:ext cx="23623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150336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259092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150336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914400"/>
            <a:ext cx="2514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59704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50984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rother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sees the 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914400"/>
            <a:ext cx="3657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9092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brother sees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366408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236232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0336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50336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914400"/>
            <a:ext cx="2514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597040"/>
            <a:ext cx="2514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50984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brother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sees the 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914400"/>
            <a:ext cx="36576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59092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brother sees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657600"/>
            <a:ext cx="2362320" cy="106884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657600"/>
            <a:ext cx="3657600" cy="10688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brother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f the 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730760"/>
            <a:ext cx="2514600" cy="1556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24280"/>
            <a:ext cx="2362320" cy="155628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724280"/>
            <a:ext cx="3657600" cy="1556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he brother comes 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o the apo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38080" y="457200"/>
            <a:ext cx="7391520" cy="84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` de. dou/loj ouv me,nei evn th/| oivki,a| eivj to.n aivw/na( o` ui`o.j me,nei eivj to.n aivw/na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10640" y="152388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[remains not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7600" y="43434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[remain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6200" y="51624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8:3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0880" y="1143000"/>
            <a:ext cx="769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97640" y="194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6680" y="16002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basilei,a tw/n ouvranw/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838080"/>
            <a:ext cx="7086600" cy="70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ouvrano.j kai. h` gh/ pareleu,sontai( oi` de. lo,goi mou ouv mh. pareleu,sontai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94920" y="312408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[shall pass away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38120" y="449568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[shall pass away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94680" y="531180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21:3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9907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u,rioj ga,r evstin tou/ sabba,tou o` ui`o.j tou/ avnqrw,pou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on of Man is Lord of the Sabbath (Matthew 12: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ga.r evgw. a;nqrwpo,j eivmi u`po. evxousi,a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001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7: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1219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\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9920" y="201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1371600"/>
            <a:ext cx="80769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u`mei/j e;cete ku,rion evn ouvranw/|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98108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ha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8480" y="243828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olossians 4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0" y="160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E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06668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06668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06668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16002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0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23623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3526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3526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00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32004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32004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200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9625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952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9528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3526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952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91440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:Wfqh de. auvtw/| a;ggeloj avpV ouvranou/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057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ere was se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05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r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2971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22:4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175248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;ggeloi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12952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doxa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1066680"/>
            <a:ext cx="7696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w[ste ku,rio,j evstin o` ui`o.j tou/ avnqrw,pou kai. tou/ sabba,tou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711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2:2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609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763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7632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763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6094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09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90520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895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8954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7339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37339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73392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7339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44956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486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48632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2895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4486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3716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362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13622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362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21430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1337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13372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1337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257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2578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52578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5257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60199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601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60102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01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0" y="57456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320" y="5742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1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140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4140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57456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7456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13366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327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32732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7339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37339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73392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37339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49568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4486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4486320"/>
            <a:ext cx="221004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1327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448632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257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52578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52578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a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257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a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60199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601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60102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6010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098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w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209880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0988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2098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w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286056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851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o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8512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graf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8512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r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0" y="609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763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76320"/>
            <a:ext cx="22860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763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60948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60948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3716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1362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13622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h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7688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376884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37688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`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37688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45306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521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52124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362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/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52124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057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0574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20574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h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2057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2819520"/>
            <a:ext cx="22096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09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8098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h,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8098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216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521640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521640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521640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5978520"/>
            <a:ext cx="22096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596916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969160"/>
            <a:ext cx="221004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5969160"/>
            <a:ext cx="220968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398840" y="37465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8840" y="374652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434664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98840" y="4346640"/>
            <a:ext cx="25146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921200"/>
            <a:ext cx="26668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079640"/>
            <a:ext cx="241776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546120"/>
            <a:ext cx="24177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98840" y="546120"/>
            <a:ext cx="2519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5461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98840" y="107964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10796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440" y="163368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8840" y="168912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98840" y="1689120"/>
            <a:ext cx="2519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440" y="374652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37465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40" y="43354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68912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434664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55080" y="10792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29860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98840" y="2298600"/>
            <a:ext cx="2438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 grafh|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229860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e;r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440" y="285264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8840" y="290844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98840" y="2908440"/>
            <a:ext cx="2519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29084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440" y="229860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8840" y="492120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440" y="492120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92120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440" y="553068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552132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98840" y="55213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55213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4080" y="365760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160" y="20574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0574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8380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5053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4952880"/>
            <a:ext cx="388476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" y="4952880"/>
            <a:ext cx="388476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6858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24T21:34:30Z</dcterms:modified>
  <cp:revision>113</cp:revision>
  <dc:subject/>
  <dc:title>Slide 1</dc:title>
</cp:coreProperties>
</file>